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7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C9E6-7F94-496E-848C-61EFDF9FF1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2B13-A3D0-41B8-BB6E-E3B4B4A93A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DC20-7AB8-490E-A2C4-260B91FD0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F849-492D-4A6B-8061-B56469DF83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32A7-C824-4F33-9749-B21E7F9396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A56F-7EBB-411A-AE3C-9ECED57C7A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9AB3-2D78-4A4C-852A-5D7A496CDA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5CE4-C86C-43A2-80DF-C917F7D5E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F4D4-0BD8-4A47-8F5B-0C96D84B05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BB69-C514-466B-93CA-A89451E7DF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1A47-7401-48BE-B555-1625829326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CE95-0638-4C67-9E64-1C898004EA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D31F-BFB9-4EF1-814E-DA4ED4AFDB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2797-0307-4D1C-A4CC-4E6FC88285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012B-4609-4CBA-88B8-7CA1AC757B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5B087-86FD-4E7F-AC38-3B8411E2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7F75-0026-4D76-A159-BA153D21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4AE7-8903-41D3-9618-73CDB36D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22CDE-BC56-4822-91B9-2F576601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C041-1E14-4353-A3E0-C09BEA78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5148-2167-4796-BC73-AF3BD2EE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789F-0010-47AF-BE8D-68B3A2C0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429D-9C42-4A21-8E77-6828A6F9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51A8-6490-4F47-A0FF-5AD251D8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FF48-728A-4018-8D84-5B4C9432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A045-5E03-4810-A299-091EDA8B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0A965-C14F-4672-8ADA-37A241F7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5560-1161-4526-B569-101A700E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363C-D820-454C-8A79-18774F3B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9D2A-DDCF-469B-8D8D-8A8B1377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E93B-5AF3-4D20-A664-71F22987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40F4-6E4B-4457-922D-576E6AC0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6F598-A4DF-400C-B3E7-606A488E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86B80-474D-4D38-9FD6-CF9FCC35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C5DCB-9338-47A9-BFB2-76877FA6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D8A0-8C3A-4FEC-959C-81D57299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BA19D-A879-42B8-8B81-092F9655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84215-BDFE-4744-9887-0A0DF5D5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9E78-9097-479F-94B3-51CC3A25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E124-664C-44B6-BB0B-1346E0B83E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2D06-3C2B-4302-90BC-8814E53911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A5FB-D2AE-4517-A733-A4DD00DA77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2640" y="177336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сновы конструирования компилят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п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95640" y="26028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BED3-1FFD-4163-880D-FA143193FA8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льная грамма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лфавит языка или множество терминальных (окончательных, незаменяемых) симво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нетерминальных (заменяемых) символов – вспомогательный алфавит, символы которого обозна-чают допустимые </a:t>
            </a:r>
            <a:r>
              <a:rPr b="0" i="1" lang="ru-RU" sz="2400" spc="-1" strike="noStrike">
                <a:solidFill>
                  <a:srgbClr val="1818ff"/>
                </a:solidFill>
                <a:latin typeface="Arial"/>
              </a:rPr>
              <a:t>поня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зы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ловарь грамма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множество порождающих правил – каждое правило состоит из пары строк (α, β), где α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– левая часть правила, β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– правая часть правила: α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β, где строка α должна содержать хотя бы один нетермин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чальный символ – аксиома грам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3706-1039-47B9-8206-9962054591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мматика записи десятичных чисел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470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0, 1, 2, 3, 4, 5, 6, 7, 8, 9, +, -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&lt;целое&gt;, &lt;целое без знака&gt;, &lt;цифра&gt;, &lt;знак&gt;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елое без знак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 без знак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&gt;&lt;целое без знак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3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5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6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8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&lt;целое&gt;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732720" y="2708280"/>
            <a:ext cx="2163600" cy="792000"/>
          </a:xfrm>
          <a:prstGeom prst="wedgeRoundRectCallout">
            <a:avLst>
              <a:gd name="adj1" fmla="val -51759"/>
              <a:gd name="adj2" fmla="val -9208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сторонняя рекур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A36E-7D39-42F9-B791-B79BF51C8D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 Бэкуса-Нау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БНФ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ные обо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8ff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1818ff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терминальный символ – конструк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– терминальный символ – символ алфави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ожно заменить н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::= &lt;знак&gt;&lt;целое без знака&gt;|&lt;целое без знака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::= &lt;цифра&gt;&lt;целое без знака&gt;|&lt;цифра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 &gt; ::= 0|1|2|3|4|5|6|7|8|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::= +|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5AE1-6656-4E6D-8495-A4B1652C90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амматический разб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аммат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сопоставления линейной последовательности лексем (слов, токенов) языка с его формальной граммат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вод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последовательность подстано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ывод строки «-45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ифра&gt;&lt;целое без знака&gt;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ифра&gt;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- &lt;цифра&gt;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4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6622920" y="256536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5759280" y="343044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7486560" y="343044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622920" y="429408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8352000" y="4294080"/>
            <a:ext cx="79200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7486560" y="515772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6407280" y="31417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7270920" y="40068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8133840" y="487044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7342200" y="314172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8207280" y="400680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H="1">
            <a:off x="5543640" y="40068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 flipH="1">
            <a:off x="6407280" y="48704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 flipH="1">
            <a:off x="7270920" y="57340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5327640" y="429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612000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985440" y="602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7596360" y="1700280"/>
            <a:ext cx="1368360" cy="649080"/>
          </a:xfrm>
          <a:prstGeom prst="wedgeRoundRectCallout">
            <a:avLst>
              <a:gd name="adj1" fmla="val -57782"/>
              <a:gd name="adj2" fmla="val 9199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амматический разбор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355640" y="3500280"/>
            <a:ext cx="4537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ходящий – от символов или лексем языка к понятиям (понятиям более высокого порядка, аксиом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сходящий – от понятия (понятия более высокого порядка, аксиомы) к символам или лексемам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3EE2-6F85-4260-B18B-68EEEBCCB4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5580000" y="1413000"/>
            <a:ext cx="201636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м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4284720" y="2492280"/>
            <a:ext cx="2016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ход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6877080" y="2492280"/>
            <a:ext cx="2016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сход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4"/>
          <p:cNvSpPr/>
          <p:nvPr/>
        </p:nvSpPr>
        <p:spPr>
          <a:xfrm flipH="1">
            <a:off x="5292720" y="2060640"/>
            <a:ext cx="719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7236000" y="2060640"/>
            <a:ext cx="64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1476360" y="1125360"/>
            <a:ext cx="79200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612720" y="1990800"/>
            <a:ext cx="79236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2340000" y="1990800"/>
            <a:ext cx="79200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1476360" y="2854440"/>
            <a:ext cx="79200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3205080" y="2854440"/>
            <a:ext cx="79236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2340000" y="3718080"/>
            <a:ext cx="79200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H="1">
            <a:off x="1260360" y="17017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H="1">
            <a:off x="2124000" y="2567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2987640" y="34304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195640" y="170172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060720" y="256716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 flipH="1">
            <a:off x="396360" y="256716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1260360" y="34304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 flipH="1">
            <a:off x="2124000" y="42940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180720" y="2854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973440" y="371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1838520" y="458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9FFB-6DE0-4216-8729-8412FF384C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6160" y="209160"/>
            <a:ext cx="86374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Левосторонний нисходящий грамматический разб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обрать строку «-45» по правилам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&gt; ::= &lt;знак&gt;&lt;целое без знака&gt;|&lt;целое без знака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 без знака&gt; ::= &lt;цифра&gt;&lt;целое без знака&gt;|&lt;цифр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 &gt; ::= 0|1|2|3|4|5|6|7|8|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 ::= +| -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ьтернативные правила нумеруем буквами а, б, в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дея разб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ый символ правила – терминальный, т.е. символ алфавита, и он совпадает с первым символом  распознаваемой строки, то символ считается распознанным и удаляется из стека и строки. Если терминалы не совпадают, то ищем альтернативу ближайшему правилу и производим его зам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ый символ правила – нетерминал, то заменяем его на первое из правил, его определя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ак дале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6948360" y="2492280"/>
            <a:ext cx="1871640" cy="576360"/>
          </a:xfrm>
          <a:prstGeom prst="wedgeRoundRectCallout">
            <a:avLst>
              <a:gd name="adj1" fmla="val -120518"/>
              <a:gd name="adj2" fmla="val -11615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осторонняя рекур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3D39-9F51-485B-B9D5-F0644F3C5B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грамматического разб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-541440" y="907920"/>
          <a:ext cx="8428320" cy="634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1440" y="907920"/>
                    <a:ext cx="842832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Arc 137"/>
          <p:cNvSpPr/>
          <p:nvPr/>
        </p:nvSpPr>
        <p:spPr>
          <a:xfrm>
            <a:off x="6084720" y="4365720"/>
            <a:ext cx="648000" cy="358560"/>
          </a:xfrm>
          <a:custGeom>
            <a:avLst/>
            <a:gdLst/>
            <a:ahLst/>
            <a:rect l="l" t="t" r="r" b="b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rc 137"/>
          <p:cNvSpPr/>
          <p:nvPr/>
        </p:nvSpPr>
        <p:spPr>
          <a:xfrm>
            <a:off x="6012000" y="3357720"/>
            <a:ext cx="936360" cy="1871640"/>
          </a:xfrm>
          <a:custGeom>
            <a:avLst/>
            <a:gdLst>
              <a:gd name="textAreaLeft" fmla="*/ 0 w 936360"/>
              <a:gd name="textAreaRight" fmla="*/ 936720 w 936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rc 137"/>
          <p:cNvSpPr/>
          <p:nvPr/>
        </p:nvSpPr>
        <p:spPr>
          <a:xfrm>
            <a:off x="6084720" y="2637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137"/>
          <p:cNvSpPr/>
          <p:nvPr/>
        </p:nvSpPr>
        <p:spPr>
          <a:xfrm>
            <a:off x="6084720" y="3645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rc 137"/>
          <p:cNvSpPr/>
          <p:nvPr/>
        </p:nvSpPr>
        <p:spPr>
          <a:xfrm>
            <a:off x="6084720" y="5229360"/>
            <a:ext cx="358920" cy="288720"/>
          </a:xfrm>
          <a:custGeom>
            <a:avLst/>
            <a:gdLst>
              <a:gd name="textAreaLeft" fmla="*/ 0 w 358920"/>
              <a:gd name="textAreaRight" fmla="*/ 359280 w 358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137"/>
          <p:cNvSpPr/>
          <p:nvPr/>
        </p:nvSpPr>
        <p:spPr>
          <a:xfrm>
            <a:off x="6084720" y="5732640"/>
            <a:ext cx="358920" cy="576000"/>
          </a:xfrm>
          <a:custGeom>
            <a:avLst/>
            <a:gdLst>
              <a:gd name="textAreaLeft" fmla="*/ 0 w 358920"/>
              <a:gd name="textAreaRight" fmla="*/ 359280 w 3589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6659640" y="981000"/>
            <a:ext cx="2305080" cy="1152720"/>
          </a:xfrm>
          <a:prstGeom prst="wedgeRoundRectCallout">
            <a:avLst>
              <a:gd name="adj1" fmla="val -59624"/>
              <a:gd name="adj2" fmla="val 2389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ными стрелками показаны смены правил  на альтернат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7093080" y="2781360"/>
            <a:ext cx="2050920" cy="2448000"/>
          </a:xfrm>
          <a:prstGeom prst="wedgeRoundRectCallout">
            <a:avLst>
              <a:gd name="adj1" fmla="val -68060"/>
              <a:gd name="adj2" fmla="val 21379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ые стрелки показывают воз-враты, требую-щие сменить правило преды-дущих уровней, что требует сох-ранения истории разб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137"/>
          <p:cNvSpPr/>
          <p:nvPr/>
        </p:nvSpPr>
        <p:spPr>
          <a:xfrm>
            <a:off x="6084720" y="162864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137"/>
          <p:cNvSpPr/>
          <p:nvPr/>
        </p:nvSpPr>
        <p:spPr>
          <a:xfrm>
            <a:off x="6084720" y="4724280"/>
            <a:ext cx="358920" cy="289080"/>
          </a:xfrm>
          <a:custGeom>
            <a:avLst/>
            <a:gdLst>
              <a:gd name="textAreaLeft" fmla="*/ 0 w 358920"/>
              <a:gd name="textAreaRight" fmla="*/ 359280 w 3589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6659640" y="5445000"/>
            <a:ext cx="2305080" cy="1152720"/>
          </a:xfrm>
          <a:prstGeom prst="wedgeRoundRectCallout">
            <a:avLst>
              <a:gd name="adj1" fmla="val -49462"/>
              <a:gd name="adj2" fmla="val 1634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враты вызваны неправильным выбором альтернатив 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D144-4D53-4AE5-A538-7A9D288AF6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Левосторонний восходящий граммат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обрать строку «-45», используя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::= &lt;знак&gt;&lt;целое без знака&gt;|&lt;целое без знак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::= &lt;целое без знака&gt;&lt;цифра&gt;|&lt;цифр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::= +| -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дея мет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зборе строка просматривается слева направо и ищется часть, совпадающая с правой частью правила, – осн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818ff"/>
                </a:solidFill>
                <a:latin typeface="Arial"/>
              </a:rPr>
              <a:t>Основа</a:t>
            </a:r>
            <a:r>
              <a:rPr b="0" lang="ru-RU" sz="2000" spc="-1" strike="noStrike">
                <a:solidFill>
                  <a:srgbClr val="1818ff"/>
                </a:solidFill>
                <a:latin typeface="Arial"/>
              </a:rPr>
              <a:t> – последовательность символов, сворачиваемая на следующем шаге разб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ая основа заменяется левой частью соответствующего правил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выбора основ определена алгоритм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ерный выбор основы приводит к необходимости возв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6875640" y="2060640"/>
            <a:ext cx="1942920" cy="647640"/>
          </a:xfrm>
          <a:prstGeom prst="wedgeRoundRectCallout">
            <a:avLst>
              <a:gd name="adj1" fmla="val -149888"/>
              <a:gd name="adj2" fmla="val -7458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восторонняя рекур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DFE8-2428-46FF-9B34-EBFD093F1D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Левосторонний восходящий граммат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 получения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ентенциа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рм при разбор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ифра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елое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2268360" y="2421000"/>
            <a:ext cx="1440000" cy="360360"/>
          </a:xfrm>
          <a:prstGeom prst="wedgeRoundRectCallout">
            <a:avLst>
              <a:gd name="adj1" fmla="val -89023"/>
              <a:gd name="adj2" fmla="val 1347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2843280" y="3284640"/>
            <a:ext cx="1439640" cy="360360"/>
          </a:xfrm>
          <a:prstGeom prst="wedgeRoundRectCallout">
            <a:avLst>
              <a:gd name="adj1" fmla="val -80064"/>
              <a:gd name="adj2" fmla="val -2441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3276720" y="4149720"/>
            <a:ext cx="1439640" cy="360360"/>
          </a:xfrm>
          <a:prstGeom prst="wedgeRoundRectCallout">
            <a:avLst>
              <a:gd name="adj1" fmla="val -108722"/>
              <a:gd name="adj2" fmla="val 28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3635280" y="4869000"/>
            <a:ext cx="1440000" cy="360360"/>
          </a:xfrm>
          <a:prstGeom prst="wedgeRoundRectCallout">
            <a:avLst>
              <a:gd name="adj1" fmla="val -71833"/>
              <a:gd name="adj2" fmla="val -1822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5796000" y="4149720"/>
            <a:ext cx="2448000" cy="1008000"/>
          </a:xfrm>
          <a:prstGeom prst="wedgeRoundRectCallout">
            <a:avLst>
              <a:gd name="adj1" fmla="val -43722"/>
              <a:gd name="adj2" fmla="val 4593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враты возникают из-за неверного выбора осно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4427640" y="148428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елое&gt; ::= &lt;знак&gt;&lt;ЦБЗ&gt;|&lt; ЦБЗ 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БЗ&gt; ::= &lt;ЦБЗ&gt;&lt;цифра&gt;|&lt;цифра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знак&gt; ::= +|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D616-79C5-4B02-9600-C6C1CA2038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3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лассификация грамматик Хом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ки фразовой структуры или грамматики «без ограничений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– в таких грамматиках допустимо наличие любых правил вывода, что свойственно грамматикам естественных яз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текстно-зависимые (неукорачивающие)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, | α 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| β | – в этих грамматиках для правил вида α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α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возможность подстановки строк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место символ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ся присутствием подстрок α и β, т. е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тек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что также свойственно грамматикам естественных яз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текстно-свободные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β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– поскольку в левой части правила стоит нетерминал, подстановки не зависят от контек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регулярные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C85E-0359-43E1-A0BE-A257A48569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едение. Метод Рутисхауз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. Записать в полной скобочной фор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опоставить индек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Цикл-пока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’_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ли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= &l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перанд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то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-1]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иначе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предели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ндекс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строить трой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далить обработанные символы из выражения, результату сопоставить индекс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6962-88FD-4981-8469-99CC2C4E4C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2.4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познавание регулярных грамматик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2.4.1 Конечный авто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δ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ечное множество состоя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чное множество входных симво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δ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– функция переходов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екущее состояние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чередной симво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чальное состоя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– подмножество допускающих состоя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втомат «Чет-нечет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Чет, Нечет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0, 1}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δ(Чет, 0) = Чет, δ(Нечет, 0) = Неч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δ(Чет, 1) = Нечет, δ(Нечет, 1) = Ч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Ч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Чет}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724360" y="3860640"/>
          <a:ext cx="2880000" cy="1152720"/>
        </p:xfrm>
        <a:graphic>
          <a:graphicData uri="http://schemas.openxmlformats.org/drawingml/2006/table">
            <a:tbl>
              <a:tblPr/>
              <a:tblGrid>
                <a:gridCol w="1028880"/>
                <a:gridCol w="952560"/>
                <a:gridCol w="898560"/>
              </a:tblGrid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Text Box 22"/>
          <p:cNvSpPr/>
          <p:nvPr/>
        </p:nvSpPr>
        <p:spPr>
          <a:xfrm>
            <a:off x="6013080" y="342900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а пер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3"/>
          <p:cNvSpPr/>
          <p:nvPr/>
        </p:nvSpPr>
        <p:spPr>
          <a:xfrm>
            <a:off x="2465280" y="5919840"/>
            <a:ext cx="72072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4"/>
          <p:cNvSpPr/>
          <p:nvPr/>
        </p:nvSpPr>
        <p:spPr>
          <a:xfrm>
            <a:off x="3833640" y="5919840"/>
            <a:ext cx="72072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25"/>
          <p:cNvSpPr/>
          <p:nvPr/>
        </p:nvSpPr>
        <p:spPr>
          <a:xfrm flipV="1">
            <a:off x="3041640" y="649548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</a:path>
              <a:path stroke="0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  <a:lnTo>
                  <a:pt x="2147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rc 26"/>
          <p:cNvSpPr/>
          <p:nvPr/>
        </p:nvSpPr>
        <p:spPr>
          <a:xfrm>
            <a:off x="3041640" y="577548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</a:path>
              <a:path stroke="0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  <a:lnTo>
                  <a:pt x="2147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3332520" y="628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3332520" y="577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rc 29"/>
          <p:cNvSpPr/>
          <p:nvPr/>
        </p:nvSpPr>
        <p:spPr>
          <a:xfrm flipV="1">
            <a:off x="4410000" y="5990400"/>
            <a:ext cx="620640" cy="577800"/>
          </a:xfrm>
          <a:custGeom>
            <a:avLst/>
            <a:gdLst>
              <a:gd name="textAreaLeft" fmla="*/ 0 w 620640"/>
              <a:gd name="textAreaRight" fmla="*/ 621000 w 620640"/>
              <a:gd name="textAreaTop" fmla="*/ -360 h 577800"/>
              <a:gd name="textAreaBottom" fmla="*/ 577800 h 577800"/>
            </a:gdLst>
            <a:ahLst/>
            <a:rect l="textAreaLeft" t="textAreaTop" r="textAreaRight" b="textAreaBottom"/>
            <a:pathLst>
              <a:path fill="none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</a:path>
              <a:path stroke="0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  <a:lnTo>
                  <a:pt x="946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627800" y="606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rc 31"/>
          <p:cNvSpPr/>
          <p:nvPr/>
        </p:nvSpPr>
        <p:spPr>
          <a:xfrm flipH="1" flipV="1">
            <a:off x="1890000" y="5990400"/>
            <a:ext cx="647640" cy="577800"/>
          </a:xfrm>
          <a:custGeom>
            <a:avLst/>
            <a:gdLst>
              <a:gd name="textAreaLeft" fmla="*/ -360 w 647640"/>
              <a:gd name="textAreaRight" fmla="*/ 647640 w 647640"/>
              <a:gd name="textAreaTop" fmla="*/ -360 h 577800"/>
              <a:gd name="textAreaBottom" fmla="*/ 577800 h 577800"/>
            </a:gdLst>
            <a:ahLst/>
            <a:rect l="textAreaLeft" t="textAreaTop" r="textAreaRight" b="textAreaBottom"/>
            <a:pathLst>
              <a:path fill="none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</a:path>
              <a:path stroke="0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  <a:lnTo>
                  <a:pt x="946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2"/>
          <p:cNvSpPr/>
          <p:nvPr/>
        </p:nvSpPr>
        <p:spPr>
          <a:xfrm flipH="1">
            <a:off x="1963440" y="606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430880" y="57340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 пер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4"/>
          <p:cNvSpPr/>
          <p:nvPr/>
        </p:nvSpPr>
        <p:spPr>
          <a:xfrm>
            <a:off x="7524720" y="551664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5"/>
          <p:cNvSpPr/>
          <p:nvPr/>
        </p:nvSpPr>
        <p:spPr>
          <a:xfrm>
            <a:off x="6948360" y="594828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6"/>
          <p:cNvSpPr/>
          <p:nvPr/>
        </p:nvSpPr>
        <p:spPr>
          <a:xfrm>
            <a:off x="8172360" y="594828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7"/>
          <p:cNvSpPr/>
          <p:nvPr/>
        </p:nvSpPr>
        <p:spPr>
          <a:xfrm>
            <a:off x="7524720" y="623736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8"/>
          <p:cNvSpPr/>
          <p:nvPr/>
        </p:nvSpPr>
        <p:spPr>
          <a:xfrm>
            <a:off x="6588000" y="6669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9"/>
          <p:cNvSpPr/>
          <p:nvPr/>
        </p:nvSpPr>
        <p:spPr>
          <a:xfrm flipH="1">
            <a:off x="7308360" y="609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0"/>
          <p:cNvSpPr/>
          <p:nvPr/>
        </p:nvSpPr>
        <p:spPr>
          <a:xfrm flipH="1" flipV="1">
            <a:off x="8459280" y="623700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1"/>
          <p:cNvSpPr/>
          <p:nvPr/>
        </p:nvSpPr>
        <p:spPr>
          <a:xfrm flipH="1">
            <a:off x="6732720" y="6261120"/>
            <a:ext cx="2635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2"/>
          <p:cNvSpPr/>
          <p:nvPr/>
        </p:nvSpPr>
        <p:spPr>
          <a:xfrm flipV="1">
            <a:off x="7451640" y="5820840"/>
            <a:ext cx="16200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3"/>
          <p:cNvSpPr/>
          <p:nvPr/>
        </p:nvSpPr>
        <p:spPr>
          <a:xfrm>
            <a:off x="7788240" y="5848200"/>
            <a:ext cx="16848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4"/>
          <p:cNvSpPr/>
          <p:nvPr/>
        </p:nvSpPr>
        <p:spPr>
          <a:xfrm flipH="1">
            <a:off x="7380000" y="6453360"/>
            <a:ext cx="14436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5"/>
          <p:cNvSpPr/>
          <p:nvPr/>
        </p:nvSpPr>
        <p:spPr>
          <a:xfrm flipH="1" flipV="1">
            <a:off x="7883280" y="6453000"/>
            <a:ext cx="14436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6"/>
          <p:cNvSpPr/>
          <p:nvPr/>
        </p:nvSpPr>
        <p:spPr>
          <a:xfrm>
            <a:off x="5918040" y="515772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аксическая диа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A5C6-0FF1-4B3D-A4F0-0648204C6B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ная реализация конечного автом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25600" y="2884320"/>
            <a:ext cx="8229600" cy="37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Ошибка» 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Кон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«Кон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«Строка приня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аче «Строка отвергну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-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187280" y="981000"/>
          <a:ext cx="6769440" cy="1673280"/>
        </p:xfrm>
        <a:graphic>
          <a:graphicData uri="http://schemas.openxmlformats.org/drawingml/2006/table">
            <a:tbl>
              <a:tblPr/>
              <a:tblGrid>
                <a:gridCol w="1354320"/>
                <a:gridCol w="1353960"/>
                <a:gridCol w="1352880"/>
                <a:gridCol w="1353960"/>
                <a:gridCol w="1354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ер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D301-E08A-4B8A-A280-E8B24F7958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4.2 Лексические анализа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915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познаватель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41672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250920" y="3716280"/>
          <a:ext cx="4897440" cy="2260800"/>
        </p:xfrm>
        <a:graphic>
          <a:graphicData uri="http://schemas.openxmlformats.org/drawingml/2006/table">
            <a:tbl>
              <a:tblPr/>
              <a:tblGrid>
                <a:gridCol w="936360"/>
                <a:gridCol w="924120"/>
                <a:gridCol w="909720"/>
                <a:gridCol w="1149120"/>
                <a:gridCol w="97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-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-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-л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А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37"/>
          <p:cNvSpPr/>
          <p:nvPr/>
        </p:nvSpPr>
        <p:spPr>
          <a:xfrm>
            <a:off x="5219640" y="2852640"/>
            <a:ext cx="39243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ициализация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_числа := «+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1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Знак_числа :=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2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Целое*10 + 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3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нак_числа = «-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-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се-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1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Строка не является  числом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2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Два знака рядом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3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В строке отсутствуют цифры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4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 строке встречаются недопустимые символ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493D-E753-486A-8A43-B540EF0D9D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ознаватель цел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560" y="95256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= «+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= «-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«0»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«9»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j 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АЗДЕЛ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]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5148360" y="1052640"/>
            <a:ext cx="399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 Выполн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ести «Это число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аче Вывести сообщ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-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219640" y="4383000"/>
          <a:ext cx="3924360" cy="2071800"/>
        </p:xfrm>
        <a:graphic>
          <a:graphicData uri="http://schemas.openxmlformats.org/drawingml/2006/table">
            <a:tbl>
              <a:tblPr/>
              <a:tblGrid>
                <a:gridCol w="934920"/>
                <a:gridCol w="714600"/>
                <a:gridCol w="668160"/>
                <a:gridCol w="870120"/>
                <a:gridCol w="73656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-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-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-л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-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А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31BB-1386-4040-9CE4-574040A405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4.3 Синтаксические анализат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аксический анализатор списка описания целых скаляров, массивов и функций, например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a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22[5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r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2][4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), 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V,V[N],V[N][N],V[N],V(),*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5184720" cy="1944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250920" y="4076640"/>
            <a:ext cx="525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*  (  )  [  ]  ,  ;  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1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2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2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4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4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5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5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7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7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8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8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580000" y="2133720"/>
            <a:ext cx="356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идентификатор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целочисленная констан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жебные символы: «[ ] ( ) , ; *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177840" y="4363920"/>
            <a:ext cx="4984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 flipV="1">
            <a:off x="609480" y="422064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8464-3B3A-4829-985A-DDD8D62DDA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анализ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Е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 «VN*()[];»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 Вывести сообщение «Да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Вывести сообщение «Нет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 «VN*()[];»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позиция (номер столбца таблицы) очередного символа в строке символов или 0, если это «другой» 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9C63-5837-4DF4-AD98-67BB763F9E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5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спознавание КС-грамматик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5.1 Автомат с магазинной памя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конечное множество состояний автом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ый входной алфави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 – конечное множество магазинных символ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функция переход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 начальное состояние автом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 – символ, находящийся в магазине в начальный момен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заключительных (допускающих) состоя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B704-DA4B-48FA-8241-96CF647FDD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е диаграммы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0" y="836640"/>
            <a:ext cx="89647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нтаксический анализатор вы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{&lt;Ид&gt;, +, –, *,  /, (, ), ◄, ►}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: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* (B + C) + (D + F) / (A + B) - C *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1258920" y="2565360"/>
          <a:ext cx="6261120" cy="37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65360"/>
                    <a:ext cx="626112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F3AF-14F6-4A3B-954B-5C537D0D7D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диненная синтаксическая ди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9FC7-5BF7-4A7F-8677-6E31AA92F6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переходов автома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-1405080" y="1052640"/>
          <a:ext cx="11809440" cy="58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05080" y="1052640"/>
                    <a:ext cx="118094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86F7-7F93-46AD-B19E-C8D002BAE5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использования метода Рутисхаузера для разбора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2760" y="144756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:      (  (  ( a +  b ) * c  )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 3 4 3 4 3 2 3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(  ( T1 * c  )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 3  2 3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( T2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T3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 0 1  0  1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050920" y="3543480"/>
            <a:ext cx="1295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268360" y="2449440"/>
            <a:ext cx="1295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63640" y="4653000"/>
            <a:ext cx="1295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763640" y="5740560"/>
            <a:ext cx="93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372360" y="2421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1 = 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6372360" y="3429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2 = T1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6372360" y="4437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6372360" y="551664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4 = T3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362D-015B-4612-8F6F-CB7B9B40D1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распозна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58720" y="69840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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«Строка приня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«Строка отвергну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3230-48C2-4E88-9DA7-472D3968D7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2.5.2 Синтаксические анализатор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восторонний нисходящий грамматический раз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4"/>
          <p:cNvGraphicFramePr/>
          <p:nvPr/>
        </p:nvGraphicFramePr>
        <p:xfrm>
          <a:off x="-1179360" y="903240"/>
          <a:ext cx="9144000" cy="634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79360" y="903240"/>
                    <a:ext cx="914400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Arc 137"/>
          <p:cNvSpPr/>
          <p:nvPr/>
        </p:nvSpPr>
        <p:spPr>
          <a:xfrm>
            <a:off x="6084720" y="4437000"/>
            <a:ext cx="648000" cy="216000"/>
          </a:xfrm>
          <a:custGeom>
            <a:avLst/>
            <a:gdLst>
              <a:gd name="textAreaLeft" fmla="*/ 0 w 648000"/>
              <a:gd name="textAreaRight" fmla="*/ 648000 w 64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137"/>
          <p:cNvSpPr/>
          <p:nvPr/>
        </p:nvSpPr>
        <p:spPr>
          <a:xfrm>
            <a:off x="6012000" y="3357720"/>
            <a:ext cx="936360" cy="1871640"/>
          </a:xfrm>
          <a:custGeom>
            <a:avLst/>
            <a:gdLst>
              <a:gd name="textAreaLeft" fmla="*/ 0 w 936360"/>
              <a:gd name="textAreaRight" fmla="*/ 936720 w 936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137"/>
          <p:cNvSpPr/>
          <p:nvPr/>
        </p:nvSpPr>
        <p:spPr>
          <a:xfrm>
            <a:off x="6084720" y="2637000"/>
            <a:ext cx="358920" cy="431640"/>
          </a:xfrm>
          <a:custGeom>
            <a:avLst/>
            <a:gdLst>
              <a:gd name="textAreaLeft" fmla="*/ 0 w 358920"/>
              <a:gd name="textAreaRight" fmla="*/ 359280 w 358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rc 137"/>
          <p:cNvSpPr/>
          <p:nvPr/>
        </p:nvSpPr>
        <p:spPr>
          <a:xfrm>
            <a:off x="6084720" y="3645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rc 137"/>
          <p:cNvSpPr/>
          <p:nvPr/>
        </p:nvSpPr>
        <p:spPr>
          <a:xfrm>
            <a:off x="6084720" y="5229360"/>
            <a:ext cx="358920" cy="288720"/>
          </a:xfrm>
          <a:custGeom>
            <a:avLst/>
            <a:gdLst>
              <a:gd name="textAreaLeft" fmla="*/ 0 w 358920"/>
              <a:gd name="textAreaRight" fmla="*/ 359280 w 358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rc 137"/>
          <p:cNvSpPr/>
          <p:nvPr/>
        </p:nvSpPr>
        <p:spPr>
          <a:xfrm>
            <a:off x="6084720" y="580536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rc 137"/>
          <p:cNvSpPr/>
          <p:nvPr/>
        </p:nvSpPr>
        <p:spPr>
          <a:xfrm>
            <a:off x="6084720" y="162864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rc 137"/>
          <p:cNvSpPr/>
          <p:nvPr/>
        </p:nvSpPr>
        <p:spPr>
          <a:xfrm>
            <a:off x="6084720" y="4724280"/>
            <a:ext cx="358920" cy="217440"/>
          </a:xfrm>
          <a:custGeom>
            <a:avLst/>
            <a:gdLst>
              <a:gd name="textAreaLeft" fmla="*/ 0 w 358920"/>
              <a:gd name="textAreaRight" fmla="*/ 359280 w 3589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6659640" y="1341360"/>
            <a:ext cx="2305080" cy="1150920"/>
          </a:xfrm>
          <a:prstGeom prst="wedgeRoundRectCallout">
            <a:avLst>
              <a:gd name="adj1" fmla="val -49462"/>
              <a:gd name="adj2" fmla="val 1634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враты вызваны неправильным выбором альтернатив 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8"/>
          <p:cNvSpPr/>
          <p:nvPr/>
        </p:nvSpPr>
        <p:spPr>
          <a:xfrm>
            <a:off x="7164360" y="3429000"/>
            <a:ext cx="1871640" cy="1944720"/>
          </a:xfrm>
          <a:prstGeom prst="wedgeRoundRectCallout">
            <a:avLst>
              <a:gd name="adj1" fmla="val -49671"/>
              <a:gd name="adj2" fmla="val -19884"/>
              <a:gd name="adj3" fmla="val 16667"/>
            </a:avLst>
          </a:prstGeom>
          <a:solidFill>
            <a:srgbClr val="fb05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мматиках обеспечивается однозначный выбор прави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разб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7000-1BEC-404B-8156-466E677B9B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аксические анализатор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а грамматика записи выраж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&lt;Строка&gt; ::= &lt;Выр&gt;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&lt;Выр&gt; ::= &lt;Терм&gt; &lt;Слож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&lt;Слож&gt; ::=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| + &lt;Терм&gt; &lt;Слож&gt; |  - &lt;Терм&gt;&lt;Слож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&lt;Терм&gt; ::= &lt;Множ&gt;&lt;Умн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&lt;Умн&gt; ::=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| *&lt;Множ&gt;&lt;Умн&gt; | / &lt;Множ&gt;&lt;Умн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&lt;Множ&gt; ::= &lt;Ид&gt; | (&lt;Выр&gt;)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-828720" y="3141720"/>
          <a:ext cx="1072836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28720" y="3141720"/>
                    <a:ext cx="1072836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5B8F-4E88-4FBB-987D-D3BADC0E06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 рекурсивного с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4"/>
          <p:cNvGraphicFramePr/>
          <p:nvPr/>
        </p:nvGraphicFramePr>
        <p:xfrm>
          <a:off x="539640" y="1773360"/>
          <a:ext cx="756144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756144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9343-2FC5-4DFB-91D6-918AA9B756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распозна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 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Терм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=tru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xtSymbol =’+’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-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Терм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 Тер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=tru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xtSymbol =’*’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/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Множ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0181-423F-4EB9-BE98-71004887F9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распознавател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Bool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(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Выражение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Symbol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‘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Ошибка 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ач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: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ая програм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Выражение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Symbol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‘◄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Ошибка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01B1-93E6-488A-BBFB-AB5453D4B3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9074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Compil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{$APPTYPE CONSOL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ses  SysUti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SetofChar=set of AnsiCh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Bukv:setofChar=['A'..'Z','a'..'z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yfr:setofChar=['0'..'9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Razd:setofChar=[' ','+','-','*','/',')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St:shortstring; R: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ulc(Var St:shortstring;Razd:setofChar):boolean;forwa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Error(St:shortstring);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Courier New"/>
              </a:rPr>
              <a:t>{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Courier New"/>
              </a:rPr>
              <a:t>вывод сообщений об ошибках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    WriteLn('Error *** ', st, ' ***');  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Probel(Var St:shortstring);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Courier New"/>
              </a:rPr>
              <a:t>{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Courier New"/>
              </a:rPr>
              <a:t>удаление пробелов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 While (St&lt;&gt;'') and (St[1]=' ') do Delete(St,1,1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CCBC-A41A-4713-A612-DA022CAB0A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Id(Var St:shortstring; Razd:setofChar):boolea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S:shortString; State,Ind,Col:by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TableId:array[1..2,1..4] of Byte=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2,0,0,0),(2,2,10,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процедура удаления пробелов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:=1;   S:='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tate&lt;&gt;0) and (State&lt;&gt;10) and (Length(St)&lt;&gt;0)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t[1] in ['A'..'Z','a'..'z'] then Col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 if St[1] in ['0'..'9'] then Col: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(St[1] in Razd) then Col: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Col:=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:=TableId[State,Col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17B9-721E-4B42-8D8E-ED88B9A35C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&lt;&gt;0) and (State&lt;&gt;10) then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правильный символ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S:=S+St[1]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(St,1,1);  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length(st)=0 then State:=10;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 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строка закончилась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=10) and (S&lt;&gt;'') then 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правильно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:=true;  WriteLn('Identify=',S)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=0) the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ошибка символа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:=fals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Wrong symbol *',St[1],'*')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нет идентификатора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Result:=fals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Identifier waits...', 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FBFC-F2EF-4988-A35B-B181C71A8E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ult(Var St:shortstring;Razd:setofChar)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R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t[1]='('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; 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Culc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and (St[1]=')')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 else Error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R:=Id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ult:=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FB53-7932-4011-BB68-83815F3496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1 Основные понятия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1.1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лассификация компилирующих програм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291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ансля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грамма, которая переводит програм-му, написанную на одном языке, в эквивалентную ей программу, написанную на другом язы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иля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нслятор с языка высокого уровня на машинный язык или язык ассемб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нслятор с языка Ассемблера на ма-шинны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грамма, которая принимает ис-ходную программу и выполняет ее, не создавая про-граммы на друг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кро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ля компиляторов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процесс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программа, которая обрабатывает исходную про-грамму, как текст, и выполняет в нем замены ука-занных символов на подстроки. Макрогенератор обрабатывает программу до трансля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EDA4-94A5-4A65-838F-528DC428E9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erm(Var St:shortstring;Razd:setofChar)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R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Mult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St[1]='*') or (St[1]='/')) and R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Mult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:=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0E04-149B-4047-AC32-E6167172D2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ulc(Var St:shortstring;Razd:setofChar)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R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Term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St[1]='+') or (St[1]='-')) and R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Term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lc:=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3E2E-B9DA-41C6-81EC-8C99F982B1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Input Strings:'); Readln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t&lt;&gt;'end') and R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Culc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and (length(st)=0) then Writeln('Yes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Writeln('No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Input Strings:'); Readln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Press Enter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F6D5-27E3-472F-9847-21ACF8FB35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работы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Str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yy+(hjh-hj)*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t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hj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Str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7CC1-C992-4183-B1C0-9A946B4993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2.5.3 Синтаксические анализатор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(k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и предше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3640" y="131256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восторонний восходящий грамматический разб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ифра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елое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195640" y="2897280"/>
            <a:ext cx="1439640" cy="360360"/>
          </a:xfrm>
          <a:prstGeom prst="wedgeRoundRectCallout">
            <a:avLst>
              <a:gd name="adj1" fmla="val -89023"/>
              <a:gd name="adj2" fmla="val 1347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71640" y="3762360"/>
            <a:ext cx="1440000" cy="360360"/>
          </a:xfrm>
          <a:prstGeom prst="wedgeRoundRectCallout">
            <a:avLst>
              <a:gd name="adj1" fmla="val -80064"/>
              <a:gd name="adj2" fmla="val -2441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203640" y="4626000"/>
            <a:ext cx="1439640" cy="360360"/>
          </a:xfrm>
          <a:prstGeom prst="wedgeRoundRectCallout">
            <a:avLst>
              <a:gd name="adj1" fmla="val -108722"/>
              <a:gd name="adj2" fmla="val 28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3564000" y="5345280"/>
            <a:ext cx="1439640" cy="360360"/>
          </a:xfrm>
          <a:prstGeom prst="wedgeRoundRectCallout">
            <a:avLst>
              <a:gd name="adj1" fmla="val -71833"/>
              <a:gd name="adj2" fmla="val -1822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8"/>
          <p:cNvSpPr/>
          <p:nvPr/>
        </p:nvSpPr>
        <p:spPr>
          <a:xfrm>
            <a:off x="5651640" y="3429000"/>
            <a:ext cx="2808000" cy="1152360"/>
          </a:xfrm>
          <a:prstGeom prst="wedgeRoundRectCallout">
            <a:avLst>
              <a:gd name="adj1" fmla="val -43722"/>
              <a:gd name="adj2" fmla="val 4593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ты возникают из-за неверного выбора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0"/>
          <p:cNvSpPr/>
          <p:nvPr/>
        </p:nvSpPr>
        <p:spPr>
          <a:xfrm>
            <a:off x="4356000" y="1962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елое&gt; ::= &lt;знак&gt;&lt;ЦБЗ&gt;|&lt; ЦБЗ 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БЗ&gt; ::= &lt;ЦБЗ&gt;&lt;цифра&gt;|&lt;цифра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знак&gt; ::= +|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кругленная прямоугольная выноска 11"/>
          <p:cNvSpPr/>
          <p:nvPr/>
        </p:nvSpPr>
        <p:spPr>
          <a:xfrm>
            <a:off x="5580000" y="4869000"/>
            <a:ext cx="2879640" cy="1584360"/>
          </a:xfrm>
          <a:prstGeom prst="wedgeRoundRectCallout">
            <a:avLst>
              <a:gd name="adj1" fmla="val -27384"/>
              <a:gd name="adj2" fmla="val 50111"/>
              <a:gd name="adj3" fmla="val 1666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R(k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ивают однозначный выбор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D229-92E5-4A46-A409-29280274C8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74872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и предшеств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87200" y="981000"/>
            <a:ext cx="8956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задана некоторая произвольная строка – предложение язы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.αβ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два симво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и α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положены рядом в сентенциальной форме, то между ними возможны следующие отношения, названные отношениями предшествов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принадлежит основе, а β – нет, т. е. α – конец основы: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 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принадлежит основе, а α – нет, т. е. β – начало основы: α &lt;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и β принадлежит одной основе, т. е. α =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и β не могут находиться рядом в сентенциальной форме (ошиб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ой предшеств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грамматика, в которой из последовательности символов однозначно следует определение осно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ой операторного предш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грамматика, в которой существует однозначное отношение предшествования терминальных символов, которое не зависит от нетерминальных символов, находящихся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8EA9-0526-4348-AF27-593C655A85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ение таблицы предш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24000" y="4365360"/>
            <a:ext cx="45352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+    ► A*    ►(A    ► A)    ►A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A+     +A*       +(A      +A)      +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A+      *A*        *(A       *A )     *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       (A*       ((A        (A)       (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+        A)*      A)(         A))      A)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4500720" y="3284640"/>
          <a:ext cx="13033080" cy="299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284640"/>
                    <a:ext cx="130330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5"/>
          <p:cNvSpPr/>
          <p:nvPr/>
        </p:nvSpPr>
        <p:spPr>
          <a:xfrm>
            <a:off x="611280" y="292428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 осно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ц осно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- одна осн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ши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50920" y="260280"/>
            <a:ext cx="87138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рамматика арифметических выраж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левосторонней рекурси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&lt;Выражение&gt;  ::= &lt;Терм&gt;|&lt;Выражение&gt;+&lt;Терм&gt;|&lt;Выражение&gt;- &lt;Терм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&lt;Терм&gt;  ::= &lt;Множитель&gt; | &lt;Терм&gt;* &lt;Множитель&gt; | &lt;Терм&gt; / &lt;Множитель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&lt;Множитель&gt; ::= (&lt;Выражение&gt;) | &lt;Идентификатор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D010-5CFC-47FB-8ED9-C18C59A482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разбора выражения стековым мет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0028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Object 4"/>
          <p:cNvGraphicFramePr/>
          <p:nvPr/>
        </p:nvGraphicFramePr>
        <p:xfrm>
          <a:off x="0" y="1557360"/>
          <a:ext cx="9144000" cy="49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7" dur="indefinite" restart="never" nodeType="tmRoot">
          <p:childTnLst>
            <p:seq>
              <p:cTn id="1758" dur="indefinite" nodeType="mainSeq">
                <p:childTnLst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579A-D8F9-4F0F-B734-F869D6B857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программу, осуществляющую лексический анализ идентификаторов и служебных слов, а также синтаксический анализ сравнений (не более одной операции сравнения вида =, &lt;&gt;, &gt;, &lt;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=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=), выражений с операциями +,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*, / и скобками, операторов условной передачи управления и присваивания в синтаксисе языка Паскаль. На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h then ffff:=hhh+(ppp+yyy)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синтаксиса язы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&gt; ; |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ваи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&gt; ::=if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|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ваи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&gt;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&lt;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E5A0-21F5-4154-9A9B-DA5364813A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кены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_ – идентификатор - операн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@@ – пустой операнд – дополнительный токен, который позволяет при разборе считывать строго по два токена &lt;операнд-оператор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лужеб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лужеб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лужеб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_, &lt;_, =_, &lt;&gt;, &gt;=, &lt;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срав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_, -_, *_, /_, (_, )_ – операторы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 - служебное слово «присвоить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_ - конец опера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имера, приведенного в зада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h then ffff:=hhh+(ppp+yyy)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 работы сканера должен выглядеть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i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&gt;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:=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e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i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:=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_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+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)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;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315D-309F-44F1-A922-C95807433D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1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уктура компилирующей программ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нтакси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овокупность правил, определяющих допустимые конструкции языка, т. е. его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фор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ман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овокупность правил, определяющих логическое соответствие между элементами и значением синтаксически корректных предложений, т. е.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зы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773B-1DD2-421F-BF0A-033E0CC2BD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предш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еализации использовано следующее кодиров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чало осно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ередина осно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конец осно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коб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– вых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 – ошиб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9DE1-4854-4A0A-9962-BE33E96241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Str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else if h the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ff:=hhh*(ppp+yy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ugeb slovo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=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ugeb simbol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=vvv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ugeb slovo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=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ifV &gt; V thV :=V el@@ifV thV :=V * @@( V + V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4180-2576-4A25-ACF7-DB4B4D4B26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синтаксическог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h then ffff:=hhh+(ppp+yy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ifV &gt; V thV :=V el@@ifV thV :=V * @@( V + V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 &gt;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/ присваивание в ветви «да» внешнег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 +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/ умноже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/ присваивание в ветви «да» вложенног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V thO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s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L thOpelO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5B20-13AD-4DF7-89DD-82643EC1B5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6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ьская запись. Алгоритм Бауэра-Замельзо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Польская запис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ставляет собой последовательность команд двух тип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дентификатор операнда – выбрать число по имен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заслать его в стек операн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я – выбрать два верхних числа из стека операндов, произвести над ними операцию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занести результат в стек операн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B*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41FA-46FF-4A67-908D-647D043D25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17136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Бауэра-Замельз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87440" y="7412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польской запис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если символ – операнд, то вырабатывается команда 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если символ – операция, то выполняются действия согласно таблиц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слать 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тек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енерирова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слать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тек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далить верхний символ из стека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енерирова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овторить с тем же входным симво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tretch/>
        </p:blipFill>
        <p:spPr>
          <a:xfrm>
            <a:off x="4232160" y="1844640"/>
            <a:ext cx="9936360" cy="26956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11665080" cy="230364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6"/>
          <p:cNvSpPr/>
          <p:nvPr/>
        </p:nvSpPr>
        <p:spPr>
          <a:xfrm>
            <a:off x="2249640" y="178920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253080" y="314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A49E-4788-41C6-942A-DC42A33B70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ить тройки дл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польской запис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1"/>
          <a:stretch/>
        </p:blipFill>
        <p:spPr>
          <a:xfrm>
            <a:off x="-1116000" y="1700280"/>
            <a:ext cx="8748720" cy="463212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5"/>
          <p:cNvSpPr/>
          <p:nvPr/>
        </p:nvSpPr>
        <p:spPr>
          <a:xfrm>
            <a:off x="1878480" y="6165720"/>
            <a:ext cx="49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6D3B-DB9E-4B7A-BC54-290DFF8A4F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операций польской запис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1"/>
          <a:stretch/>
        </p:blipFill>
        <p:spPr>
          <a:xfrm>
            <a:off x="-181080" y="1700280"/>
            <a:ext cx="9649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9" dur="indefinite" restart="never" nodeType="tmRoot">
          <p:childTnLst>
            <p:seq>
              <p:cTn id="2060" dur="indefinite" nodeType="mainSeq">
                <p:childTnLst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B438-87A9-4E11-A1A0-D4BD99D1432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3 Распределение памяти под перемен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атическ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ется в процессе компиляции или загрузки в память (для сегмента неинициированных данных), используется для хранения глобальных переме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томатическ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полняется при вызове подпрограмм, используется для локальных переменных, размещаемых в сте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правляем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ыполняется по запросу программист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, dele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используется для динамических переменных, размещаемых в динамической памя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базирован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также выполняется по запросу программиста, но большими фрагментам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mem, freeme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за размещение переменных отвечает программист.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2CDD-B267-4576-80C4-3E8F156859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4 Генерация код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ция кодов – процесс замены распознанных конструкций на соответствующий заранее заготовленный фраг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«заготовк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    AX, &lt;Op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   AX, &lt;Op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подставляемый фрагмент автоматически настраивается по данным, находящимся в таблице раз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ая программа очень далека от оптимальной, поэтому осуществляется ее автоматическая оптимизация еще на уровне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7" dur="indefinite" restart="never" nodeType="tmRoot">
          <p:childTnLst>
            <p:seq>
              <p:cTn id="2088" dur="indefinite" nodeType="mainSeq">
                <p:childTnLst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380F-F392-4136-9EAE-9CD2D558E0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тимизация к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тся два критерия эффективности результирующей программы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я програм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м памя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еобходимый для выполнения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м случае задача построения оптимального кода программы алгоритмически неразрешима. Основная оптимизация программы должна производится программис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личают две группы мет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шинно-независим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изация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исключение повторных вычислений одних и тех же операн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ыполнение операций над константами во время транс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вынесение из циклов вычисления величин, не зависящих от параметров цик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упрощение сложных логических выражений и т. 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шинно-зависим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изация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исключение лишних передач данных типа «память-регистр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ыб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эффективных команд т.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607A-CFEF-4E2C-A7FD-916B456FAE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процесса компиля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692360" y="1052640"/>
            <a:ext cx="575928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92360" y="220500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таксически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692360" y="3357720"/>
            <a:ext cx="575928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антически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692360" y="458136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памя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692360" y="580536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ерация и оптимизация объектного к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572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4572000" y="27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4572000" y="393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4572000" y="515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13B9-8DDA-41BC-8EBC-D56E52C586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Удаление недостижимого к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компилятора найти и исключить код, на который не передается упр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;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2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7" dur="indefinite" restart="never" nodeType="tmRoot">
          <p:childTnLst>
            <p:seq>
              <p:cTn id="2118" dur="indefinite" nodeType="mainSeq">
                <p:childTnLst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83E5-8E07-4BCE-902C-0E35552E9F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Оптимизация линейных участков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временных системах программирования профилировщик на основе результатов запуска программы выдаёт информацию о том, на какие её линейные участки приходится основное время выполнения. Для этих фрагментов выпол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ление бесполезных присваива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b * c; d = b + c; a = d * c;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d = b + c;  a = d 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, в следующем примере эта операция уже не бесполез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= &amp; a;  a = b * c;  d = * p + c;  a = d 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лючение избыточных вычисл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 = d + b * c;  a = d + b * c;  c = d + b * c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 = b * c;  d = d + t;  a = d + t;  c =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ртка объектного к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ыполнение во время компиляции тех операций исходной программы, для которых значения операндов уже извест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; 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; 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1" dur="indefinite" restart="never" nodeType="tmRoot">
          <p:childTnLst>
            <p:seq>
              <p:cTn id="2152" dur="indefinite" nodeType="mainSeq">
                <p:childTnLst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7956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) Перестановка операц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ля дальнейшей свертки или оптимизации вычислен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2 * b * 3 * c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(2 * 3) * (b * 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(b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 + (d + e)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(b + (c + (d + e) 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) Арифметические пре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 основе алгебраических и логических тождест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b * c + b * d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b * (c + 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* 1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a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a * 0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0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+ 0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Оптимизация вычисления логических вы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!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сег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р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быть побочный эфф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Подстановка кода функции вместо ее вызова в объектный к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метод, как правило, применим к простым функциям и процедурам, вызываемым непосредственно по адресу, без применения косвенной адресации через таблиц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ime Type Inform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компиляторы допускают применять метод только к функциям, содержащим последовательные вычисления без цик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С++ позволяет явно указать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для каких функций желательно использова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дстан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Оптимизация цик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ынесение инвариантных вычислений из цик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10; i++)a[i]=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b*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a[i]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 = b*c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10; i++) a[i]=d*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Замена операций с индуктивными (образующими арифметическую прогрессию) переменными (как правило, умножения на сло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N; i++) a[i]=i*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= 10; i =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i&lt;=N) 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=t;  t=t+10;  i++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1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N; i++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r=r+f(s); s=s+10; 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=10; m=N*1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 &lt;= m) {r= r+f(s); s=s+1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бавились от одной индуктивной переменно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ияние цик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N; i++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j= 1; j&lt;= M; j++) a[i][j] = 0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 = N * 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k; i++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0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ертывание цик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ожно выполнить для циклов, кратность выполнения которых известна на этапе компиля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3; i++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=i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1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2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3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шинно-зависимые преобразования результирующей объектной программы зависят от архитектуры вычислительной системы, на которой будет выполняться результирующая программа. При этом может учитываться объем кэш-памяти, методы организации работы процессора 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преобразования, как правило, являются "ноу-хау", и именно они позволяют существенно повысить эффективность результирующего к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1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регистров процесс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регистров общего назначения и специальных регистров (аккумулятор, счетчик цикла, базовый указатель) для хранения значения операндов и результатов вычислений позволяет увеличить быстродействие програм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упных регистров всегда ограниченное количество, поэтому перед компилятором встает вопрос их оптимального распределения и использования при выполнении вычис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птимизация передачи параметров в процедуры и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параметры процедур и функций передаются через стек. При этом всякий раз при вызове процедуры или функции компилятор  создает объектный код для размещения ее фактических параметров в стеке, а при выходе из нее - код для освобождения соответствующей памя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уменьшить код и время выполнения  результирующей программы за счет оптимизации передачи параметров в процедуру или функцию, передавая и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регист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цесс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данного оптимизирующего преобразования зависит от количества доступных регистров процессора в целевой вычислительной системе и от используемого компилятором алгоритма распределения регис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ки мет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птимизированные таким образом процедуры и функции не могут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ы в качеств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блиотеч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к. методы передачи пара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регистры не стандартизованы и зависят от реализации компилят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тот метод не может быть использован, если где-либо в функции требу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ции с адрес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ра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ыки Си и С++ позволяют явно указать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какие параметры и локальные переменные желательно разместить в регис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8244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Оптимизация кода для процессоров, допускающих распараллеливание вычис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озможности параллельного выполнения нескольких операций компилятор должен порождать объектный код таким образом, чтобы в нем было максимально возможное количество соседних операций, все операнды которых не зависят друг от д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надо найти оптимальный порядок выполнения операций для каждого оператора (переставить 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дного потока обработки данны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(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вух потоков обработки данны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рех потоков обработки данны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5CC9-B49B-4772-A012-9AB593EACB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7" dur="indefinite" restart="never" nodeType="tmRoot">
          <p:childTnLst>
            <p:seq>
              <p:cTn id="2198" dur="indefinite" nodeType="mainSeq">
                <p:childTnLst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B6CC-BCB5-41D7-9EA6-5E9E42D2C8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Su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5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p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419640" y="981000"/>
            <a:ext cx="21589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кс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84360" y="1700280"/>
            <a:ext cx="3600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аль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788000" y="1700280"/>
            <a:ext cx="388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о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V="1">
            <a:off x="2340000" y="1413000"/>
            <a:ext cx="172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 flipH="1" flipV="1">
            <a:off x="4859280" y="1413000"/>
            <a:ext cx="187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2924280"/>
          <a:ext cx="8351640" cy="3744720"/>
        </p:xfrm>
        <a:graphic>
          <a:graphicData uri="http://schemas.openxmlformats.org/drawingml/2006/table">
            <a:tbl>
              <a:tblPr/>
              <a:tblGrid>
                <a:gridCol w="1366920"/>
                <a:gridCol w="2305080"/>
                <a:gridCol w="1368360"/>
                <a:gridCol w="33112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с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ы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е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иденти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литер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е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иденти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литер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974A-3334-47E4-9033-749C41E27B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й анали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413000"/>
          <a:ext cx="4043520" cy="5040360"/>
        </p:xfrm>
        <a:graphic>
          <a:graphicData uri="http://schemas.openxmlformats.org/drawingml/2006/table">
            <a:tbl>
              <a:tblPr/>
              <a:tblGrid>
                <a:gridCol w="1019160"/>
                <a:gridCol w="574560"/>
                <a:gridCol w="1368720"/>
                <a:gridCol w="108108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с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ыл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AutoShape 60"/>
          <p:cNvSpPr/>
          <p:nvPr/>
        </p:nvSpPr>
        <p:spPr>
          <a:xfrm>
            <a:off x="4572000" y="2637000"/>
            <a:ext cx="216000" cy="129672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1"/>
          <p:cNvSpPr/>
          <p:nvPr/>
        </p:nvSpPr>
        <p:spPr>
          <a:xfrm>
            <a:off x="4572000" y="4437000"/>
            <a:ext cx="216000" cy="12970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2"/>
          <p:cNvSpPr/>
          <p:nvPr/>
        </p:nvSpPr>
        <p:spPr>
          <a:xfrm>
            <a:off x="6732720" y="2205000"/>
            <a:ext cx="433080" cy="4103640"/>
          </a:xfrm>
          <a:custGeom>
            <a:avLst/>
            <a:gdLst>
              <a:gd name="textAreaLeft" fmla="*/ 0 w 433080"/>
              <a:gd name="textAreaRight" fmla="*/ 156240 w 43308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3"/>
          <p:cNvSpPr/>
          <p:nvPr/>
        </p:nvSpPr>
        <p:spPr>
          <a:xfrm>
            <a:off x="5079600" y="292428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4"/>
          <p:cNvSpPr/>
          <p:nvPr/>
        </p:nvSpPr>
        <p:spPr>
          <a:xfrm>
            <a:off x="5079600" y="4869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5"/>
          <p:cNvSpPr/>
          <p:nvPr/>
        </p:nvSpPr>
        <p:spPr>
          <a:xfrm>
            <a:off x="7308720" y="3860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6"/>
          <p:cNvSpPr/>
          <p:nvPr/>
        </p:nvSpPr>
        <p:spPr>
          <a:xfrm>
            <a:off x="1330200" y="882720"/>
            <a:ext cx="23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ток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893D-E318-4B4D-880D-C0891AA23A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6788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 Формальные грамматики и распознавател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1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альный язык и формальная грамма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пустое конечное множество символов, используе-мых для записи предложений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0,1,2,3,4,5,6,7,8,9,+,-}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любая последовательность символов алфав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 строк, включая пустую, составленных из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 строк за исключением пустой, составленных из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*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льным язык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алфави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ют произвольное подмножество множеств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можно зада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числен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вилами продук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2:16:54Z</dcterms:created>
  <dc:creator>Ivanova</dc:creator>
  <dc:description/>
  <dc:language>en-US</dc:language>
  <cp:lastModifiedBy>Иванова Галина Сергеевна</cp:lastModifiedBy>
  <dcterms:modified xsi:type="dcterms:W3CDTF">2018-01-23T15:43:58Z</dcterms:modified>
  <cp:revision>106</cp:revision>
  <dc:subject/>
  <dc:title>Глава 6  Основы конструирования компиляторов</dc:title>
</cp:coreProperties>
</file>