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_rels/notesSlide6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67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54BAE-BD2F-4E1B-95BE-9B760B4423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1585-8649-465E-B986-DAC024F68D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16BE-9ECE-407E-B8AD-34C2862042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0782-962D-464E-9F33-BA8E745C20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8B45-6320-42B4-9045-4A51F057B8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67FC-7F49-4F43-B34E-43D4C5627C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1E46-AAAD-4D64-82EB-0269FCC9D8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98E0-645C-4FF5-8E1F-7DFCFA84BE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46D2-681D-4D49-AA69-BCA414291E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DF0D-968B-4165-BF88-6E3D402A3C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7FC9E-D967-4B53-B60F-B41C946937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2C38-168E-45B2-953A-5401B247AD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4BA8-ACEA-4771-8D8C-B2A0E8BD4C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DC2D-EF3F-4EF4-9C9E-511E6715B6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622C-22C6-4B83-A7BA-188CDD6D92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A8C99-058E-4026-95C0-5427A1F9F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EAE76-B5DA-4D52-92FC-C0A99338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04E8B-20F8-459A-AC84-E84F94C25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EEEEE-AF76-4F83-8639-CFB5099B9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EA72-059A-4A8C-971F-1F6694227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186D5-2BA5-4F1D-9915-81246331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4D74-F076-421D-BE55-C137EA68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8713-14CE-4EC6-A594-4B0A4B87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98E0-3EBC-4314-9731-B7FCAC39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85C0-B6C5-41B7-9C45-D5232506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6824-DE4B-482A-8E6B-56584078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EF3B9-80D6-49C3-94D5-FD3C7A4B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5A56-7CBE-4A60-9F32-7330ABBA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77D50-AAC0-42A7-8D94-F02AA180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70AB-0D70-4A0F-82D5-ED2E0497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A21A-7AD7-49B7-969C-9CCB2B415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212D-8921-4FAB-A0D0-DD713DDE9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81261-394C-427F-B188-39AD1DC3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1A6D8-D480-44DB-8C61-3D58E585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02298-F2F5-4F8F-8021-E553251E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62347-1E2E-4AFF-BB44-60417D90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F8572-9FE0-4FE2-9188-7DC56BF8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141E7-2520-4975-987C-88CB4FA2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54FDF-1A7A-472F-B139-18FA02A6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1BB0-BD6A-4D19-B0A6-0FC6254EA73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66D9-54FA-40D0-BD4A-276D54E452B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972B-2435-4683-8A91-D439717848D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52640" y="1773360"/>
            <a:ext cx="62913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лава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Основы конструирования компилято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58920" y="4267080"/>
            <a:ext cx="7732800" cy="23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ГТУ им. Н.Э. Баума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культет Информатика и системы управл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федра Компьютерные системы и се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ктор: д.т.н., проф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ванова Галина Сергеев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195640" y="260280"/>
            <a:ext cx="54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5D94-DB63-46EC-A9AC-C5566033259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альная граммати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713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алфавит языка или множество терминальных (окончательных, незаменяемых) симво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множество нетерминальных (заменяемых) символов – вспомогательный алфавит, символы которого обозна-чают допустимые </a:t>
            </a:r>
            <a:r>
              <a:rPr b="0" i="1" lang="ru-RU" sz="2400" spc="-1" strike="noStrike">
                <a:solidFill>
                  <a:srgbClr val="1818ff"/>
                </a:solidFill>
                <a:latin typeface="Arial"/>
              </a:rPr>
              <a:t>понят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язы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=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ловарь граммат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множество порождающих правил – каждое правило состоит из пары строк (α, β), где α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– левая часть правила, β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 – правая часть правила: α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β, где строка α должна содержать хотя бы один нетермина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ачальный символ – аксиома грамма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F832-5200-4F6F-BDCF-D113FAEBACB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мматика записи десятичных чисел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4470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{0, 1, 2, 3, 4, 5, 6, 7, 8, 9, +, -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{&lt;целое&gt;, &lt;целое без знака&gt;, &lt;цифра&gt;, &lt;знак&gt;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 {&lt;целое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знак&gt;&lt;целое без знака&gt;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елое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целое без знака&gt;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елое без знак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цифра&gt;&lt;целое без знака&gt;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елое без знак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цифра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2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3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4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5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6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7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8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9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 &lt;целое&gt;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6732720" y="2708280"/>
            <a:ext cx="2163600" cy="792000"/>
          </a:xfrm>
          <a:prstGeom prst="wedgeRoundRectCallout">
            <a:avLst>
              <a:gd name="adj1" fmla="val -51759"/>
              <a:gd name="adj2" fmla="val -92083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осторонняя рекурс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2611-C81E-444B-82DE-CAD656B2712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рма Бэкуса-Нау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БНФ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ные обознач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18ff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2000" spc="-1" strike="noStrike">
                <a:solidFill>
                  <a:srgbClr val="1818ff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етерминальный символ – конструкц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я – терминальный символ – символ алфави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: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можно заменить на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л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елое&gt; ::= &lt;знак&gt;&lt;целое без знака&gt;|&lt;целое без знака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елое без знака&gt; ::= &lt;цифра&gt;&lt;целое без знака&gt;|&lt;цифра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 &gt; ::= 0|1|2|3|4|5|6|7|8|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знак&gt; ::= +|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85A3-FC4C-4343-863D-BBC18F044C9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.2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рамматический разбо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рамматический разбо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с сопоставления линейной последовательности лексем (слов, токенов) языка с его формальной граммати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ыводо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ется последовательность подстанов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Вывод строки «-45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елое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знак&gt;&lt;целое без знак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знак&gt;&lt;цифра&gt;&lt;целое без знака&gt;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знак&gt;&lt;цифра&gt;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- &lt;цифра&gt;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4&lt;цифра&gt;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6622920" y="2565360"/>
            <a:ext cx="792360" cy="71928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5759280" y="3430440"/>
            <a:ext cx="792360" cy="71928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6"/>
          <p:cNvSpPr/>
          <p:nvPr/>
        </p:nvSpPr>
        <p:spPr>
          <a:xfrm>
            <a:off x="7486560" y="3430440"/>
            <a:ext cx="792360" cy="71928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б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6622920" y="4294080"/>
            <a:ext cx="792360" cy="71928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8"/>
          <p:cNvSpPr/>
          <p:nvPr/>
        </p:nvSpPr>
        <p:spPr>
          <a:xfrm>
            <a:off x="8352000" y="4294080"/>
            <a:ext cx="792000" cy="71928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б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7486560" y="5157720"/>
            <a:ext cx="792360" cy="71928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0"/>
          <p:cNvSpPr/>
          <p:nvPr/>
        </p:nvSpPr>
        <p:spPr>
          <a:xfrm flipH="1">
            <a:off x="6407280" y="314172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1"/>
          <p:cNvSpPr/>
          <p:nvPr/>
        </p:nvSpPr>
        <p:spPr>
          <a:xfrm flipH="1">
            <a:off x="7270920" y="400680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"/>
          <p:cNvSpPr/>
          <p:nvPr/>
        </p:nvSpPr>
        <p:spPr>
          <a:xfrm flipH="1">
            <a:off x="8133840" y="4870440"/>
            <a:ext cx="287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"/>
          <p:cNvSpPr/>
          <p:nvPr/>
        </p:nvSpPr>
        <p:spPr>
          <a:xfrm>
            <a:off x="7342200" y="3141720"/>
            <a:ext cx="2890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4"/>
          <p:cNvSpPr/>
          <p:nvPr/>
        </p:nvSpPr>
        <p:spPr>
          <a:xfrm>
            <a:off x="8207280" y="4006800"/>
            <a:ext cx="2890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5"/>
          <p:cNvSpPr/>
          <p:nvPr/>
        </p:nvSpPr>
        <p:spPr>
          <a:xfrm flipH="1">
            <a:off x="5543640" y="400680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6"/>
          <p:cNvSpPr/>
          <p:nvPr/>
        </p:nvSpPr>
        <p:spPr>
          <a:xfrm flipH="1">
            <a:off x="6407280" y="48704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7"/>
          <p:cNvSpPr/>
          <p:nvPr/>
        </p:nvSpPr>
        <p:spPr>
          <a:xfrm flipH="1">
            <a:off x="7270920" y="573408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5327640" y="42940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612000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6985440" y="602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7596360" y="1700280"/>
            <a:ext cx="1368360" cy="649080"/>
          </a:xfrm>
          <a:prstGeom prst="wedgeRoundRectCallout">
            <a:avLst>
              <a:gd name="adj1" fmla="val -57782"/>
              <a:gd name="adj2" fmla="val 9199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б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рамматический разбор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355640" y="3500280"/>
            <a:ext cx="45370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ходящий – от символов или лексем языка к понятиям (понятиям более высокого порядка, аксиом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исходящий – от понятия (понятия более высокого порядка, аксиомы) к символам или лексемам язы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E1B9-BA61-47CC-82DB-427488AE87A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5580000" y="1413000"/>
            <a:ext cx="201636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ммат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4284720" y="2492280"/>
            <a:ext cx="201600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ходя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23"/>
          <p:cNvSpPr/>
          <p:nvPr/>
        </p:nvSpPr>
        <p:spPr>
          <a:xfrm>
            <a:off x="6877080" y="2492280"/>
            <a:ext cx="2016000" cy="64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сходя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4"/>
          <p:cNvSpPr/>
          <p:nvPr/>
        </p:nvSpPr>
        <p:spPr>
          <a:xfrm flipH="1">
            <a:off x="5292720" y="2060640"/>
            <a:ext cx="7192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5"/>
          <p:cNvSpPr/>
          <p:nvPr/>
        </p:nvSpPr>
        <p:spPr>
          <a:xfrm>
            <a:off x="7236000" y="2060640"/>
            <a:ext cx="6490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4"/>
          <p:cNvSpPr/>
          <p:nvPr/>
        </p:nvSpPr>
        <p:spPr>
          <a:xfrm>
            <a:off x="1476360" y="1125360"/>
            <a:ext cx="792000" cy="71928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5"/>
          <p:cNvSpPr/>
          <p:nvPr/>
        </p:nvSpPr>
        <p:spPr>
          <a:xfrm>
            <a:off x="612720" y="1990800"/>
            <a:ext cx="792360" cy="71892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6"/>
          <p:cNvSpPr/>
          <p:nvPr/>
        </p:nvSpPr>
        <p:spPr>
          <a:xfrm>
            <a:off x="2340000" y="1990800"/>
            <a:ext cx="792000" cy="71892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б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7"/>
          <p:cNvSpPr/>
          <p:nvPr/>
        </p:nvSpPr>
        <p:spPr>
          <a:xfrm>
            <a:off x="1476360" y="2854440"/>
            <a:ext cx="792000" cy="71892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8"/>
          <p:cNvSpPr/>
          <p:nvPr/>
        </p:nvSpPr>
        <p:spPr>
          <a:xfrm>
            <a:off x="3205080" y="2854440"/>
            <a:ext cx="792360" cy="71892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б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9"/>
          <p:cNvSpPr/>
          <p:nvPr/>
        </p:nvSpPr>
        <p:spPr>
          <a:xfrm>
            <a:off x="2340000" y="3718080"/>
            <a:ext cx="792000" cy="71892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ф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0"/>
          <p:cNvSpPr/>
          <p:nvPr/>
        </p:nvSpPr>
        <p:spPr>
          <a:xfrm flipH="1">
            <a:off x="1260360" y="170172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1"/>
          <p:cNvSpPr/>
          <p:nvPr/>
        </p:nvSpPr>
        <p:spPr>
          <a:xfrm flipH="1">
            <a:off x="2124000" y="256716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 flipH="1">
            <a:off x="2987640" y="34304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2195640" y="1701720"/>
            <a:ext cx="28872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3060720" y="2567160"/>
            <a:ext cx="2890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5"/>
          <p:cNvSpPr/>
          <p:nvPr/>
        </p:nvSpPr>
        <p:spPr>
          <a:xfrm flipH="1">
            <a:off x="396360" y="2567160"/>
            <a:ext cx="287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"/>
          <p:cNvSpPr/>
          <p:nvPr/>
        </p:nvSpPr>
        <p:spPr>
          <a:xfrm flipH="1">
            <a:off x="1260360" y="34304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7"/>
          <p:cNvSpPr/>
          <p:nvPr/>
        </p:nvSpPr>
        <p:spPr>
          <a:xfrm flipH="1">
            <a:off x="2124000" y="429408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8"/>
          <p:cNvSpPr/>
          <p:nvPr/>
        </p:nvSpPr>
        <p:spPr>
          <a:xfrm>
            <a:off x="180720" y="28544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9"/>
          <p:cNvSpPr/>
          <p:nvPr/>
        </p:nvSpPr>
        <p:spPr>
          <a:xfrm>
            <a:off x="973440" y="371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20"/>
          <p:cNvSpPr/>
          <p:nvPr/>
        </p:nvSpPr>
        <p:spPr>
          <a:xfrm>
            <a:off x="1838520" y="458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FC7F-7323-41FF-8F1C-2DB7517EBD7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6160" y="209160"/>
            <a:ext cx="86374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Левосторонний нисходящий грамматический разб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3640" y="907560"/>
            <a:ext cx="85690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Разобрать строку «-45» по правилам грамма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целое&gt; ::= &lt;знак&gt;&lt;целое без знака&gt;|&lt;целое без знака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целое без знака&gt; ::= &lt;цифра&gt;&lt;целое без знака&gt;|&lt;цифра&gt;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цифра &gt; ::= 0|1|2|3|4|5|6|7|8|9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&lt;знак&gt; ::= +| -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ьтернативные правила нумеруем буквами а, б, в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дея разб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ервый символ правила – терминальный, т.е. символ алфавита, и он совпадает с первым символом  распознаваемой строки, то символ считается распознанным и удаляется из стека и строки. Если терминалы не совпадают, то ищем альтернативу ближайшему правилу и производим его заме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первый символ правила – нетерминал, то заменяем его на первое из правил, его определяющ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так дале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8"/>
          <p:cNvSpPr/>
          <p:nvPr/>
        </p:nvSpPr>
        <p:spPr>
          <a:xfrm>
            <a:off x="6948360" y="2492280"/>
            <a:ext cx="1871640" cy="576360"/>
          </a:xfrm>
          <a:prstGeom prst="wedgeRoundRectCallout">
            <a:avLst>
              <a:gd name="adj1" fmla="val -120518"/>
              <a:gd name="adj2" fmla="val -116152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авосторонняя рекур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5821-027D-41CF-97F8-646DF8DF47B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820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грамматического разб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4"/>
          <p:cNvGraphicFramePr/>
          <p:nvPr/>
        </p:nvGraphicFramePr>
        <p:xfrm>
          <a:off x="-541440" y="907920"/>
          <a:ext cx="8428320" cy="634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41440" y="907920"/>
                    <a:ext cx="8428320" cy="63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Arc 137"/>
          <p:cNvSpPr/>
          <p:nvPr/>
        </p:nvSpPr>
        <p:spPr>
          <a:xfrm>
            <a:off x="6084720" y="4365720"/>
            <a:ext cx="648000" cy="358560"/>
          </a:xfrm>
          <a:custGeom>
            <a:avLst/>
            <a:gdLst/>
            <a:ahLst/>
            <a:rect l="l" t="t" r="r" b="b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rc 137"/>
          <p:cNvSpPr/>
          <p:nvPr/>
        </p:nvSpPr>
        <p:spPr>
          <a:xfrm>
            <a:off x="6012000" y="3357720"/>
            <a:ext cx="936360" cy="1871640"/>
          </a:xfrm>
          <a:custGeom>
            <a:avLst/>
            <a:gdLst>
              <a:gd name="textAreaLeft" fmla="*/ 0 w 936360"/>
              <a:gd name="textAreaRight" fmla="*/ 936720 w 936360"/>
              <a:gd name="textAreaTop" fmla="*/ 0 h 1871640"/>
              <a:gd name="textAreaBottom" fmla="*/ 1872000 h 187164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rc 137"/>
          <p:cNvSpPr/>
          <p:nvPr/>
        </p:nvSpPr>
        <p:spPr>
          <a:xfrm>
            <a:off x="6084720" y="2637000"/>
            <a:ext cx="358920" cy="504720"/>
          </a:xfrm>
          <a:custGeom>
            <a:avLst/>
            <a:gdLst>
              <a:gd name="textAreaLeft" fmla="*/ 0 w 358920"/>
              <a:gd name="textAreaRight" fmla="*/ 359280 w 3589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rc 137"/>
          <p:cNvSpPr/>
          <p:nvPr/>
        </p:nvSpPr>
        <p:spPr>
          <a:xfrm>
            <a:off x="6084720" y="3645000"/>
            <a:ext cx="358920" cy="504720"/>
          </a:xfrm>
          <a:custGeom>
            <a:avLst/>
            <a:gdLst>
              <a:gd name="textAreaLeft" fmla="*/ 0 w 358920"/>
              <a:gd name="textAreaRight" fmla="*/ 359280 w 3589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rc 137"/>
          <p:cNvSpPr/>
          <p:nvPr/>
        </p:nvSpPr>
        <p:spPr>
          <a:xfrm>
            <a:off x="6084720" y="5229360"/>
            <a:ext cx="358920" cy="288720"/>
          </a:xfrm>
          <a:custGeom>
            <a:avLst/>
            <a:gdLst>
              <a:gd name="textAreaLeft" fmla="*/ 0 w 358920"/>
              <a:gd name="textAreaRight" fmla="*/ 359280 w 3589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rc 137"/>
          <p:cNvSpPr/>
          <p:nvPr/>
        </p:nvSpPr>
        <p:spPr>
          <a:xfrm>
            <a:off x="6084720" y="5732640"/>
            <a:ext cx="358920" cy="576000"/>
          </a:xfrm>
          <a:custGeom>
            <a:avLst/>
            <a:gdLst>
              <a:gd name="textAreaLeft" fmla="*/ 0 w 358920"/>
              <a:gd name="textAreaRight" fmla="*/ 359280 w 35892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8"/>
          <p:cNvSpPr/>
          <p:nvPr/>
        </p:nvSpPr>
        <p:spPr>
          <a:xfrm>
            <a:off x="6659640" y="981000"/>
            <a:ext cx="2305080" cy="1152720"/>
          </a:xfrm>
          <a:prstGeom prst="wedgeRoundRectCallout">
            <a:avLst>
              <a:gd name="adj1" fmla="val -59624"/>
              <a:gd name="adj2" fmla="val 23893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ерными стрелками показаны смены правил  на альтернатив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8"/>
          <p:cNvSpPr/>
          <p:nvPr/>
        </p:nvSpPr>
        <p:spPr>
          <a:xfrm>
            <a:off x="7093080" y="2781360"/>
            <a:ext cx="2050920" cy="2448000"/>
          </a:xfrm>
          <a:prstGeom prst="wedgeRoundRectCallout">
            <a:avLst>
              <a:gd name="adj1" fmla="val -68060"/>
              <a:gd name="adj2" fmla="val 21379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асные стрелки показывают воз-враты, требую-щие сменить правило преды-дущих уровней, что требует сох-ранения истории разб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rc 137"/>
          <p:cNvSpPr/>
          <p:nvPr/>
        </p:nvSpPr>
        <p:spPr>
          <a:xfrm>
            <a:off x="6084720" y="1628640"/>
            <a:ext cx="358920" cy="432000"/>
          </a:xfrm>
          <a:custGeom>
            <a:avLst/>
            <a:gdLst>
              <a:gd name="textAreaLeft" fmla="*/ 0 w 358920"/>
              <a:gd name="textAreaRight" fmla="*/ 359280 w 35892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rc 137"/>
          <p:cNvSpPr/>
          <p:nvPr/>
        </p:nvSpPr>
        <p:spPr>
          <a:xfrm>
            <a:off x="6084720" y="4724280"/>
            <a:ext cx="358920" cy="289080"/>
          </a:xfrm>
          <a:custGeom>
            <a:avLst/>
            <a:gdLst>
              <a:gd name="textAreaLeft" fmla="*/ 0 w 358920"/>
              <a:gd name="textAreaRight" fmla="*/ 359280 w 35892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8"/>
          <p:cNvSpPr/>
          <p:nvPr/>
        </p:nvSpPr>
        <p:spPr>
          <a:xfrm>
            <a:off x="6659640" y="5445000"/>
            <a:ext cx="2305080" cy="1152720"/>
          </a:xfrm>
          <a:prstGeom prst="wedgeRoundRectCallout">
            <a:avLst>
              <a:gd name="adj1" fmla="val -49462"/>
              <a:gd name="adj2" fmla="val 16342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враты вызваны неправильным выбором альтернатив 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CCAF-A70A-4370-B7D0-FDC5BE5FCAC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6868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Левосторонний восходящий грамматический разбо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229600" cy="59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Разобрать строку «-45», используя прав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елое&gt; ::= &lt;знак&gt;&lt;целое без знака&gt;|&lt;целое без знака&gt;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елое без знака&gt; ::= &lt;целое без знака&gt;&lt;цифра&gt;|&lt;цифра&gt;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цифра &gt; ::= 0|1|2|3|4|5|6|7|8|9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знак&gt; ::= +| -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дея мето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разборе строка просматривается слева направо и ищется часть, совпадающая с правой частью правила, – осно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818ff"/>
                </a:solidFill>
                <a:latin typeface="Arial"/>
              </a:rPr>
              <a:t>Основа</a:t>
            </a:r>
            <a:r>
              <a:rPr b="0" lang="ru-RU" sz="2000" spc="-1" strike="noStrike">
                <a:solidFill>
                  <a:srgbClr val="1818ff"/>
                </a:solidFill>
                <a:latin typeface="Arial"/>
              </a:rPr>
              <a:t> – последовательность символов, сворачиваемая на следующем шаге разбо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йденная основа заменяется левой частью соответствующего правила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довательность выбора основ определена алгоритм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ерный выбор основы приводит к необходимости возв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6875640" y="2060640"/>
            <a:ext cx="1942920" cy="647640"/>
          </a:xfrm>
          <a:prstGeom prst="wedgeRoundRectCallout">
            <a:avLst>
              <a:gd name="adj1" fmla="val -149888"/>
              <a:gd name="adj2" fmla="val -74587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евосторонняя рекурс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D8FA-B9BB-49E4-9285-EB5FCBAB6D2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6868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Левосторонний восходящий грамматический разбо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569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овательность получения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сентенциаль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орм при разбор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цифра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знак&gt; &lt;цбз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цбз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&lt;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&lt;цбз&gt;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знак&gt; &lt;цбз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 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цбз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&lt;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 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цбз&gt;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знак&gt; &lt;цбз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целое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2268360" y="2421000"/>
            <a:ext cx="1440000" cy="360360"/>
          </a:xfrm>
          <a:prstGeom prst="wedgeRoundRectCallout">
            <a:avLst>
              <a:gd name="adj1" fmla="val -89023"/>
              <a:gd name="adj2" fmla="val 1347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5"/>
          <p:cNvSpPr/>
          <p:nvPr/>
        </p:nvSpPr>
        <p:spPr>
          <a:xfrm>
            <a:off x="2843280" y="3284640"/>
            <a:ext cx="1439640" cy="360360"/>
          </a:xfrm>
          <a:prstGeom prst="wedgeRoundRectCallout">
            <a:avLst>
              <a:gd name="adj1" fmla="val -80064"/>
              <a:gd name="adj2" fmla="val -2441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3276720" y="4149720"/>
            <a:ext cx="1439640" cy="360360"/>
          </a:xfrm>
          <a:prstGeom prst="wedgeRoundRectCallout">
            <a:avLst>
              <a:gd name="adj1" fmla="val -108722"/>
              <a:gd name="adj2" fmla="val 2851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3635280" y="4869000"/>
            <a:ext cx="1440000" cy="360360"/>
          </a:xfrm>
          <a:prstGeom prst="wedgeRoundRectCallout">
            <a:avLst>
              <a:gd name="adj1" fmla="val -71833"/>
              <a:gd name="adj2" fmla="val -1822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8"/>
          <p:cNvSpPr/>
          <p:nvPr/>
        </p:nvSpPr>
        <p:spPr>
          <a:xfrm>
            <a:off x="5796000" y="4149720"/>
            <a:ext cx="2448000" cy="1008000"/>
          </a:xfrm>
          <a:prstGeom prst="wedgeRoundRectCallout">
            <a:avLst>
              <a:gd name="adj1" fmla="val -43722"/>
              <a:gd name="adj2" fmla="val 45930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враты возникают из-за неверного выбора осно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0"/>
          <p:cNvSpPr/>
          <p:nvPr/>
        </p:nvSpPr>
        <p:spPr>
          <a:xfrm>
            <a:off x="4427640" y="1484280"/>
            <a:ext cx="43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целое&gt; ::= &lt;знак&gt;&lt;ЦБЗ&gt;|&lt; ЦБЗ &gt;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ЦБЗ&gt; ::= &lt;ЦБЗ&gt;&lt;цифра&gt;|&lt;цифра&gt;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цифра &gt; ::= 0|1|2|3|4|5|6|7|8|9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знак&gt; ::= +|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D467-DE83-43D0-B05E-D9CB100EB09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.3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лассификация грамматик Хомск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ип 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мматики фразовой структуры или грамматики «без ограничений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β, где α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, β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– в таких грамматиках допустимо наличие любых правил вывода, что свойственно грамматикам естественных язы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ип 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контекстно-зависимые (неукорачивающие) грамма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β, где α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β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, | α |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| β | – в этих грамматиках для правил вида α 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β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α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β возможность подстановки строк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место символ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яется присутствием подстрок α и β, т. е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нтекс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что также свойственно грамматикам естественных язык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ип 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контекстно-свободные грамма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β, гд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β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 – поскольку в левой части правила стоит нетерминал, подстановки не зависят от контекс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ип 3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регулярные грамма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EAC0-E567-454C-82DC-0A217BE199B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ведение. Метод Рутисхауз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. Записать в полной скобочной форм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Сопоставить индек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Цикл-пока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’_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Если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 =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ли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 = &lt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операнд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то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:=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-1]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иначе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-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=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Все-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пределит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ндекс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1)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остроить трой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Удалить обработанные символы из выражения, результату сопоставить индекс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6403-26C7-4124-AB78-7EFA5E03AAF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2.4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спознавание регулярных грамматик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2.4.1 Конечный автом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820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δ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конечное множество состояни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ечное множество входных символ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δ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– функция переходов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текущее состояние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чередной символ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ачальное состоя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{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} – подмножество допускающих состоя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втомат «Чет-нечет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{Чет, Нечет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 {0, 1}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δ(Чет, 0) = Чет, δ(Нечет, 0) = Нече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δ(Чет, 1) = Нечет, δ(Нечет, 1) = Ч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Че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{Чет}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724360" y="3860640"/>
          <a:ext cx="2880000" cy="1152720"/>
        </p:xfrm>
        <a:graphic>
          <a:graphicData uri="http://schemas.openxmlformats.org/drawingml/2006/table">
            <a:tbl>
              <a:tblPr/>
              <a:tblGrid>
                <a:gridCol w="1028880"/>
                <a:gridCol w="952560"/>
                <a:gridCol w="898560"/>
              </a:tblGrid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Text Box 22"/>
          <p:cNvSpPr/>
          <p:nvPr/>
        </p:nvSpPr>
        <p:spPr>
          <a:xfrm>
            <a:off x="6013080" y="342900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блица пере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23"/>
          <p:cNvSpPr/>
          <p:nvPr/>
        </p:nvSpPr>
        <p:spPr>
          <a:xfrm>
            <a:off x="2465280" y="5919840"/>
            <a:ext cx="720720" cy="71892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4"/>
          <p:cNvSpPr/>
          <p:nvPr/>
        </p:nvSpPr>
        <p:spPr>
          <a:xfrm>
            <a:off x="3833640" y="5919840"/>
            <a:ext cx="720720" cy="71892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rc 25"/>
          <p:cNvSpPr/>
          <p:nvPr/>
        </p:nvSpPr>
        <p:spPr>
          <a:xfrm flipV="1">
            <a:off x="3041640" y="6495480"/>
            <a:ext cx="865080" cy="215640"/>
          </a:xfrm>
          <a:custGeom>
            <a:avLst/>
            <a:gdLst>
              <a:gd name="textAreaLeft" fmla="*/ 0 w 865080"/>
              <a:gd name="textAreaRight" fmla="*/ 865440 w 865080"/>
              <a:gd name="textAreaTop" fmla="*/ -360 h 215640"/>
              <a:gd name="textAreaBottom" fmla="*/ 215640 h 215640"/>
            </a:gdLst>
            <a:ahLst/>
            <a:rect l="textAreaLeft" t="textAreaTop" r="textAreaRight" b="textAreaBottom"/>
            <a:pathLst>
              <a:path fill="none" w="43074" h="21600">
                <a:moveTo>
                  <a:pt x="-1" y="19272"/>
                </a:moveTo>
                <a:cubicBezTo>
                  <a:pt x="1187" y="8308"/>
                  <a:pt x="10445" y="-1"/>
                  <a:pt x="21474" y="0"/>
                </a:cubicBezTo>
                <a:cubicBezTo>
                  <a:pt x="33403" y="0"/>
                  <a:pt x="43074" y="9670"/>
                  <a:pt x="43074" y="21600"/>
                </a:cubicBezTo>
              </a:path>
              <a:path stroke="0" w="43074" h="21600">
                <a:moveTo>
                  <a:pt x="-1" y="19272"/>
                </a:moveTo>
                <a:cubicBezTo>
                  <a:pt x="1187" y="8308"/>
                  <a:pt x="10445" y="-1"/>
                  <a:pt x="21474" y="0"/>
                </a:cubicBezTo>
                <a:cubicBezTo>
                  <a:pt x="33403" y="0"/>
                  <a:pt x="43074" y="9670"/>
                  <a:pt x="43074" y="21600"/>
                </a:cubicBezTo>
                <a:lnTo>
                  <a:pt x="21474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rc 26"/>
          <p:cNvSpPr/>
          <p:nvPr/>
        </p:nvSpPr>
        <p:spPr>
          <a:xfrm>
            <a:off x="3041640" y="5775480"/>
            <a:ext cx="865080" cy="215640"/>
          </a:xfrm>
          <a:custGeom>
            <a:avLst/>
            <a:gdLst>
              <a:gd name="textAreaLeft" fmla="*/ 0 w 865080"/>
              <a:gd name="textAreaRight" fmla="*/ 865440 w 8650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fill="none" w="43074" h="21600">
                <a:moveTo>
                  <a:pt x="-1" y="19272"/>
                </a:moveTo>
                <a:cubicBezTo>
                  <a:pt x="1187" y="8308"/>
                  <a:pt x="10445" y="-1"/>
                  <a:pt x="21474" y="0"/>
                </a:cubicBezTo>
                <a:cubicBezTo>
                  <a:pt x="33403" y="0"/>
                  <a:pt x="43074" y="9670"/>
                  <a:pt x="43074" y="21600"/>
                </a:cubicBezTo>
              </a:path>
              <a:path stroke="0" w="43074" h="21600">
                <a:moveTo>
                  <a:pt x="-1" y="19272"/>
                </a:moveTo>
                <a:cubicBezTo>
                  <a:pt x="1187" y="8308"/>
                  <a:pt x="10445" y="-1"/>
                  <a:pt x="21474" y="0"/>
                </a:cubicBezTo>
                <a:cubicBezTo>
                  <a:pt x="33403" y="0"/>
                  <a:pt x="43074" y="9670"/>
                  <a:pt x="43074" y="21600"/>
                </a:cubicBezTo>
                <a:lnTo>
                  <a:pt x="21474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3332520" y="628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3332520" y="5775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rc 29"/>
          <p:cNvSpPr/>
          <p:nvPr/>
        </p:nvSpPr>
        <p:spPr>
          <a:xfrm flipV="1">
            <a:off x="4410000" y="5990400"/>
            <a:ext cx="620640" cy="577800"/>
          </a:xfrm>
          <a:custGeom>
            <a:avLst/>
            <a:gdLst>
              <a:gd name="textAreaLeft" fmla="*/ 0 w 620640"/>
              <a:gd name="textAreaRight" fmla="*/ 621000 w 620640"/>
              <a:gd name="textAreaTop" fmla="*/ -360 h 577800"/>
              <a:gd name="textAreaBottom" fmla="*/ 577800 h 577800"/>
            </a:gdLst>
            <a:ahLst/>
            <a:rect l="textAreaLeft" t="textAreaTop" r="textAreaRight" b="textAreaBottom"/>
            <a:pathLst>
              <a:path fill="none" w="31065" h="43200">
                <a:moveTo>
                  <a:pt x="2718" y="1080"/>
                </a:moveTo>
                <a:cubicBezTo>
                  <a:pt x="4895" y="364"/>
                  <a:pt x="7173" y="-1"/>
                  <a:pt x="9465" y="0"/>
                </a:cubicBezTo>
                <a:cubicBezTo>
                  <a:pt x="21394" y="0"/>
                  <a:pt x="31065" y="9670"/>
                  <a:pt x="31065" y="21600"/>
                </a:cubicBezTo>
                <a:cubicBezTo>
                  <a:pt x="31065" y="33529"/>
                  <a:pt x="21394" y="43200"/>
                  <a:pt x="9465" y="43200"/>
                </a:cubicBezTo>
                <a:cubicBezTo>
                  <a:pt x="6185" y="43200"/>
                  <a:pt x="2948" y="42453"/>
                  <a:pt x="0" y="41015"/>
                </a:cubicBezTo>
              </a:path>
              <a:path stroke="0" w="31065" h="43200">
                <a:moveTo>
                  <a:pt x="2718" y="1080"/>
                </a:moveTo>
                <a:cubicBezTo>
                  <a:pt x="4895" y="364"/>
                  <a:pt x="7173" y="-1"/>
                  <a:pt x="9465" y="0"/>
                </a:cubicBezTo>
                <a:cubicBezTo>
                  <a:pt x="21394" y="0"/>
                  <a:pt x="31065" y="9670"/>
                  <a:pt x="31065" y="21600"/>
                </a:cubicBezTo>
                <a:cubicBezTo>
                  <a:pt x="31065" y="33529"/>
                  <a:pt x="21394" y="43200"/>
                  <a:pt x="9465" y="43200"/>
                </a:cubicBezTo>
                <a:cubicBezTo>
                  <a:pt x="6185" y="43200"/>
                  <a:pt x="2948" y="42453"/>
                  <a:pt x="0" y="41015"/>
                </a:cubicBezTo>
                <a:lnTo>
                  <a:pt x="9465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627800" y="606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rc 31"/>
          <p:cNvSpPr/>
          <p:nvPr/>
        </p:nvSpPr>
        <p:spPr>
          <a:xfrm flipH="1" flipV="1">
            <a:off x="1890000" y="5990400"/>
            <a:ext cx="647640" cy="577800"/>
          </a:xfrm>
          <a:custGeom>
            <a:avLst/>
            <a:gdLst>
              <a:gd name="textAreaLeft" fmla="*/ -360 w 647640"/>
              <a:gd name="textAreaRight" fmla="*/ 647640 w 647640"/>
              <a:gd name="textAreaTop" fmla="*/ -360 h 577800"/>
              <a:gd name="textAreaBottom" fmla="*/ 577800 h 577800"/>
            </a:gdLst>
            <a:ahLst/>
            <a:rect l="textAreaLeft" t="textAreaTop" r="textAreaRight" b="textAreaBottom"/>
            <a:pathLst>
              <a:path fill="none" w="31065" h="43200">
                <a:moveTo>
                  <a:pt x="2718" y="1080"/>
                </a:moveTo>
                <a:cubicBezTo>
                  <a:pt x="4895" y="364"/>
                  <a:pt x="7173" y="-1"/>
                  <a:pt x="9465" y="0"/>
                </a:cubicBezTo>
                <a:cubicBezTo>
                  <a:pt x="21394" y="0"/>
                  <a:pt x="31065" y="9670"/>
                  <a:pt x="31065" y="21600"/>
                </a:cubicBezTo>
                <a:cubicBezTo>
                  <a:pt x="31065" y="33529"/>
                  <a:pt x="21394" y="43200"/>
                  <a:pt x="9465" y="43200"/>
                </a:cubicBezTo>
                <a:cubicBezTo>
                  <a:pt x="6185" y="43200"/>
                  <a:pt x="2948" y="42453"/>
                  <a:pt x="0" y="41015"/>
                </a:cubicBezTo>
              </a:path>
              <a:path stroke="0" w="31065" h="43200">
                <a:moveTo>
                  <a:pt x="2718" y="1080"/>
                </a:moveTo>
                <a:cubicBezTo>
                  <a:pt x="4895" y="364"/>
                  <a:pt x="7173" y="-1"/>
                  <a:pt x="9465" y="0"/>
                </a:cubicBezTo>
                <a:cubicBezTo>
                  <a:pt x="21394" y="0"/>
                  <a:pt x="31065" y="9670"/>
                  <a:pt x="31065" y="21600"/>
                </a:cubicBezTo>
                <a:cubicBezTo>
                  <a:pt x="31065" y="33529"/>
                  <a:pt x="21394" y="43200"/>
                  <a:pt x="9465" y="43200"/>
                </a:cubicBezTo>
                <a:cubicBezTo>
                  <a:pt x="6185" y="43200"/>
                  <a:pt x="2948" y="42453"/>
                  <a:pt x="0" y="41015"/>
                </a:cubicBezTo>
                <a:lnTo>
                  <a:pt x="9465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2"/>
          <p:cNvSpPr/>
          <p:nvPr/>
        </p:nvSpPr>
        <p:spPr>
          <a:xfrm flipH="1">
            <a:off x="1963440" y="606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430880" y="573408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аф пере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34"/>
          <p:cNvSpPr/>
          <p:nvPr/>
        </p:nvSpPr>
        <p:spPr>
          <a:xfrm>
            <a:off x="7524720" y="5516640"/>
            <a:ext cx="358920" cy="36036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35"/>
          <p:cNvSpPr/>
          <p:nvPr/>
        </p:nvSpPr>
        <p:spPr>
          <a:xfrm>
            <a:off x="6948360" y="5948280"/>
            <a:ext cx="358920" cy="36036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36"/>
          <p:cNvSpPr/>
          <p:nvPr/>
        </p:nvSpPr>
        <p:spPr>
          <a:xfrm>
            <a:off x="8172360" y="5948280"/>
            <a:ext cx="358920" cy="36036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37"/>
          <p:cNvSpPr/>
          <p:nvPr/>
        </p:nvSpPr>
        <p:spPr>
          <a:xfrm>
            <a:off x="7524720" y="6237360"/>
            <a:ext cx="358920" cy="360360"/>
          </a:xfrm>
          <a:prstGeom prst="octagon">
            <a:avLst>
              <a:gd name="adj" fmla="val 2928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38"/>
          <p:cNvSpPr/>
          <p:nvPr/>
        </p:nvSpPr>
        <p:spPr>
          <a:xfrm>
            <a:off x="6588000" y="666900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39"/>
          <p:cNvSpPr/>
          <p:nvPr/>
        </p:nvSpPr>
        <p:spPr>
          <a:xfrm flipH="1">
            <a:off x="7308360" y="6093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40"/>
          <p:cNvSpPr/>
          <p:nvPr/>
        </p:nvSpPr>
        <p:spPr>
          <a:xfrm flipH="1" flipV="1">
            <a:off x="8459280" y="6237000"/>
            <a:ext cx="289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1"/>
          <p:cNvSpPr/>
          <p:nvPr/>
        </p:nvSpPr>
        <p:spPr>
          <a:xfrm flipH="1">
            <a:off x="6732720" y="6261120"/>
            <a:ext cx="263520" cy="4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42"/>
          <p:cNvSpPr/>
          <p:nvPr/>
        </p:nvSpPr>
        <p:spPr>
          <a:xfrm flipV="1">
            <a:off x="7451640" y="5820840"/>
            <a:ext cx="162000" cy="2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43"/>
          <p:cNvSpPr/>
          <p:nvPr/>
        </p:nvSpPr>
        <p:spPr>
          <a:xfrm>
            <a:off x="7788240" y="5848200"/>
            <a:ext cx="168480" cy="2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44"/>
          <p:cNvSpPr/>
          <p:nvPr/>
        </p:nvSpPr>
        <p:spPr>
          <a:xfrm flipH="1">
            <a:off x="7380000" y="6453360"/>
            <a:ext cx="144360" cy="21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45"/>
          <p:cNvSpPr/>
          <p:nvPr/>
        </p:nvSpPr>
        <p:spPr>
          <a:xfrm flipH="1" flipV="1">
            <a:off x="7883280" y="6453000"/>
            <a:ext cx="144360" cy="21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6"/>
          <p:cNvSpPr/>
          <p:nvPr/>
        </p:nvSpPr>
        <p:spPr>
          <a:xfrm>
            <a:off x="5918040" y="5157720"/>
            <a:ext cx="32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таксическая диа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125E-5A1F-4FB9-9399-E1A9C12B130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ная реализация конечного автом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25600" y="2884320"/>
            <a:ext cx="8229600" cy="37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: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икл-пок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«Ошибка» и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«Конец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-цик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«Конец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 «Строка приня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аче «Строка отвергнут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-ес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187280" y="981000"/>
          <a:ext cx="6769440" cy="1673280"/>
        </p:xfrm>
        <a:graphic>
          <a:graphicData uri="http://schemas.openxmlformats.org/drawingml/2006/table">
            <a:tbl>
              <a:tblPr/>
              <a:tblGrid>
                <a:gridCol w="1354320"/>
                <a:gridCol w="1353960"/>
                <a:gridCol w="1352880"/>
                <a:gridCol w="1353960"/>
                <a:gridCol w="135432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ерш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ч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ч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ч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шиб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C96A-0DDB-4D8E-B543-E79D88384F9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.4.2 Лексические анализато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9152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спознаватель целых чисе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4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416720" cy="129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8" name=""/>
          <p:cNvGraphicFramePr/>
          <p:nvPr/>
        </p:nvGraphicFramePr>
        <p:xfrm>
          <a:off x="250920" y="3716280"/>
          <a:ext cx="4897440" cy="2260800"/>
        </p:xfrm>
        <a:graphic>
          <a:graphicData uri="http://schemas.openxmlformats.org/drawingml/2006/table">
            <a:tbl>
              <a:tblPr/>
              <a:tblGrid>
                <a:gridCol w="936360"/>
                <a:gridCol w="924120"/>
                <a:gridCol w="909720"/>
                <a:gridCol w="1149120"/>
                <a:gridCol w="978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-я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ф-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-л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 А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А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D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А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D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D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, A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А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, A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D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Text Box 37"/>
          <p:cNvSpPr/>
          <p:nvPr/>
        </p:nvSpPr>
        <p:spPr>
          <a:xfrm>
            <a:off x="5219640" y="2852640"/>
            <a:ext cx="392436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0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нициализация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ое := 0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к_числа := «+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1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Знак_числа := Зн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2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ое := Целое*10 + Циф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3: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Ес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нак_числа = «-»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ое := -Цел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Все-ес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1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«Строка не является  числом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2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«Два знака рядом»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3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«В строке отсутствуют цифры»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4: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В строке встречаются недопустимые символ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3EAB-D9B7-4507-846E-7A9611688D5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познаватель целых чис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50560" y="952560"/>
            <a:ext cx="84358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олни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кл-пок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 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= «+»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= «-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аче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«0»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«9»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j :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ач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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РАЗДЕЛ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ач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j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полни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i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].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5148360" y="1052640"/>
            <a:ext cx="3992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= «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 Выполни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ести «Это число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аче Вывести сообщ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-ес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5219640" y="4383000"/>
          <a:ext cx="3924360" cy="2071800"/>
        </p:xfrm>
        <a:graphic>
          <a:graphicData uri="http://schemas.openxmlformats.org/drawingml/2006/table">
            <a:tbl>
              <a:tblPr/>
              <a:tblGrid>
                <a:gridCol w="934920"/>
                <a:gridCol w="714600"/>
                <a:gridCol w="668160"/>
                <a:gridCol w="870120"/>
                <a:gridCol w="736560"/>
              </a:tblGrid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я-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ф-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де-ли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-г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 А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А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А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, A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 А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,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, 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2127-EDDE-4BDF-907E-E193052FA4A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.4.3 Синтаксические анализатор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713800" cy="52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таксический анализатор списка описания целых скаляров, массивов и функций, например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xaf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22[5]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rr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2][4]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u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(), *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V,V[N],V[N][N],V[N],V(),*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4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5184720" cy="194472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5"/>
          <p:cNvSpPr/>
          <p:nvPr/>
        </p:nvSpPr>
        <p:spPr>
          <a:xfrm>
            <a:off x="250920" y="4076640"/>
            <a:ext cx="525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*  (  )  [  ]  ,  ;  Друг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1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3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2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2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3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3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4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6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1  К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4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5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5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1  К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6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7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7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8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8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6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1  К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5580000" y="2133720"/>
            <a:ext cx="356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означени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идентификатор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– целочисленная констан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ужебные символы: «[ ] ( ) , ; *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7"/>
          <p:cNvSpPr/>
          <p:nvPr/>
        </p:nvSpPr>
        <p:spPr>
          <a:xfrm>
            <a:off x="177840" y="4363920"/>
            <a:ext cx="4984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8"/>
          <p:cNvSpPr/>
          <p:nvPr/>
        </p:nvSpPr>
        <p:spPr>
          <a:xfrm flipV="1">
            <a:off x="609480" y="4220640"/>
            <a:ext cx="0" cy="23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1" dur="indefinite" restart="never" nodeType="tmRoot">
          <p:childTnLst>
            <p:seq>
              <p:cTn id="1242" dur="indefinite" nodeType="mainSeq">
                <p:childTnLst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D816-C1C3-42EF-9CF5-335EF7572A3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лгоритм анализа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кл-пок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Е» 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, «VN*()[];»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«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 Вывести сообщение «Да»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аче Вывести сообщение «Нет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, «VN*()[];»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позиция (номер столбца таблицы) очередного символа в строке символов или 0, если это «другой» симв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9" dur="indefinite" restart="never" nodeType="tmRoot">
          <p:childTnLst>
            <p:seq>
              <p:cTn id="1320" dur="indefinite" nodeType="mainSeq">
                <p:childTnLst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8BB6-E069-4099-92E7-F8815C5B13A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7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.5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аспознавание КС-грамматик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.5.1 Автомат с магазинной память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131256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Г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конечное множество состояний автома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ечный входной алфави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 – конечное множество магазинных символ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j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– функция переход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 начальное состояние автома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 – символ, находящийся в магазине в начальный момен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множество заключительных (допускающих) состоя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5" dur="indefinite" restart="never" nodeType="tmRoot">
          <p:childTnLst>
            <p:seq>
              <p:cTn id="1366" dur="indefinite" nodeType="mainSeq">
                <p:childTnLst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67E7-475F-49F0-B668-62ED2C81239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нтаксические диаграммы выра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0" y="836640"/>
            <a:ext cx="896472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интаксический анализатор выраж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{&lt;Ид&gt;, +, –, *,  /, (, ), ◄, ►}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ример: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* (B + C) + (D + F) / (A + B) - C *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Object 4"/>
          <p:cNvGraphicFramePr/>
          <p:nvPr/>
        </p:nvGraphicFramePr>
        <p:xfrm>
          <a:off x="1258920" y="2565360"/>
          <a:ext cx="6261120" cy="37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565360"/>
                    <a:ext cx="6261120" cy="37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672D-EB40-44BB-B3AC-B403CF45062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единенная синтаксическая диа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56908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9F84-8311-4B28-BDAD-3C183CFE487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блица переходов автома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Object 3"/>
          <p:cNvGraphicFramePr/>
          <p:nvPr/>
        </p:nvGraphicFramePr>
        <p:xfrm>
          <a:off x="-1405080" y="1052640"/>
          <a:ext cx="11809440" cy="580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405080" y="1052640"/>
                    <a:ext cx="1180944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17B0-DE3E-4FAD-850C-4BA4A83D68A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использования метода Рутисхаузера для разбора выра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82760" y="144756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.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(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S:      (  (  ( a +  b ) * c  ) + d )  /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:   0 1 2 3 4 3 4 3 2 3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2 1 0 1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:      (  ( T1 * c  ) + d )  /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:   0 1 2 3  2 3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2 1 0 1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:      ( T2 + d )  /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:   0 1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2 1 0 1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:      T3  /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  0 1  0  1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050920" y="3543480"/>
            <a:ext cx="1295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268360" y="2449440"/>
            <a:ext cx="1295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1763640" y="4653000"/>
            <a:ext cx="1295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1763640" y="5740560"/>
            <a:ext cx="93672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6372360" y="2421000"/>
            <a:ext cx="2087280" cy="5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 T1 = a+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6372360" y="3429000"/>
            <a:ext cx="2087280" cy="5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 T2 = T1*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6372360" y="4437000"/>
            <a:ext cx="2087280" cy="5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 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6372360" y="5516640"/>
            <a:ext cx="2087280" cy="5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 T4 = T3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E9CE-7DFA-4CEB-9CD4-CE8EF15A2A5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9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лгоритм распознава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58720" y="69840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g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кл-пок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 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]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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]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аче Есл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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ач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«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«Строка приня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аче «Строка отвергну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5" dur="indefinite" restart="never" nodeType="tmRoot">
          <p:childTnLst>
            <p:seq>
              <p:cTn id="1416" dur="indefinite" nodeType="mainSeq">
                <p:childTnLst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094A-E403-476B-B289-AAE0B8D98A7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820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2.5.2 Синтаксические анализаторы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L(k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мматик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восторонний нисходящий грамматический разб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Object 4"/>
          <p:cNvGraphicFramePr/>
          <p:nvPr/>
        </p:nvGraphicFramePr>
        <p:xfrm>
          <a:off x="-1179360" y="903240"/>
          <a:ext cx="9144000" cy="634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79360" y="903240"/>
                    <a:ext cx="9144000" cy="63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Arc 137"/>
          <p:cNvSpPr/>
          <p:nvPr/>
        </p:nvSpPr>
        <p:spPr>
          <a:xfrm>
            <a:off x="6084720" y="4437000"/>
            <a:ext cx="648000" cy="216000"/>
          </a:xfrm>
          <a:custGeom>
            <a:avLst/>
            <a:gdLst>
              <a:gd name="textAreaLeft" fmla="*/ 0 w 648000"/>
              <a:gd name="textAreaRight" fmla="*/ 648000 w 648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rc 137"/>
          <p:cNvSpPr/>
          <p:nvPr/>
        </p:nvSpPr>
        <p:spPr>
          <a:xfrm>
            <a:off x="6012000" y="3357720"/>
            <a:ext cx="936360" cy="1871640"/>
          </a:xfrm>
          <a:custGeom>
            <a:avLst/>
            <a:gdLst>
              <a:gd name="textAreaLeft" fmla="*/ 0 w 936360"/>
              <a:gd name="textAreaRight" fmla="*/ 936720 w 936360"/>
              <a:gd name="textAreaTop" fmla="*/ 0 h 1871640"/>
              <a:gd name="textAreaBottom" fmla="*/ 1872000 h 187164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rc 137"/>
          <p:cNvSpPr/>
          <p:nvPr/>
        </p:nvSpPr>
        <p:spPr>
          <a:xfrm>
            <a:off x="6084720" y="2637000"/>
            <a:ext cx="358920" cy="431640"/>
          </a:xfrm>
          <a:custGeom>
            <a:avLst/>
            <a:gdLst>
              <a:gd name="textAreaLeft" fmla="*/ 0 w 358920"/>
              <a:gd name="textAreaRight" fmla="*/ 359280 w 35892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rc 137"/>
          <p:cNvSpPr/>
          <p:nvPr/>
        </p:nvSpPr>
        <p:spPr>
          <a:xfrm>
            <a:off x="6084720" y="3645000"/>
            <a:ext cx="358920" cy="504720"/>
          </a:xfrm>
          <a:custGeom>
            <a:avLst/>
            <a:gdLst>
              <a:gd name="textAreaLeft" fmla="*/ 0 w 358920"/>
              <a:gd name="textAreaRight" fmla="*/ 359280 w 3589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rc 137"/>
          <p:cNvSpPr/>
          <p:nvPr/>
        </p:nvSpPr>
        <p:spPr>
          <a:xfrm>
            <a:off x="6084720" y="5229360"/>
            <a:ext cx="358920" cy="288720"/>
          </a:xfrm>
          <a:custGeom>
            <a:avLst/>
            <a:gdLst>
              <a:gd name="textAreaLeft" fmla="*/ 0 w 358920"/>
              <a:gd name="textAreaRight" fmla="*/ 359280 w 3589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rc 137"/>
          <p:cNvSpPr/>
          <p:nvPr/>
        </p:nvSpPr>
        <p:spPr>
          <a:xfrm>
            <a:off x="6084720" y="5805360"/>
            <a:ext cx="358920" cy="432000"/>
          </a:xfrm>
          <a:custGeom>
            <a:avLst/>
            <a:gdLst>
              <a:gd name="textAreaLeft" fmla="*/ 0 w 358920"/>
              <a:gd name="textAreaRight" fmla="*/ 359280 w 35892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rc 137"/>
          <p:cNvSpPr/>
          <p:nvPr/>
        </p:nvSpPr>
        <p:spPr>
          <a:xfrm>
            <a:off x="6084720" y="1628640"/>
            <a:ext cx="358920" cy="432000"/>
          </a:xfrm>
          <a:custGeom>
            <a:avLst/>
            <a:gdLst>
              <a:gd name="textAreaLeft" fmla="*/ 0 w 358920"/>
              <a:gd name="textAreaRight" fmla="*/ 359280 w 35892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rc 137"/>
          <p:cNvSpPr/>
          <p:nvPr/>
        </p:nvSpPr>
        <p:spPr>
          <a:xfrm>
            <a:off x="6084720" y="4724280"/>
            <a:ext cx="358920" cy="217440"/>
          </a:xfrm>
          <a:custGeom>
            <a:avLst/>
            <a:gdLst>
              <a:gd name="textAreaLeft" fmla="*/ 0 w 358920"/>
              <a:gd name="textAreaRight" fmla="*/ 359280 w 3589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fill="none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</a:path>
              <a:path stroke="0" w="26908" h="43200">
                <a:moveTo>
                  <a:pt x="5307" y="0"/>
                </a:moveTo>
                <a:cubicBezTo>
                  <a:pt x="17237" y="0"/>
                  <a:pt x="26908" y="9670"/>
                  <a:pt x="26908" y="21600"/>
                </a:cubicBezTo>
                <a:cubicBezTo>
                  <a:pt x="26908" y="-32007"/>
                  <a:pt x="17237" y="-22336"/>
                  <a:pt x="5308" y="-22336"/>
                </a:cubicBezTo>
                <a:cubicBezTo>
                  <a:pt x="3518" y="-22336"/>
                  <a:pt x="1735" y="-22559"/>
                  <a:pt x="0" y="-22999"/>
                </a:cubicBezTo>
                <a:lnTo>
                  <a:pt x="530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8"/>
          <p:cNvSpPr/>
          <p:nvPr/>
        </p:nvSpPr>
        <p:spPr>
          <a:xfrm>
            <a:off x="6659640" y="1341360"/>
            <a:ext cx="2305080" cy="1150920"/>
          </a:xfrm>
          <a:prstGeom prst="wedgeRoundRectCallout">
            <a:avLst>
              <a:gd name="adj1" fmla="val -49462"/>
              <a:gd name="adj2" fmla="val 16342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враты вызваны неправильным выбором альтернатив 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8"/>
          <p:cNvSpPr/>
          <p:nvPr/>
        </p:nvSpPr>
        <p:spPr>
          <a:xfrm>
            <a:off x="7164360" y="3429000"/>
            <a:ext cx="1871640" cy="1944720"/>
          </a:xfrm>
          <a:prstGeom prst="wedgeRoundRectCallout">
            <a:avLst>
              <a:gd name="adj1" fmla="val -49671"/>
              <a:gd name="adj2" fmla="val -19884"/>
              <a:gd name="adj3" fmla="val 16667"/>
            </a:avLst>
          </a:prstGeom>
          <a:solidFill>
            <a:srgbClr val="fb05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L(k)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рамматиках обеспечивается однозначный выбор прави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роцессе разб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9" dur="indefinite" restart="never" nodeType="tmRoot">
          <p:childTnLst>
            <p:seq>
              <p:cTn id="1490" dur="indefinite" nodeType="mainSeq">
                <p:childTnLst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4B52F-E425-44B0-8CB7-EC07F2D22D4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640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нтаксические анализатор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L(k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мматик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915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имер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а грамматика записи выраж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 &lt;Строка&gt; ::= &lt;Выр&gt;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&lt;Выр&gt; ::= &lt;Терм&gt; &lt;Слож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&lt;Слож&gt; ::=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e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| + &lt;Терм&gt; &lt;Слож&gt; |  - &lt;Терм&gt;&lt;Слож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) &lt;Терм&gt; ::= &lt;Множ&gt;&lt;Умн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&lt;Умн&gt; ::=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e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| *&lt;Множ&gt;&lt;Умн&gt; | / &lt;Множ&gt;&lt;Умн&g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&lt;Множ&gt; ::= &lt;Ид&gt; | (&lt;Выр&gt;)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Object 4"/>
          <p:cNvGraphicFramePr/>
          <p:nvPr/>
        </p:nvGraphicFramePr>
        <p:xfrm>
          <a:off x="-828720" y="3141720"/>
          <a:ext cx="10728360" cy="388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828720" y="3141720"/>
                    <a:ext cx="1072836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5" dur="indefinite" restart="never" nodeType="tmRoot">
          <p:childTnLst>
            <p:seq>
              <p:cTn id="1496" dur="indefinite" nodeType="mainSeq">
                <p:childTnLst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0DE1-721E-4FCE-9FF4-BB56F984097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тод рекурсивного спу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ы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Object 4"/>
          <p:cNvGraphicFramePr/>
          <p:nvPr/>
        </p:nvGraphicFramePr>
        <p:xfrm>
          <a:off x="539640" y="1773360"/>
          <a:ext cx="7561440" cy="452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773360"/>
                    <a:ext cx="7561440" cy="45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3B2F-4082-4C44-9098-0F5211235D3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лгоритм распознава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ункция Выраж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=Терм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к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=tru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NextSymbol =’+’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xtSymbol =’-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=Терм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-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жение: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ункция Тер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le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ж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к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=tru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NextSymbol =’*’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xtSymbol =’/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=Множ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-ц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: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D1C0-309E-4616-BD5E-482905A1DE8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лгоритм распознавателя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ункц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но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Boole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extSymbol =’(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=Выражение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Symbol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‘)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Ошибка 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ач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: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ая програм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=Выражение(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Symbol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‘◄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Ошибка 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-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7" dur="indefinite" restart="never" nodeType="tmRoot">
          <p:childTnLst>
            <p:seq>
              <p:cTn id="1598" dur="indefinite" nodeType="mainSeq">
                <p:childTnLst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A3B5-6B09-43C5-B2FD-ABFBB77C1AE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90741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ogram Compil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ourier New"/>
                <a:ea typeface="Courier New"/>
              </a:rPr>
              <a:t>{$APPTYPE CONSOLE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uses  SysUtil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 SetofChar=set of AnsiCha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Bukv:setofChar=['A'..'Z','a'..'z'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Cyfr:setofChar=['0'..'9'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Razd:setofChar=[' ','+','-','*','/',')'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St:shortstring; R:boolea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ulc(Var St:shortstring;Razd:setofChar):boolean;forwar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dure Error(St:shortstring); 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  <a:ea typeface="Courier New"/>
              </a:rPr>
              <a:t>{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  <a:ea typeface="Courier New"/>
              </a:rPr>
              <a:t>вывод сообщений об ошибках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      WriteLn('Error *** ', st, ' ***');  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edure Probel(Var St:shortstring); 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  <a:ea typeface="Courier New"/>
              </a:rPr>
              <a:t>{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  <a:ea typeface="Courier New"/>
              </a:rPr>
              <a:t>удаление пробелов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   While (St&lt;&gt;'') and (St[1]=' ') do Delete(St,1,1)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985F-EAC6-4EF1-9E2A-C2209326120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программы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Id(Var St:shortstring; Razd:setofChar):boolean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S:shortString; State,Ind,Col:by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TableId:array[1..2,1..4] of Byte=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(2,0,0,0),(2,2,10,0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be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 </a:t>
            </a:r>
            <a:r>
              <a:rPr b="1" lang="ru-RU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{процедура удаления пробелов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e:=1;   S:=''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State&lt;&gt;0) and (State&lt;&gt;10) and (Length(St)&lt;&gt;0)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St[1] in ['A'..'Z','a'..'z'] then Col: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 if St[1] in ['0'..'9'] then Col: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if (St[1] in Razd) then Col: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Col:=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e:=TableId[State,Col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5467-5267-442B-97B8-A001AE26DE3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программы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State&lt;&gt;0) and (State&lt;&gt;10) then 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{</a:t>
            </a:r>
            <a:r>
              <a:rPr b="1" lang="ru-RU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правильный символ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  S:=S+St[1];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Delete(St,1,1);  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length(st)=0 then State:=10; 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 {</a:t>
            </a:r>
            <a:r>
              <a:rPr b="1" lang="ru-RU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строка закончилась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State=10) and (S&lt;&gt;'') then   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{</a:t>
            </a:r>
            <a:r>
              <a:rPr b="1" lang="ru-RU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правильно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:=true;  WriteLn('Identify=',S);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State=0) the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{</a:t>
            </a:r>
            <a:r>
              <a:rPr b="1" lang="ru-RU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ошибка символа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:=fals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Ln('Wrong symbol *',St[1],'*');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{</a:t>
            </a:r>
            <a:r>
              <a:rPr b="1" lang="ru-RU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нет идентификатора</a:t>
            </a:r>
            <a:r>
              <a:rPr b="1" lang="en-US" sz="2000" spc="-1" strike="noStrike">
                <a:solidFill>
                  <a:srgbClr val="00b05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  Result:=fals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Ln('Identifier waits...', 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9608-B87F-479F-B282-DA6660B98B4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программы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ult(Var St:shortstring;Razd:setofChar):boole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R:boole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bel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St[1]='('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(St,1,1); Probel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:=Culc(St,Raz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bel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R and (St[1]=')')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(St,1,1) else Error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R:=Id(St,Raz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ult:=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945E2-52F6-41B1-84DE-E6498948026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1 Основные понятия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1.1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лассификация компилирующих програм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312560"/>
            <a:ext cx="82915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рансля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грамма, которая переводит програм-му, написанную на одном языке, в эквивалентную ей программу, написанную на другом язы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пиля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транслятор с языка высокого уровня на машинный язык или язык ассембл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ссембл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транслятор с языка Ассемблера на ма-шинный язы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нтерпрета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ограмма, которая принимает ис-ходную программу и выполняет ее, не создавая про-граммы на другом язы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крогенера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для компиляторов 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процесс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– программа, которая обрабатывает исходную про-грамму, как текст, и выполняет в нем замены ука-занных символов на подстроки. Макрогенератор обрабатывает программу до трансля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4108-25C2-4012-8747-076871A9D7A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программы (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erm(Var St:shortstring;Razd:setofChar):boole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R:boole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:=Mult(St,Raz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R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bel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(St[1]='*') or (St[1]='/')) and R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(St,1,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:=Mult(St,Raz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erm:=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FFF7-4F89-466D-BAEF-75BBD40F979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программы 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ulc(Var St:shortstring;Razd:setofChar):boole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 R:boole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:=Term(St,Raz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R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obel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(St[1]='+') or (St[1]='-')) and R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lete(St,1,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:=Term(St,Raz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ulc:=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5D36-EA48-4E16-B70E-B5908CD22ED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программы 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ln('Input Strings:'); Readln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:=tr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St&lt;&gt;'end') and R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:=Culc(St,Raz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R and (length(st)=0) then Writeln('Yes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Writeln('No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ln('Input Strings:'); Readln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ln('Press Enter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l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FFB2-0895-4566-89C2-25B05921690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ультат работы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 Strin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yy+(hjh-hj)*h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dentify=ty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dentify=hj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dentify=h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dentify=h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 Strin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96A7-18C5-43ED-8DF6-D58D532DA8A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2.5.3 Синтаксические анализатор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R(k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мматик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мматики предшеств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23640" y="1312560"/>
            <a:ext cx="8569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восторонний восходящий грамматический разбор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цифра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знак&gt; &lt;цбз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цбз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&lt;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&lt;цбз&gt;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знак&gt; &lt;цбз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 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цбз&gt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&lt;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ело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gt; 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знак&gt;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цбз&gt;&lt;цифра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&lt;знак&gt; &lt;цбз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целое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4"/>
          <p:cNvSpPr/>
          <p:nvPr/>
        </p:nvSpPr>
        <p:spPr>
          <a:xfrm>
            <a:off x="2195640" y="2897280"/>
            <a:ext cx="1439640" cy="360360"/>
          </a:xfrm>
          <a:prstGeom prst="wedgeRoundRectCallout">
            <a:avLst>
              <a:gd name="adj1" fmla="val -89023"/>
              <a:gd name="adj2" fmla="val 1347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2771640" y="3762360"/>
            <a:ext cx="1440000" cy="360360"/>
          </a:xfrm>
          <a:prstGeom prst="wedgeRoundRectCallout">
            <a:avLst>
              <a:gd name="adj1" fmla="val -80064"/>
              <a:gd name="adj2" fmla="val -2441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3203640" y="4626000"/>
            <a:ext cx="1439640" cy="360360"/>
          </a:xfrm>
          <a:prstGeom prst="wedgeRoundRectCallout">
            <a:avLst>
              <a:gd name="adj1" fmla="val -108722"/>
              <a:gd name="adj2" fmla="val 2851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7"/>
          <p:cNvSpPr/>
          <p:nvPr/>
        </p:nvSpPr>
        <p:spPr>
          <a:xfrm>
            <a:off x="3564000" y="5345280"/>
            <a:ext cx="1439640" cy="360360"/>
          </a:xfrm>
          <a:prstGeom prst="wedgeRoundRectCallout">
            <a:avLst>
              <a:gd name="adj1" fmla="val -71833"/>
              <a:gd name="adj2" fmla="val -18226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Тупик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8"/>
          <p:cNvSpPr/>
          <p:nvPr/>
        </p:nvSpPr>
        <p:spPr>
          <a:xfrm>
            <a:off x="5651640" y="3429000"/>
            <a:ext cx="2808000" cy="1152360"/>
          </a:xfrm>
          <a:prstGeom prst="wedgeRoundRectCallout">
            <a:avLst>
              <a:gd name="adj1" fmla="val -43722"/>
              <a:gd name="adj2" fmla="val 45930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враты возникают из-за неверного выбора осно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0"/>
          <p:cNvSpPr/>
          <p:nvPr/>
        </p:nvSpPr>
        <p:spPr>
          <a:xfrm>
            <a:off x="4356000" y="196200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целое&gt; ::= &lt;знак&gt;&lt;ЦБЗ&gt;|&lt; ЦБЗ &gt;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ЦБЗ&gt; ::= &lt;ЦБЗ&gt;&lt;цифра&gt;|&lt;цифра&gt;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цифра &gt; ::= 0|1|2|3|4|5|6|7|8|9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&lt;знак&gt; ::= +|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Скругленная прямоугольная выноска 11"/>
          <p:cNvSpPr/>
          <p:nvPr/>
        </p:nvSpPr>
        <p:spPr>
          <a:xfrm>
            <a:off x="5580000" y="4869000"/>
            <a:ext cx="2879640" cy="1584360"/>
          </a:xfrm>
          <a:prstGeom prst="wedgeRoundRectCallout">
            <a:avLst>
              <a:gd name="adj1" fmla="val -27384"/>
              <a:gd name="adj2" fmla="val 50111"/>
              <a:gd name="adj3" fmla="val 16667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ммати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R(k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еспечивают однозначный выбор осно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5" dur="indefinite" restart="never" nodeType="tmRoot">
          <p:childTnLst>
            <p:seq>
              <p:cTn id="1656" dur="indefinite" nodeType="mainSeq">
                <p:childTnLst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C1EAF-6977-4297-BB8D-F8E8760B90C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748720" cy="21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мматики предшеств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87200" y="981000"/>
            <a:ext cx="8956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ь задана некоторая произвольная строка – предложение язы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...αβ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два симво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и α, β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сположены рядом в сентенциальной форме, то между ними возможны следующие отношения, названные отношениями предшествова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 принадлежит основе, а β – нет, т. е. α – конец основы: α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gt; 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β принадлежит основе, а α – нет, т. е. β – начало основы: α &lt;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β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 и β принадлежит одной основе, т. е. α =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α и β не могут находиться рядом в сентенциальной форме (ошибк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мматикой предшествова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ывается грамматика, в которой из последовательности символов однозначно следует определение основ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мматикой операторного предшествова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зывается грамматика, в которой существует однозначное отношение предшествования терминальных символов, которое не зависит от нетерминальных символов, находящихся между н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1" dur="indefinite" restart="never" nodeType="tmRoot">
          <p:childTnLst>
            <p:seq>
              <p:cTn id="1662" dur="indefinite" nodeType="mainSeq">
                <p:childTnLst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ABA2-53A9-4077-9B45-4B8954715E4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троение таблицы предшес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24000" y="4365360"/>
            <a:ext cx="453528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+    ► A*    ►(A    ► A)    ►A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A+     +A*       +(A      +A)      +A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A+      *A*        *(A       *A )     *A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+       (A*       ((A        (A)       (A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+        A)*      A)(         A))      A)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Object 4"/>
          <p:cNvGraphicFramePr/>
          <p:nvPr/>
        </p:nvGraphicFramePr>
        <p:xfrm>
          <a:off x="4500720" y="3284640"/>
          <a:ext cx="13033080" cy="299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284640"/>
                    <a:ext cx="13033080" cy="29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Text Box 5"/>
          <p:cNvSpPr/>
          <p:nvPr/>
        </p:nvSpPr>
        <p:spPr>
          <a:xfrm>
            <a:off x="611280" y="2924280"/>
            <a:ext cx="2971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о основ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ец основ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- одна основ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ошиб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250920" y="260280"/>
            <a:ext cx="87138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рамматика арифметических выражен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левосторонней рекурсие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&lt;Выражение&gt;  ::= &lt;Терм&gt;|&lt;Выражение&gt;+&lt;Терм&gt;|&lt;Выражение&gt;- &lt;Терм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&lt;Терм&gt;  ::= &lt;Множитель&gt; | &lt;Терм&gt;* &lt;Множитель&gt; | &lt;Терм&gt; / &lt;Множитель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&lt;Множитель&gt; ::= (&lt;Выражение&gt;) | &lt;Идентификатор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9" dur="indefinite" restart="never" nodeType="tmRoot">
          <p:childTnLst>
            <p:seq>
              <p:cTn id="1700" dur="indefinite" nodeType="mainSeq">
                <p:childTnLst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7FBB-F3D7-4A4F-B27D-E43CC0AC4F8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 разбора выражения стековым мето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39640" y="764640"/>
            <a:ext cx="800280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Object 4"/>
          <p:cNvGraphicFramePr/>
          <p:nvPr/>
        </p:nvGraphicFramePr>
        <p:xfrm>
          <a:off x="0" y="1557360"/>
          <a:ext cx="9144000" cy="49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914400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7" dur="indefinite" restart="never" nodeType="tmRoot">
          <p:childTnLst>
            <p:seq>
              <p:cTn id="1758" dur="indefinite" nodeType="mainSeq">
                <p:childTnLst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9F54-D063-47DB-8811-AA0FEC8C556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08000" y="907920"/>
            <a:ext cx="9036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отать программу, осуществляющую лексический анализ идентификаторов и служебных слов, а также синтаксический анализ сравнений (не более одной операции сравнения вида =, &lt;&gt;, &gt;, &lt;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gt;=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=), выражений с операциями +,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*, / и скобками, операторов условной передачи управления и присваивания в синтаксисе языка Паскаль. Наприм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aaaa&gt;vvvv then j:=hhh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if h then ffff:=hhh+(ppp+yyy)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писание синтаксиса язы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:=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&gt; ; |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сваива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&gt; ::=if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|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сваива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:=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нтифик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=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ж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:=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нтифик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=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нтифик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|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нтифик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&gt;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нтифик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нтифик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&lt; 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дентифика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7" dur="indefinite" restart="never" nodeType="tmRoot">
          <p:childTnLst>
            <p:seq>
              <p:cTn id="1768" dur="indefinite" nodeType="mainSeq">
                <p:childTnLst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09AF-DC86-4D1E-89CE-E3AF2C946A1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ксический 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893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кены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_ – идентификатор - операн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@@ – пустой операнд – дополнительный токен, который позволяет при разборе считывать строго по два токена &lt;операнд-оператор&gt;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лужебное слов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лужебное слов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лужебное слов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_, &lt;_, =_, &lt;&gt;, &gt;=, &lt;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ции сравн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+_, -_, *_, /_, (_, )_ – операторы выра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= - служебное слово «присвоить»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_ - конец операт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примера, приведенного в задан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aaaa&gt;vvvv then j:=hhh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if h then ffff:=hhh+(ppp+yyy)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 работы сканера должен выглядеть т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@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if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&gt;</a:t>
            </a:r>
            <a:r>
              <a:rPr b="1" lang="ru-RU" sz="2000" spc="-1" strike="noStrike">
                <a:solidFill>
                  <a:srgbClr val="cc0000"/>
                </a:solidFill>
                <a:latin typeface="Courier New"/>
              </a:rPr>
              <a:t>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_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th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:=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e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@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if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th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:=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cc0000"/>
                </a:solidFill>
                <a:latin typeface="Courier New"/>
              </a:rPr>
              <a:t>*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_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@ </a:t>
            </a:r>
            <a:r>
              <a:rPr b="1" lang="ru-RU" sz="2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+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)_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;</a:t>
            </a:r>
            <a:r>
              <a:rPr b="1" lang="ru-RU" sz="2000" spc="-1" strike="noStrike">
                <a:solidFill>
                  <a:srgbClr val="cc0000"/>
                </a:solidFill>
                <a:latin typeface="Courier New"/>
              </a:rPr>
              <a:t>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3" dur="indefinite" restart="never" nodeType="tmRoot">
          <p:childTnLst>
            <p:seq>
              <p:cTn id="1814" dur="indefinite" nodeType="mainSeq">
                <p:childTnLst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8194-97DF-443C-8EE7-E686EA48DE6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675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1.2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труктура компилирующей программ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5690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интакси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совокупность правил, определяющих допустимые конструкции языка, т. е. его </a:t>
            </a:r>
            <a:r>
              <a:rPr b="0" i="1" lang="ru-RU" sz="2800" spc="-1" strike="noStrike">
                <a:solidFill>
                  <a:srgbClr val="0033cc"/>
                </a:solidFill>
                <a:latin typeface="Arial"/>
              </a:rPr>
              <a:t>форм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еманти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совокупность правил, определяющих логическое соответствие между элементами и значением синтаксически корректных предложений, т. е. </a:t>
            </a:r>
            <a:r>
              <a:rPr b="0" i="1" lang="ru-RU" sz="2800" spc="-1" strike="noStrike">
                <a:solidFill>
                  <a:srgbClr val="0033cc"/>
                </a:solidFill>
                <a:latin typeface="Arial"/>
              </a:rPr>
              <a:t>содерж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язы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9B4E-E294-4585-A147-666E24A41F4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блица предшес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реализации использовано следующее кодировани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начало основ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ередина основ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конец основ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скобк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 – выход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0 – ошиб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6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640720" cy="31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5438-D85B-4896-995A-FF9DBE0EF02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ксический 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 Strin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aaaa&gt;vvvv then j:=hhhh else if h the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fff:=hhh*(ppp+yy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lugeb slovo 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entify=aa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lugeb simbol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entify=vvv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lugeb slovo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entify=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Sc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@ifV &gt; V thV :=V el@@ifV thV :=V * @@( V + V 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5" dur="indefinite" restart="never" nodeType="tmRoot">
          <p:childTnLst>
            <p:seq>
              <p:cTn id="1876" dur="indefinite" nodeType="mainSeq">
                <p:childTnLst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fill="hold">
                      <p:stCondLst>
                        <p:cond delay="indefinite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DD49-F07B-4D94-874B-757FCD1D07F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ультат синтаксического ана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aaaa&gt;vvvv then j:=hhh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lse if h then ffff:=hhh+(ppp+yy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Sc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@ifV &gt; V thV :=V el@@ifV thV :=V * @@( V + V )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and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 &gt; 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ав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and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: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/ присваивание в ветви «да» внешнег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and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 + V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же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and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/ умножение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and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: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/ присваивание в ветви «да» вложенног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and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V thO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оженны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lse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ands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L thOpelO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шн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25" dur="indefinite" restart="never" nodeType="tmRoot">
          <p:childTnLst>
            <p:seq>
              <p:cTn id="1926" dur="indefinite" nodeType="mainSeq">
                <p:childTnLst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fill="hold">
                      <p:stCondLst>
                        <p:cond delay="indefinite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8DAA-CF9F-448F-9ED9-0BE11A1F526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803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.6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льская запись. Алгоритм Бауэра-Замельзон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d"/>
                </a:solidFill>
                <a:latin typeface="Arial"/>
              </a:rPr>
              <a:t>Польская запис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едставляет собой последовательность команд двух тип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идентификатор операнда – выбрать число по имен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заслать его в стек операнд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перация – выбрать два верхних числа из стека операндов, произвести над ними операцию </a:t>
            </a:r>
            <a:r>
              <a:rPr b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занести результат в стек операнд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+B*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5" dur="indefinite" restart="never" nodeType="tmRoot">
          <p:childTnLst>
            <p:seq>
              <p:cTn id="1976" dur="indefinite" nodeType="mainSeq">
                <p:childTnLst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BF50-34B3-4AA5-8915-111D168E38C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95280" y="171360"/>
            <a:ext cx="822960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лгоритм Бауэра-Замельзо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87440" y="7412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ение польской записи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если символ – операнд, то вырабатывается команда К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если символ – операция, то выполняются действия согласно таблиц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ции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заслать 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стек операций и читать следующий симво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генерироват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заслать </a:t>
            </a:r>
            <a:r>
              <a:rPr b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стек операций и читать следующий симво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удалить верхний символ из стека операций и читать следующий симво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генерироват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повторить с тем же входным символ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4" descr=""/>
          <p:cNvPicPr/>
          <p:nvPr/>
        </p:nvPicPr>
        <p:blipFill>
          <a:blip r:embed="rId1"/>
          <a:stretch/>
        </p:blipFill>
        <p:spPr>
          <a:xfrm>
            <a:off x="4232160" y="1844640"/>
            <a:ext cx="9936360" cy="26956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5" descr=""/>
          <p:cNvPicPr/>
          <p:nvPr/>
        </p:nvPicPr>
        <p:blipFill>
          <a:blip r:embed="rId2"/>
          <a:stretch/>
        </p:blipFill>
        <p:spPr>
          <a:xfrm>
            <a:off x="468360" y="2205000"/>
            <a:ext cx="11665080" cy="230364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6"/>
          <p:cNvSpPr/>
          <p:nvPr/>
        </p:nvSpPr>
        <p:spPr>
          <a:xfrm>
            <a:off x="2249640" y="1789200"/>
            <a:ext cx="29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7"/>
          <p:cNvSpPr/>
          <p:nvPr/>
        </p:nvSpPr>
        <p:spPr>
          <a:xfrm>
            <a:off x="253080" y="31417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7" dur="indefinite" restart="never" nodeType="tmRoot">
          <p:childTnLst>
            <p:seq>
              <p:cTn id="1998" dur="indefinite" nodeType="mainSeq">
                <p:childTnLst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fill="hold">
                      <p:stCondLst>
                        <p:cond delay="indefinite"/>
                      </p:stCondLst>
                      <p:childTnLst>
                        <p:par>
                          <p:cTn id="2008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fill="hold">
                      <p:stCondLst>
                        <p:cond delay="indefinite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92A5-D6DB-48C6-9E1F-35C60886AD6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роить тройки дл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/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ение польской запис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4" descr=""/>
          <p:cNvPicPr/>
          <p:nvPr/>
        </p:nvPicPr>
        <p:blipFill>
          <a:blip r:embed="rId1"/>
          <a:stretch/>
        </p:blipFill>
        <p:spPr>
          <a:xfrm>
            <a:off x="-1116000" y="1700280"/>
            <a:ext cx="8748720" cy="4632120"/>
          </a:xfrm>
          <a:prstGeom prst="rect">
            <a:avLst/>
          </a:prstGeom>
          <a:ln w="0">
            <a:noFill/>
          </a:ln>
        </p:spPr>
      </p:pic>
      <p:sp>
        <p:nvSpPr>
          <p:cNvPr id="443" name="Text Box 5"/>
          <p:cNvSpPr/>
          <p:nvPr/>
        </p:nvSpPr>
        <p:spPr>
          <a:xfrm>
            <a:off x="1878480" y="6165720"/>
            <a:ext cx="498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ил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*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5" dur="indefinite" restart="never" nodeType="tmRoot">
          <p:childTnLst>
            <p:seq>
              <p:cTn id="2046" dur="indefinite" nodeType="mainSeq">
                <p:childTnLst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D16D-A377-4F7F-9E5B-A4EA2986916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ение операций польской запис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4" descr=""/>
          <p:cNvPicPr/>
          <p:nvPr/>
        </p:nvPicPr>
        <p:blipFill>
          <a:blip r:embed="rId1"/>
          <a:stretch/>
        </p:blipFill>
        <p:spPr>
          <a:xfrm>
            <a:off x="-181080" y="1700280"/>
            <a:ext cx="9649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9" dur="indefinite" restart="never" nodeType="tmRoot">
          <p:childTnLst>
            <p:seq>
              <p:cTn id="2060" dur="indefinite" nodeType="mainSeq">
                <p:childTnLst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6A26-A5B0-4E75-8E05-F8423CDD20F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3 Распределение памяти под перемен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964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1360" indent="-441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татическое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яется в процессе компиляции или загрузки в память (для сегмента неинициированных данных), используется для хранения глобальных переменн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томатическ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выполняется при вызове подпрограмм, используется для локальных переменных, размещаемых в сте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управляем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выполняется по запросу программист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, delet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используется для динамических переменных, размещаемых в динамической памя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базированн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также выполняется по запросу программиста, но большими фрагментами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mem, freeme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за размещение переменных отвечает программист.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9" dur="indefinite" restart="never" nodeType="tmRoot">
          <p:childTnLst>
            <p:seq>
              <p:cTn id="2070" dur="indefinite" nodeType="mainSeq">
                <p:childTnLst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A93F-60AF-4A96-87DA-D8B8C3E25F9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4 Генерация код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нерация кодов – процесс замены распознанных конструкций на соответствующий заранее заготовленный фрагм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«заготовки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    AX, &lt;Op1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   AX, &lt;Op2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&l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gt;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ый подставляемый фрагмент автоматически настраивается по данным, находящимся в таблице разб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енная программа очень далека от оптимальной, поэтому осуществляется ее автоматическая оптимизация еще на уровне табл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7" dur="indefinite" restart="never" nodeType="tmRoot">
          <p:childTnLst>
            <p:seq>
              <p:cTn id="2088" dur="indefinite" nodeType="mainSeq">
                <p:childTnLst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fill="hold">
                      <p:stCondLst>
                        <p:cond delay="indefinite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fill="hold">
                      <p:stCondLst>
                        <p:cond delay="indefinite"/>
                      </p:stCondLst>
                      <p:childTnLst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fill="hold">
                      <p:stCondLst>
                        <p:cond delay="indefinite"/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B40A-2BAC-4AB3-A8F4-C44CD14B8B8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тимизация к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893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ются два критерия эффективности результирующей программы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714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рем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ения программ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714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ъем памя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еобходимый для выполнения про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бщем случае задача построения оптимального кода программы алгоритмически неразрешима. Основная оптимизация программы должна производится программист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зличают две группы метод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7144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ашинно-независима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тимизация вклю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исключение повторных вычислений одних и тех же операнд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выполнение операций над константами во время трансля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вынесение из циклов вычисления величин, не зависящих от параметров цикл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упрощение сложных логических выражений и т. п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27144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Машинно-зависима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тимизация вклю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исключение лишних передач данных типа «память-регистр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выб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ее эффективных команд т. 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E6CD-3E6A-4EF8-B11C-2AA0FC2C9D0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а процесса компиляц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692360" y="1052640"/>
            <a:ext cx="575928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ксический анал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1692360" y="2205000"/>
            <a:ext cx="575928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нтаксический анали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1692360" y="3357720"/>
            <a:ext cx="5759280" cy="57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мантический анали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692360" y="4581360"/>
            <a:ext cx="575928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ределение памя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1692360" y="5805360"/>
            <a:ext cx="5759280" cy="576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нерация и оптимизация объектного ко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>
            <a:off x="4572000" y="1628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9"/>
          <p:cNvSpPr/>
          <p:nvPr/>
        </p:nvSpPr>
        <p:spPr>
          <a:xfrm>
            <a:off x="4572000" y="278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0"/>
          <p:cNvSpPr/>
          <p:nvPr/>
        </p:nvSpPr>
        <p:spPr>
          <a:xfrm>
            <a:off x="4572000" y="393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1"/>
          <p:cNvSpPr/>
          <p:nvPr/>
        </p:nvSpPr>
        <p:spPr>
          <a:xfrm>
            <a:off x="4572000" y="5157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BB42-974B-486F-8BF1-1536864D539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шинно-независимая оптим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Удаление недостижимого к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ача компилятора найти и исключить код, на который не передается управ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(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1;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1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2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7" dur="indefinite" restart="never" nodeType="tmRoot">
          <p:childTnLst>
            <p:seq>
              <p:cTn id="2118" dur="indefinite" nodeType="mainSeq">
                <p:childTnLst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fill="hold">
                      <p:stCondLst>
                        <p:cond delay="indefinite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4544-5509-432F-8F89-3D4DCA75725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шинно-независимая оптим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Оптимизация линейных участков про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овременных системах программирования профилировщик на основе результатов запуска программы выдаёт информацию о том, на какие её линейные участки приходится основное время выполнения. Для этих фрагментов выполн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даление бесполезных присваива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= b * c; d = b + c; a = d * c; 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d = b + c;  a = d *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ако, в следующем примере эта операция уже не бесполез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 = &amp; a;  a = b * c;  d = * p + c;  a = d *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ключение избыточных вычисле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 = d + b * c;  a = d + b * c;  c = d + b * c;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 = b * c;  d = d + t;  a = d + t;  c = 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ертка объектного ко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выполнение во время компиляции тех операций исходной программы, для которых значения операндов уже известны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; j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 +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3; j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1" dur="indefinite" restart="never" nodeType="tmRoot">
          <p:childTnLst>
            <p:seq>
              <p:cTn id="2152" dur="indefinite" nodeType="mainSeq">
                <p:childTnLst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fill="hold">
                      <p:stCondLst>
                        <p:cond delay="indefinite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fill="hold">
                      <p:stCondLst>
                        <p:cond delay="indefinite"/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9" fill="hold">
                      <p:stCondLst>
                        <p:cond delay="indefinite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7956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шинно-независимая оптим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) Перестановка операци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для дальнейшей свертки или оптимизации вычислени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= 2 * b * 3 * c;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= (2 * 3) * (b * 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= (b +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) + (d + e);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= (b + (c + (d + e) )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) Арифметические преобразования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на основе алгебраических и логических тождест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= b * c + b * d;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= b * (c + 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* 1 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a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a * 0 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0,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+ 0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a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 Оптимизация вычисления логических выра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||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||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||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ст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!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||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) ||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 всегд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пр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ru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ет быть побочный эффек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6756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шинно-независимая оптим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Подстановка кода функции вместо ее вызова в объектный к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от метод, как правило, применим к простым функциям и процедурам, вызываемым непосредственно по адресу, без применения косвенной адресации через таблиц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ime Type Informatio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оторые компиляторы допускают применять метод только к функциям, содержащим последовательные вычисления без цикл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зык С++ позволяет явно указать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lin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, для каких функций желательно использовать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lin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одстанов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748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шинно-независимая оптим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 Оптимизация цик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Вынесение инвариантных вычислений из цик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=1; i&lt;=10; i++)a[i]=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b*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*a[i]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 = b*c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=1; i&lt;=10; i++) a[i]=d*a[i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Замена операций с индуктивными (образующими арифметическую прогрессию) переменными (как правило, умножения на сложен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=1; i&lt;=N; i++) a[i]=i*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 = 10; i = 1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i&lt;=N) {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=t;  t=t+10;  i++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1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=1; i&lt;=N; i++)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r=r+f(s); s=s+10; }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=10; m=N*10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s &lt;= m) {r= r+f(s); s=s+10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избавились от одной индуктивной переменно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шинно-независимая оптимизац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ияние цикл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=1; i&lt;=N; i++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j= 1; j&lt;= M; j++) a[i][j] = 0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k = N * M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=1; i&lt;=k; i++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 = 0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ь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кт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вертывание цикл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можно выполнить для циклов, кратность выполнения которых известна на этапе компиляци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=1; i&lt;=3; i++)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[i]=i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1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1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2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3]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67564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шинно-зависимая оптим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шинно-зависимые преобразования результирующей объектной программы зависят от архитектуры вычислительной системы, на которой будет выполняться результирующая программа. При этом может учитываться объем кэш-памяти, методы организации работы процессора 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 преобразования, как правило, являются "ноу-хау", и именно они позволяют существенно повысить эффективность результирующего к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7144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ределение регистров процесс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ние регистров общего назначения и специальных регистров (аккумулятор, счетчик цикла, базовый указатель) для хранения значения операндов и результатов вычислений позволяет увеличить быстродействие програм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ступных регистров всегда ограниченное количество, поэтому перед компилятором встает вопрос их оптимального распределения и использования при выполнении вычисл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748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шинно-зависимая оптим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Оптимизация передачи параметров в процедуры и фун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чно параметры процедур и функций передаются через стек. При этом всякий раз при вызове процедуры или функции компилятор  создает объектный код для размещения ее фактических параметров в стеке, а при выходе из нее - код для освобождения соответствующей памя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уменьшить код и время выполнения  результирующей программы за счет оптимизации передачи параметров в процедуру или функцию, передавая их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рез регист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цесс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зация данного оптимизирующего преобразования зависит от количества доступных регистров процессора в целевой вычислительной системе и от используемого компилятором алгоритма распределения регист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достатки мет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птимизированные таким образом процедуры и функции не могут бы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ы в качеств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иблиотеч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.к. методы передачи парамет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з регистры не стандартизованы и зависят от реализации компилято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этот метод не может быть использован, если где-либо в функции требу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т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ерации с адрес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арамет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зыки Си и С++ позволяют явно указать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какие параметры и локальные переменные желательно разместить в регист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82440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шинно-зависимая оптим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 Оптимизация кода для процессоров, допускающих распараллеливание вычисл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озможности параллельного выполнения нескольких операций компилятор должен порождать объектный код таким образом, чтобы в нем было максимально возможное количество соседних операций, все операнды которых не зависят друг от дру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этого надо найти оптимальный порядок выполнения операций для каждого оператора (переставить их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дного потока обработки данных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((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двух потоков обработки данных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(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92120"/>
                <a:tab algn="l" pos="984240"/>
                <a:tab algn="l" pos="1476360"/>
                <a:tab algn="l" pos="1968480"/>
                <a:tab algn="l" pos="2460600"/>
                <a:tab algn="l" pos="2952720"/>
                <a:tab algn="l" pos="3444840"/>
                <a:tab algn="l" pos="3936960"/>
                <a:tab algn="l" pos="4429080"/>
                <a:tab algn="l" pos="4921200"/>
                <a:tab algn="l" pos="5413320"/>
                <a:tab algn="l" pos="5905440"/>
                <a:tab algn="l" pos="6397560"/>
                <a:tab algn="l" pos="6889680"/>
                <a:tab algn="l" pos="7381800"/>
                <a:tab algn="l" pos="7873920"/>
                <a:tab algn="l" pos="8366040"/>
                <a:tab algn="l" pos="8858160"/>
                <a:tab algn="l" pos="9350280"/>
                <a:tab algn="l" pos="9842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трех потоков обработки данных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 + (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CD76-F11D-449B-837A-A65D19FF1F3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7" dur="indefinite" restart="never" nodeType="tmRoot">
          <p:childTnLst>
            <p:seq>
              <p:cTn id="2198" dur="indefinite" nodeType="mainSeq">
                <p:childTnLst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E8E9-6AEC-4309-A734-D34280AB0C8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33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ксический анализ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9152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Sum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gt;5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n p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3419640" y="981000"/>
            <a:ext cx="2158920" cy="43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кс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684360" y="1700280"/>
            <a:ext cx="360036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минальные сл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4788000" y="1700280"/>
            <a:ext cx="3887640" cy="43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зовые по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7"/>
          <p:cNvSpPr/>
          <p:nvPr/>
        </p:nvSpPr>
        <p:spPr>
          <a:xfrm flipV="1">
            <a:off x="2340000" y="1413000"/>
            <a:ext cx="1728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8"/>
          <p:cNvSpPr/>
          <p:nvPr/>
        </p:nvSpPr>
        <p:spPr>
          <a:xfrm flipH="1" flipV="1">
            <a:off x="4859280" y="1413000"/>
            <a:ext cx="1873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2924280"/>
          <a:ext cx="8351640" cy="3744720"/>
        </p:xfrm>
        <a:graphic>
          <a:graphicData uri="http://schemas.openxmlformats.org/drawingml/2006/table">
            <a:tbl>
              <a:tblPr/>
              <a:tblGrid>
                <a:gridCol w="1366920"/>
                <a:gridCol w="2305080"/>
                <a:gridCol w="1368360"/>
                <a:gridCol w="331128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с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ыл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ебное сло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«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ентифика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 в таблице идентиф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ебный симв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«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ер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 в таблице литера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ебное сло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«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ентифика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 в таблице идентиф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ебный симв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«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=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ер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 в таблице литера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ебный симв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«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7C09-918D-44AB-BB8D-E54E85233BF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нтаксический анали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1413000"/>
          <a:ext cx="4043520" cy="5040360"/>
        </p:xfrm>
        <a:graphic>
          <a:graphicData uri="http://schemas.openxmlformats.org/drawingml/2006/table">
            <a:tbl>
              <a:tblPr/>
              <a:tblGrid>
                <a:gridCol w="1019160"/>
                <a:gridCol w="574560"/>
                <a:gridCol w="1368720"/>
                <a:gridCol w="1081080"/>
              </a:tblGrid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с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ыл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: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др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AutoShape 60"/>
          <p:cNvSpPr/>
          <p:nvPr/>
        </p:nvSpPr>
        <p:spPr>
          <a:xfrm>
            <a:off x="4572000" y="2637000"/>
            <a:ext cx="216000" cy="129672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6720"/>
              <a:gd name="textAreaBottom" fmla="*/ 1263240 h 12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13"/>
                </a:lnTo>
                <a:cubicBezTo>
                  <a:pt x="10800" y="9913"/>
                  <a:pt x="16200" y="10813"/>
                  <a:pt x="21600" y="10813"/>
                </a:cubicBezTo>
                <a:cubicBezTo>
                  <a:pt x="16200" y="10813"/>
                  <a:pt x="10800" y="11713"/>
                  <a:pt x="10800" y="1261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61"/>
          <p:cNvSpPr/>
          <p:nvPr/>
        </p:nvSpPr>
        <p:spPr>
          <a:xfrm>
            <a:off x="4572000" y="4437000"/>
            <a:ext cx="216000" cy="1297080"/>
          </a:xfrm>
          <a:custGeom>
            <a:avLst/>
            <a:gdLst>
              <a:gd name="textAreaLeft" fmla="*/ 0 w 216000"/>
              <a:gd name="textAreaRight" fmla="*/ 7812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13"/>
                </a:lnTo>
                <a:cubicBezTo>
                  <a:pt x="10800" y="9913"/>
                  <a:pt x="16200" y="10813"/>
                  <a:pt x="21600" y="10813"/>
                </a:cubicBezTo>
                <a:cubicBezTo>
                  <a:pt x="16200" y="10813"/>
                  <a:pt x="10800" y="11713"/>
                  <a:pt x="10800" y="1261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62"/>
          <p:cNvSpPr/>
          <p:nvPr/>
        </p:nvSpPr>
        <p:spPr>
          <a:xfrm>
            <a:off x="6732720" y="2205000"/>
            <a:ext cx="433080" cy="4103640"/>
          </a:xfrm>
          <a:custGeom>
            <a:avLst/>
            <a:gdLst>
              <a:gd name="textAreaLeft" fmla="*/ 0 w 433080"/>
              <a:gd name="textAreaRight" fmla="*/ 156240 w 433080"/>
              <a:gd name="textAreaTop" fmla="*/ 106920 h 4103640"/>
              <a:gd name="textAreaBottom" fmla="*/ 3996720 h 410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13"/>
                </a:lnTo>
                <a:cubicBezTo>
                  <a:pt x="10800" y="9913"/>
                  <a:pt x="16200" y="10813"/>
                  <a:pt x="21600" y="10813"/>
                </a:cubicBezTo>
                <a:cubicBezTo>
                  <a:pt x="16200" y="10813"/>
                  <a:pt x="10800" y="11713"/>
                  <a:pt x="10800" y="1261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3"/>
          <p:cNvSpPr/>
          <p:nvPr/>
        </p:nvSpPr>
        <p:spPr>
          <a:xfrm>
            <a:off x="5079600" y="2924280"/>
            <a:ext cx="13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гичес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4"/>
          <p:cNvSpPr/>
          <p:nvPr/>
        </p:nvSpPr>
        <p:spPr>
          <a:xfrm>
            <a:off x="5079600" y="4869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5"/>
          <p:cNvSpPr/>
          <p:nvPr/>
        </p:nvSpPr>
        <p:spPr>
          <a:xfrm>
            <a:off x="7308720" y="386064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ов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6"/>
          <p:cNvSpPr/>
          <p:nvPr/>
        </p:nvSpPr>
        <p:spPr>
          <a:xfrm>
            <a:off x="1330200" y="882720"/>
            <a:ext cx="233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лица токе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963E-BB3D-48D4-B97A-F8C51112827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86788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 Формальные грамматики и распознаватели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2.1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Формальный язык и формальная граммати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фави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епустое конечное множество символов, используе-мых для записи предложений язы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 {0,1,2,3,4,5,6,7,8,9,+,-}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о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любая последовательность символов алфави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жество строк, включая пустую, составленных из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ножество строк за исключением пустой, составленных из 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*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альным языко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 алфавит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зывают произвольное подмножество множеств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зык можно задат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еречислени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авилами продук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6T12:16:54Z</dcterms:created>
  <dc:creator>Ivanova</dc:creator>
  <dc:description/>
  <dc:language>en-US</dc:language>
  <cp:lastModifiedBy>Иванова Галина Сергеевна</cp:lastModifiedBy>
  <dcterms:modified xsi:type="dcterms:W3CDTF">2018-01-23T15:43:58Z</dcterms:modified>
  <cp:revision>106</cp:revision>
  <dc:subject/>
  <dc:title>Глава 6  Основы конструирования компиляторов</dc:title>
</cp:coreProperties>
</file>