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64A6-260D-4C38-A5C7-4823C9D3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2CD0-6E26-45CA-8146-7146D12C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ACDE8-F482-484B-BC28-AABA1F91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6C601-A5D8-4C40-A1D4-C5036072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F7BC-2A99-4C6B-8739-EB375A5A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16EE-30D6-4E63-A6D3-11BEA329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5503-1428-446A-8C02-0DEEA035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BAE8-C5FA-46C6-B9D4-B1249B4D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F357-52A7-488F-8E2D-5ABBC4AA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CFCE-9B0A-4E2A-852A-B4BAD55A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6EBA-79A9-4DF7-83DE-D12C93AE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A4B00-36BA-4DCB-B27C-AA656763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13D8-0CB1-4BDB-86A3-D8C51075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082E-EC18-40D9-BD8E-FDEFAE2A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6E98-A169-4B99-8B7F-F7E92C16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1AE4-629E-4C75-9ED7-18CE2751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C1D3-B7AE-4831-BE83-E3793913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6F23E-CF50-4450-8CCF-5C721A89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C1739-C322-435C-B2BC-0B897951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D3EB-7604-4E58-993A-5D6585DC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231A8-FF61-4D8B-B346-5FA25A1C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11948-259D-467A-A915-ED99052C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A9A95-74DD-4FCC-9D4B-7DDBAB2C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245F3-0283-418C-9513-050AF793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1C2E-20E3-4AAA-889F-6A347C91A2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8B56-EA7C-49F3-893E-312936076B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F825-5240-4476-A9FD-CD38C1C24D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52640" y="177336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а 5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акросредств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п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268360" y="47628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BFEC-0C7C-47F2-BBBC-27CC3569A2F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щение макроопределе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тладки – перед программой, для работы – в библиот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ределение суммы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  MACRO  T1,T2,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Sum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dw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dw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dw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Summa  A,B,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932360" y="1628640"/>
            <a:ext cx="38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651640" y="2276640"/>
            <a:ext cx="2881080" cy="1295280"/>
          </a:xfrm>
          <a:prstGeom prst="roundRect">
            <a:avLst>
              <a:gd name="adj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30600" y="26370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AE28-E1B3-473D-A84C-403E165A7D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блиотека макро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496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аженные макроопределения помещают в библиоте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макроопределений строится как обычный файл и подключается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F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NCLUDE  MACRO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ение неиспользуемых макроопределений из программы во время трансля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URGE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имен макрос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GE   MAC1,MAC2,MA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FCF0-DAC8-402A-9B29-FD3FAD6A78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5 Псевдооператоры макроассембл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Изменение меток при каждом расшир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LOCAL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Список меток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     macro 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l 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:     loop  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будут генерирова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0, ??0001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5219640" y="1916280"/>
            <a:ext cx="3529080" cy="1873080"/>
          </a:xfrm>
          <a:prstGeom prst="wedgeRoundRectCallout">
            <a:avLst>
              <a:gd name="adj1" fmla="val -50449"/>
              <a:gd name="adj2" fmla="val 3814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0: loop ??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5292720" y="4292640"/>
            <a:ext cx="3529080" cy="1873080"/>
          </a:xfrm>
          <a:prstGeom prst="wedgeRoundRectCallout">
            <a:avLst>
              <a:gd name="adj1" fmla="val -50449"/>
              <a:gd name="adj2" fmla="val 3814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 loop ??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5AAE-BED7-4693-835D-9E94AE7999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Повторять с каждым аргументом спис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RP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аргумент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rp    value,&lt;1,2,3,4,5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w     value*value*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4572000" y="4653000"/>
            <a:ext cx="2590920" cy="1727280"/>
          </a:xfrm>
          <a:prstGeom prst="wedgeRoundRectCallout">
            <a:avLst>
              <a:gd name="adj1" fmla="val -51226"/>
              <a:gd name="adj2" fmla="val 2095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88B7-2001-49E4-B6D8-D2F397EA33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Повторять с каждым символом стро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RPC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rpc   char,12345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   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rpc   char,ABCD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char&amp;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5148360" y="2565360"/>
            <a:ext cx="2303280" cy="1655640"/>
          </a:xfrm>
          <a:prstGeom prst="wedgeRoundRectCallout">
            <a:avLst>
              <a:gd name="adj1" fmla="val -49379"/>
              <a:gd name="adj2" fmla="val 33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5148360" y="4724280"/>
            <a:ext cx="2303280" cy="1656000"/>
          </a:xfrm>
          <a:prstGeom prst="wedgeRoundRectCallout">
            <a:avLst>
              <a:gd name="adj1" fmla="val -49379"/>
              <a:gd name="adj2" fmla="val 33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X,1 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892F-6551-4ABF-B155-5B7D11A9A9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торять указанное число ра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REPT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 =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PT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 =  N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B  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T 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5003640" y="5373720"/>
            <a:ext cx="2376720" cy="1008000"/>
          </a:xfrm>
          <a:prstGeom prst="wedgeRoundRectCallout">
            <a:avLst>
              <a:gd name="adj1" fmla="val -48597"/>
              <a:gd name="adj2" fmla="val 4486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932360" y="2781360"/>
            <a:ext cx="2376360" cy="1655640"/>
          </a:xfrm>
          <a:prstGeom prst="wedgeRoundRectCallout">
            <a:avLst>
              <a:gd name="adj1" fmla="val -50601"/>
              <a:gd name="adj2" fmla="val -29578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6794-0970-4E86-A8AD-10CC4B0A59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6 Условное ассемб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Завершение макрогенераци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I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Если …, т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FXX  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EL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2F97-709D-433C-AF28-2B914FF604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условий условной ген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50920" y="981000"/>
            <a:ext cx="889308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E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ыражение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DE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- имя объявлено как внеш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NDE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мя не объявлено как внеш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B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араметр опущ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NB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- параметр за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IDN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оки совпада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DI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оки не совпада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проход ассемблер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для чтения библиот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роопреде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проход ассемб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556B-AB82-4B5B-A6E0-2F442839BCE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8.7 Условная макрогене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    macro  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en ge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t 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=value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5867280" y="1773360"/>
            <a:ext cx="2880000" cy="1655640"/>
          </a:xfrm>
          <a:prstGeom prst="wedgeRoundRectCallout">
            <a:avLst>
              <a:gd name="adj1" fmla="val -50717"/>
              <a:gd name="adj2" fmla="val 21810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5867280" y="3573360"/>
            <a:ext cx="2880000" cy="1368360"/>
          </a:xfrm>
          <a:prstGeom prst="wedgeRoundRectCallout">
            <a:avLst>
              <a:gd name="adj1" fmla="val -48898"/>
              <a:gd name="adj2" fmla="val 5337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=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генерация не выпол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0D8E-CBD2-4C7E-9957-D615E09F8F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8.8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Деление целых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IVIDE  MACRO   DIVIDEND,DIVISOR,QUO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  COM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;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м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 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DIVID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DI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QUO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      CNT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;;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не равно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846680" y="1512720"/>
            <a:ext cx="429552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AX,DIVIDE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BX,DIVISOR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CX,CX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MP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AX,B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B   OU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C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CO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UT:    MOV  QUOTIENT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8308-1B20-474B-9BBC-0D55674C5C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роблемы ассембл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хое понимание исходного текста программы, особенно по прошествии некоторого времени после ее напис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сть набора коман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яемость идентичных или незначительно отличающихся участков програм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ь включения в каждую программу участков кода, которые уже были использованы в других програм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макросредств позволя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инамически перестраивать програм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ой полиморф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увеличить скорость выполнения по сравнению с вызовом процеду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создавать макробиблиоте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улучшать наглядность пр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7068-FCCD-4151-B918-0341D0F61E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ирующ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 dw    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 dw   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dw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9999c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Divide A,B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4788000" y="1916280"/>
            <a:ext cx="4032000" cy="3311280"/>
          </a:xfrm>
          <a:prstGeom prst="roundRect">
            <a:avLst>
              <a:gd name="adj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AX,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BX,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CX,CX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CMP  AX,B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B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C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MOV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067280" y="3357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644B-B339-4569-BB36-9FD66A992C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8.9 Макрос ввода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с выводит запрос, вводит данные и возвращает их адрес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put MACRO prompt:VARARG 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prompt –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текст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B &lt;prompt&gt;  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если текст за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txt db prompt, 0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место для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текст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fer db 128 dup (0)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буфер вв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lign 4     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выровнять на границу дв. сл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buffer,LENGTHOF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ax, offset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 &lt;eax&gt; 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возвращаемое значение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8BF7-9D35-4FF4-A74C-8AF813C518C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рос ввода строки 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если запрос отсут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fer db 128 dup 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lig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buffer,LENGTHOF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ax, offset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 &lt;eax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F742-ED0E-499D-8109-3D6440C1A5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ирующ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OLn     DB    13,10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BX,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input ("Input Data",13,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EO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ч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параметров указан в скобках, поскольку в макроопределении указа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A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макрокоманды указан в машинной команде, поскольку в макроопределении указано возвращаемо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1835-7D40-406E-BCC8-129F0E45A4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395640"/>
            <a:ext cx="874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CC5C-90A5-475C-A6BF-E66841361E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1 Трансляция программы на ассембл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68360" y="2133720"/>
            <a:ext cx="4032360" cy="93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я фаза трансля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кроген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68360" y="3070080"/>
            <a:ext cx="4032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71640" y="3286080"/>
            <a:ext cx="316692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нутренн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та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68360" y="4510080"/>
            <a:ext cx="403236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-я фаза трансля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900000" y="907920"/>
            <a:ext cx="3024360" cy="863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ассембл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971640" y="5734080"/>
            <a:ext cx="3024000" cy="863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кт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2411280" y="17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411280" y="5300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411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241128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59280" y="1052640"/>
            <a:ext cx="410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ляция программы на ассемблере выполняется в два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генер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макрогенерации программа обрабатывается как текстовая информация, т.е. выполняются текстовые замены в том числе услов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FACA-FDD8-40B7-8CBF-DFA82E8C75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2 Термы и 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ндом макросредств является строка символов (тер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ы делятся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самоопредел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 литерал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численные числовые: 2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, 10, 10001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овые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ABCD”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перемещаем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 метки операторов и данных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екущее значение счетчика адреса при ассемблирован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граммах термы представляются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символов, состоящих из букв, цифр, а также символов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«_» – без ограничителей, например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12, 01F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символов, включающая специа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в угловых скобках, например: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Стро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 использовани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м специальным символом, например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трока!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9EAA-3FFD-4B12-86B9-731D70156D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ро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856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Макровыра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вокупность термов, связанных символами арифметических, логических операций, а также скобками и символами операций срав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ифметические операции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ие операц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– ложь,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FFh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сравнен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AX,((C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0) AND 5)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(C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0)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&lt;20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: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mov AX,(0FFFFh AND 5) OR (0 AND 6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mov AX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&gt;20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: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mov AX, (0 AND 5) OR (0FFFFh AND 6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mov AX,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05BA-CB8C-44A7-BB0C-2455D07B11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константы и пер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евдоконста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  EQU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QU  1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QU  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QU  60*20/K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евдоперем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= 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= 1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= CONS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adr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5 dup (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r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n = adr2-adr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5136-9E4D-41F6-A6AD-68FC192B41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3 Макрокоманды и макро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53640"/>
            <a:ext cx="822960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коман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акровызов) – команда, по которой происходит вставка фрагмента в програ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аготовка, из которой генерируется вставляемый фраг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ставляемый фраг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генер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цесс построения макрорасширения из макроо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C44C-E7AB-4BD7-B591-F4CCC835ED9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ро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уктура макроопреде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ACRO [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формальных параметр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ело макроопределен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MACRO  T1,T2,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X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X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SU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вызо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PRICE,TAX,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BX,CX,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150160" y="2852640"/>
            <a:ext cx="335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OST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DX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780000" y="3789360"/>
            <a:ext cx="165564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 flipV="1">
            <a:off x="3851280" y="5373720"/>
            <a:ext cx="1800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E3F7-0011-4C4A-8A0D-825D74BEA4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4 Операции макро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168560"/>
            <a:ext cx="4260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Слияние символьных стр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&amp;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Комментари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MOVE   MACRO   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генерация команды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REP    MOVS&amp;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1168560"/>
            <a:ext cx="46432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Преобразование имен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%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VALUE   EQU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     MACRO 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′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&amp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ume   CS: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   %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66800" y="5057640"/>
            <a:ext cx="2592360" cy="1152720"/>
          </a:xfrm>
          <a:prstGeom prst="wedgeRoundRectCallout">
            <a:avLst>
              <a:gd name="adj1" fmla="val -48773"/>
              <a:gd name="adj2" fmla="val -20250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 =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ир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  MOV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4727520" y="5273640"/>
            <a:ext cx="2592360" cy="863640"/>
          </a:xfrm>
          <a:prstGeom prst="wedgeRoundRectCallout">
            <a:avLst>
              <a:gd name="adj1" fmla="val -49018"/>
              <a:gd name="adj2" fmla="val 9189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B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′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G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9:24:54Z</dcterms:created>
  <dc:creator>Ivanova</dc:creator>
  <dc:description/>
  <dc:language>en-US</dc:language>
  <cp:lastModifiedBy>Иванова Галина Сергеевна</cp:lastModifiedBy>
  <dcterms:modified xsi:type="dcterms:W3CDTF">2018-01-23T15:44:21Z</dcterms:modified>
  <cp:revision>19</cp:revision>
  <dc:subject/>
  <dc:title>Глава 8   Макросредства ассемблера</dc:title>
</cp:coreProperties>
</file>