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7036-DEFD-4106-B765-50108033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B97B1-9491-4D7B-B6A0-7A6EFA64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695A-A332-4909-81E9-AE0BB914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9CB3-2AA2-4AD4-B10C-75F8FAB3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94C65-834C-4D63-BD1E-56FE8283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50D8-6E67-4E57-8EB9-00B67BDE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CD43-FD95-488B-BB7C-3C06CF93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A09D-CF7E-457A-8056-E5130B9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F916-47B6-40C9-9E3E-3EFC2731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D766-3E7A-4647-8FF4-E210DA36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863F-66B0-4E62-BC78-A847E83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45F81-BFC0-41E3-A7F8-83FD802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3C5A-D8DE-4116-B185-0D54C0E6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200C9-EEFE-4E8B-BE78-75505050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7BD5-279E-41A7-8E5F-041448FA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C31-4A8A-438A-993C-116C0A07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1C9F-7509-4D57-8C27-828C8CB7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1895F-09C1-429F-B799-E18F0EB1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929B7-532C-44A1-AABB-95640310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10363-73CD-45BA-89AD-9F458957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6DB8-07A2-43B2-A320-0F4B53CF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849F1-8D37-4E1D-A70C-38AFE3F5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D75C-6CDD-4BE0-8F00-0483AA0BD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B9A8-30A1-44FB-AF99-1C8A86D9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6198-8BFD-4C92-B32C-FA9F72760B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5A3E-E272-4417-8CE6-F6E4D678C9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6C9-0E61-431F-9F4D-5F7F1E0747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лава 5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Макросредств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68360" y="476280"/>
            <a:ext cx="54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1A61-4E3A-4299-8005-B274C76317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ещение макроопределени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тладки – перед программой, для работы – в библиот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ределение суммы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ma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Sum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dw   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dw 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ma  A,B,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932360" y="1628640"/>
            <a:ext cx="38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651640" y="2276640"/>
            <a:ext cx="2881080" cy="1295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30600" y="2637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C9B-BFF8-493B-A4E8-376DC61EE4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блиотека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4963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аженные макроопределения помещают в библиоте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макроопределений строится как обычный файл и подключается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NCLUDE  MACRO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аление неиспользуемых макроопределений из программы во время трансля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RGE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мен макрос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GE   MAC1,MAC2,MA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EAC4-0CDA-4901-9925-F15560B060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5 Псевдооператоры макроассембле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Изменение меток при каждом расширен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OCAL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Список меток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ait      macro 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cal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xt:     loop  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зультате будут генерирова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, ??0001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5219640" y="191628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0: loop 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292720" y="4292640"/>
            <a:ext cx="3529080" cy="1873080"/>
          </a:xfrm>
          <a:prstGeom prst="wedgeRoundRectCallout">
            <a:avLst>
              <a:gd name="adj1" fmla="val -50449"/>
              <a:gd name="adj2" fmla="val 3814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CX,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 loop ??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69E6-CB6E-484F-A3FA-575906DD5C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Повторять с каждым аргументом спис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rp    value,&lt;1,2,3,4,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w     value*value*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4572000" y="4653000"/>
            <a:ext cx="2590920" cy="1727280"/>
          </a:xfrm>
          <a:prstGeom prst="wedgeRoundRectCallout">
            <a:avLst>
              <a:gd name="adj1" fmla="val -51226"/>
              <a:gd name="adj2" fmla="val 2095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  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27FB-119A-48F0-8A5D-4EA85B1A1C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овторять с каждым символом стро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RPC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12345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  ch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rpc   char,ABCD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char&amp;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5148360" y="2565360"/>
            <a:ext cx="2303280" cy="165564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5148360" y="4724280"/>
            <a:ext cx="2303280" cy="1656000"/>
          </a:xfrm>
          <a:prstGeom prst="wedgeRoundRectCallout">
            <a:avLst>
              <a:gd name="adj1" fmla="val -49379"/>
              <a:gd name="adj2" fmla="val 333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X,1 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B1D4-59B4-4CB6-B2DC-DCE27AA4AC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операторы макроассемблер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вторять указанное число ра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REPT 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Фрагмент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8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PT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 =  N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B  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5003640" y="5373720"/>
            <a:ext cx="2376720" cy="1008000"/>
          </a:xfrm>
          <a:prstGeom prst="wedgeRoundRectCallout">
            <a:avLst>
              <a:gd name="adj1" fmla="val -48597"/>
              <a:gd name="adj2" fmla="val 4486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4932360" y="2781360"/>
            <a:ext cx="2376360" cy="1655640"/>
          </a:xfrm>
          <a:prstGeom prst="wedgeRoundRectCallout">
            <a:avLst>
              <a:gd name="adj1" fmla="val -50601"/>
              <a:gd name="adj2" fmla="val -29578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51F2-A769-476A-A1C6-55F020458C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6 Условное ассемблир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Завершение макрогенерации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IT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Если …, 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IFXX 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ELS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F316-964B-4165-AC7C-2E9467DC28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условий условной ген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50920" y="981000"/>
            <a:ext cx="889308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E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ыражение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- имя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DE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мя не объявлено как внешн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араметр опущ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NB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- параметр зада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IDN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DIF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рока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троки не совпад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проход ассемблера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ется для чтения библиоте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роопредел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-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проход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9DC4-AFAA-4CBD-9474-99095E390A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7 Условная макрогенер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    macro 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len ge 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t 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=value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 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"/>
          <p:cNvSpPr/>
          <p:nvPr/>
        </p:nvSpPr>
        <p:spPr>
          <a:xfrm>
            <a:off x="5867280" y="1773360"/>
            <a:ext cx="2880000" cy="1655640"/>
          </a:xfrm>
          <a:prstGeom prst="wedgeRoundRectCallout">
            <a:avLst>
              <a:gd name="adj1" fmla="val -50717"/>
              <a:gd name="adj2" fmla="val 2181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 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B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5867280" y="3573360"/>
            <a:ext cx="2880000" cy="1368360"/>
          </a:xfrm>
          <a:prstGeom prst="wedgeRoundRectCallout">
            <a:avLst>
              <a:gd name="adj1" fmla="val -48898"/>
              <a:gd name="adj2" fmla="val 5337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=5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 не выпол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A39-472F-4ED6-AF2B-E022F80A18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8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Деление целых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IDE  MACRO   DIVIDEND,DIVISOR,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COM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; 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м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 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D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DI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DEF  QUO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NTR    = CNTR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      CNT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не равно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846680" y="1512720"/>
            <a:ext cx="42955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DIVIDEND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DIVISOR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MP: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OU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CO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UT:    MOV  QUOTIEN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044D-AD0E-4589-971E-E45C90A1724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проблемы ассембл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хое понимание исходного текста программы, особенно по прошествии некоторого времени после ее написан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сть набора команд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вторяемость идентичных или незначительно отличающихся участков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сть включения в каждую программу участков кода, которые уже были использованы в других программ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макросредств позволя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динамически перестраивать програм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стой полиморфиз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величить скорость выполнения по сравнению с вызовом процеду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создавать макробиблиоте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лучшать наглядность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1C8B-B02C-4E6D-9BDE-F2FE035FE08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 dw     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 dw    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dw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9999cc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Divide A,B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"/>
          <p:cNvSpPr/>
          <p:nvPr/>
        </p:nvSpPr>
        <p:spPr>
          <a:xfrm>
            <a:off x="4788000" y="1916280"/>
            <a:ext cx="4032000" cy="3311280"/>
          </a:xfrm>
          <a:prstGeom prst="roundRect">
            <a:avLst>
              <a:gd name="adj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A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BX,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CX,CX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CMP  AX,B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B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UB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C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??000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MOV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4067280" y="33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E357-C484-4C4E-A2B0-A46BDF1B7C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8.9 Макрос ввода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с выводит запрос, вводит данные и возвращает их адрес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put MACRO prompt:VARARG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prompt –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CAL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FNB &lt;prompt&gt; 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текст зад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txt db prompt, 0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место для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текс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буфер вво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      </a:t>
            </a:r>
            <a:r>
              <a:rPr b="1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ыровнять на границу дв. сл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 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возвращаемое значение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3343-A05D-4A58-922D-53FE6DD7BA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с ввода строки (2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LSE </a:t>
            </a:r>
            <a:r>
              <a:rPr b="0" i="1" lang="en-US" sz="2000" spc="-1" strike="noStrike">
                <a:solidFill>
                  <a:srgbClr val="0099ff"/>
                </a:solidFill>
                <a:latin typeface="Courier New"/>
              </a:rPr>
              <a:t>; 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если запрос отсутству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uffer db 128 dup 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lig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buffer,LENGTHOF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ax, offset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ITM &lt;eax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4CE6-6B24-4DB6-8672-6D98C4EBEFA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стирующ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OLn     DB    13,10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EB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input ("Input Data",13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EO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ч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араметров указан в скобках, поскольку в макроопределении указан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AR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макрокоманды указан в машинной команде, поскольку в макроопределении указано возвращаем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868-B15C-4C1E-8908-57E67140C0F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395640"/>
            <a:ext cx="87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228A-73F8-4AD4-A53E-226143055B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1 Трансляция программы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2133720"/>
            <a:ext cx="4032360" cy="9363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68360" y="3070080"/>
            <a:ext cx="403236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971640" y="3286080"/>
            <a:ext cx="316692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 внутренн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став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468360" y="4510080"/>
            <a:ext cx="4032360" cy="792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-я фаза трансляци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"/>
          <p:cNvSpPr/>
          <p:nvPr/>
        </p:nvSpPr>
        <p:spPr>
          <a:xfrm>
            <a:off x="900000" y="907920"/>
            <a:ext cx="302436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"/>
          <p:cNvSpPr/>
          <p:nvPr/>
        </p:nvSpPr>
        <p:spPr>
          <a:xfrm>
            <a:off x="971640" y="5734080"/>
            <a:ext cx="3024000" cy="863640"/>
          </a:xfrm>
          <a:prstGeom prst="can">
            <a:avLst>
              <a:gd name="adj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ктная програ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2411280" y="1773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411280" y="530064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>
            <a:off x="2411280" y="3068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2"/>
          <p:cNvSpPr/>
          <p:nvPr/>
        </p:nvSpPr>
        <p:spPr>
          <a:xfrm>
            <a:off x="241128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10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ансляция программы на ассемблере выполняется в два 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генера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 время макрогенерации программа обрабатывается как текстовая информация, т.е. выполняются текстовые замены в том числе услов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9722-BC90-4FF0-AC3B-E6190B72E5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2 Термы и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ом макросредств является строка символов (тер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ы делятся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самоопредел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литерал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численные числовые: 2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10, 10001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овые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ABCD”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перемещаем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 метки операторов и данных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екущее значение счетчика адреса при ассемблирован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ограммах термы представляются следующим образо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состоящих из букв, цифр, а также символов «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«_» – без ограничителей, например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12, 01F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включающая специа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 угловых скобках, например: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Стро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использование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м специальным символом, 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трока!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6C9F-DF4C-4768-8DE8-85C9C9ACC2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856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7d"/>
                </a:solidFill>
                <a:latin typeface="Arial"/>
              </a:rPr>
              <a:t>Макровыраж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вокупность термов, связанных символами арифметических, логических операций, а также скобками и символами операций срав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ифметические операции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гические операци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ложь,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FFF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AX,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L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AND 5)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((C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G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20)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99cc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l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(0FFFFh AND 5) OR (0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&gt;20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: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mov AX, (0 AND 5) OR (0FFFFh AND 6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mov AX,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8EFF-77CE-4D09-BBED-37C998D49FA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евдоконстанты и пе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констан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  EQU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QU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EQU  60*20/K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севдопереме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= 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10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= CONST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adr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b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5 dup (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r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n = adr2-adr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EDEC-AC61-40D9-966A-3A06CF107D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3 Макрокоманды и макр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53640"/>
            <a:ext cx="8229600" cy="51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коман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акровызов) – команда, по которой происходит вставка фрагмента в програм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заготовка, из которой генерируется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ставляемый фрагме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рогенер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цесс построения макрорасширения из макроо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51A7-3574-40C6-8BB0-BBD2B6C1E4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кроопре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труктура макроопреде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CRO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формальных параме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ело макроопредел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MACRO  T1,T2,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X,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SUM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вызов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PRICE,TAX,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_W  BX,CX,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150160" y="2852640"/>
            <a:ext cx="3350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COST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крорасшир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D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780000" y="3789360"/>
            <a:ext cx="165564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"/>
          <p:cNvSpPr/>
          <p:nvPr/>
        </p:nvSpPr>
        <p:spPr>
          <a:xfrm flipV="1">
            <a:off x="3851280" y="537372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F9E0-7612-486B-B79B-E6F7A5E010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8.4 Операции макроопредел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0560" y="1168560"/>
            <a:ext cx="4260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Слияние символьных стро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&amp;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рок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Комментарий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;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MOVE   MACRO   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;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генерация команды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REP    MOVS&amp;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sv-SE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00720" y="1168560"/>
            <a:ext cx="46432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 Преобразование имен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%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   EQU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  MACRO  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&amp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ume   CS: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   %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766800" y="5057640"/>
            <a:ext cx="2592360" cy="1152720"/>
          </a:xfrm>
          <a:prstGeom prst="wedgeRoundRectCallout">
            <a:avLst>
              <a:gd name="adj1" fmla="val -48773"/>
              <a:gd name="adj2" fmla="val -20250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 =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ир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 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4727520" y="5273640"/>
            <a:ext cx="2592360" cy="863640"/>
          </a:xfrm>
          <a:prstGeom prst="wedgeRoundRectCallout">
            <a:avLst>
              <a:gd name="adj1" fmla="val -49018"/>
              <a:gd name="adj2" fmla="val 9189"/>
              <a:gd name="adj3" fmla="val 16667"/>
            </a:avLst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B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′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G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09:24:54Z</dcterms:created>
  <dc:creator>Ivanova</dc:creator>
  <dc:description/>
  <dc:language>en-US</dc:language>
  <cp:lastModifiedBy>Иванова Галина Сергеевна</cp:lastModifiedBy>
  <dcterms:modified xsi:type="dcterms:W3CDTF">2018-01-23T15:44:21Z</dcterms:modified>
  <cp:revision>19</cp:revision>
  <dc:subject/>
  <dc:title>Глава 8   Макросредства ассемблера</dc:title>
</cp:coreProperties>
</file>