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1B35D-E2CF-4F7C-BD3D-3E0D655A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29C1A-7FCA-4CBB-98DC-CDBEF945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FA2DB-E4D5-4868-A7C1-EAEE0FD8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44DBB-D98C-4F4F-9908-78494B3F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4F31-E389-475E-91BF-43ABBB87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3476-451D-40BD-BE8F-F2EBB22F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63C6-DBEF-4C4A-8BDD-06C28698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EF58-4FE8-4F64-9039-599ABB26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5493-3790-4D66-8BEB-C4BCA580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D260-FCB6-4ABF-9E16-3FA5F117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4F93-D7BB-4959-B7F5-FF24F369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B7BFF-D005-4675-8C91-E7473AF3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49DE-C9E0-4F7E-AA57-C7966538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2A0E-F91C-4201-8FC5-08D21BDC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590E-A904-47F0-8DB0-3743C16D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BEEA-20B2-4950-B2DE-65864C2A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0B29-E22B-489B-ADA7-B34F67A2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161F0-64E1-4C3F-86AA-0E4EBB60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64972-E048-45CE-94A1-7E60C11F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FA941-D432-4AA6-86E4-61D5EE7E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ED971-D078-446E-B2C1-933A4F96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91F9D-F10E-42CC-9936-8B24AE8A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4E829-2A9F-45C0-9B01-8E273BED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4AF4F-02FD-468F-A094-2C8E0CD7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9CFC-FDE6-4182-B86A-098E577ED9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AEFA-9817-42D5-BC75-08835AF0B2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402C-613D-4FBC-A1C3-3A0D415594B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52640" y="1773360"/>
            <a:ext cx="6291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а 5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Макросредств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тор: д.т.н., проф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268360" y="47628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EF00-DD32-482C-B9C4-397E47E43F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щение макроопределени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тладки – перед программой, для работы – в библиот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ределение суммы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ma  MACRO  T1,T2,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AX,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Sum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dw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dw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dw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Summa  A,B,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932360" y="1628640"/>
            <a:ext cx="384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651640" y="2276640"/>
            <a:ext cx="2881080" cy="1295280"/>
          </a:xfrm>
          <a:prstGeom prst="roundRect">
            <a:avLst>
              <a:gd name="adj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AX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30600" y="263700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98ED-B5C6-4E37-BC67-35469D3A63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блиотека макроопре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496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аженные макроопределения помещают в библиоте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макроопределений строится как обычный файл и подключается к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F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NCLUDE  MACRO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ение неиспользуемых макроопределений из программы во время трансля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URGE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имен макрос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GE   MAC1,MAC2,MA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9F92-B77A-45AC-8458-5CA0FE450E0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5 Псевдооператоры макроассембл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Изменение меток при каждом расшир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LOCAL 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Список меток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      macro 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cal 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CX,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:     loop  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будут генерирова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?0000, ??0001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5219640" y="1916280"/>
            <a:ext cx="3529080" cy="1873080"/>
          </a:xfrm>
          <a:prstGeom prst="wedgeRoundRectCallout">
            <a:avLst>
              <a:gd name="adj1" fmla="val -50449"/>
              <a:gd name="adj2" fmla="val 3814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CX,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?0000: loop ??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5292720" y="4292640"/>
            <a:ext cx="3529080" cy="1873080"/>
          </a:xfrm>
          <a:prstGeom prst="wedgeRoundRectCallout">
            <a:avLst>
              <a:gd name="adj1" fmla="val -50449"/>
              <a:gd name="adj2" fmla="val 3814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CX,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?00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 loop ??00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D1EA-E4E7-41E8-AE86-BD93A964DA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операторы макроассемблер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Повторять с каждым аргументом спис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RP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аргумент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Фрагмент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rp    value,&lt;1,2,3,4,5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w     value*value*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4572000" y="4653000"/>
            <a:ext cx="2590920" cy="1727280"/>
          </a:xfrm>
          <a:prstGeom prst="wedgeRoundRectCallout">
            <a:avLst>
              <a:gd name="adj1" fmla="val -51226"/>
              <a:gd name="adj2" fmla="val 20953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E081-5556-4327-8F92-149B4B8D25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операторы макроассемблера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Повторять с каждым символом стро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RPC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рок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Фрагмент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rpc   char,12345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   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rpc   char,ABCD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char&amp;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5148360" y="2565360"/>
            <a:ext cx="2303280" cy="1655640"/>
          </a:xfrm>
          <a:prstGeom prst="wedgeRoundRectCallout">
            <a:avLst>
              <a:gd name="adj1" fmla="val -49379"/>
              <a:gd name="adj2" fmla="val 333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5148360" y="4724280"/>
            <a:ext cx="2303280" cy="1656000"/>
          </a:xfrm>
          <a:prstGeom prst="wedgeRoundRectCallout">
            <a:avLst>
              <a:gd name="adj1" fmla="val -49379"/>
              <a:gd name="adj2" fmla="val 333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X,1 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9D4B-2A33-43D2-9F25-D6E98357F1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операторы макроассемблера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торять указанное число ра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REPT 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Фрагмент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 =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EPT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 =  N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B  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T 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5003640" y="5373720"/>
            <a:ext cx="2376720" cy="1008000"/>
          </a:xfrm>
          <a:prstGeom prst="wedgeRoundRectCallout">
            <a:avLst>
              <a:gd name="adj1" fmla="val -48597"/>
              <a:gd name="adj2" fmla="val 4486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4932360" y="2781360"/>
            <a:ext cx="2376360" cy="1655640"/>
          </a:xfrm>
          <a:prstGeom prst="wedgeRoundRectCallout">
            <a:avLst>
              <a:gd name="adj1" fmla="val -50601"/>
              <a:gd name="adj2" fmla="val -29578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2DA8-0FBE-4D97-94A1-6ECFA95C754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6 Условное ассемб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Завершение макрогенераци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I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Если …, то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FXX  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EL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FD9F-F603-4AA0-BB12-9B09E33F704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условий условной ген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50920" y="981000"/>
            <a:ext cx="889308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E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ыражение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DE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- имя объявлено как внешн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NDE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мя не объявлено как внешн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B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араметр опущ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NB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- параметр за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IDN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роки совпада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DI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роки не совпада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проход ассемблер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для чтения библиот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роопреде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проход ассемб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DDB3-25ED-445B-A193-27CDF04D7F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8.7 Условная макрогене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    macro  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en ge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t 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=value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5867280" y="1773360"/>
            <a:ext cx="2880000" cy="1655640"/>
          </a:xfrm>
          <a:prstGeom prst="wedgeRoundRectCallout">
            <a:avLst>
              <a:gd name="adj1" fmla="val -50717"/>
              <a:gd name="adj2" fmla="val 21810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5867280" y="3573360"/>
            <a:ext cx="2880000" cy="1368360"/>
          </a:xfrm>
          <a:prstGeom prst="wedgeRoundRectCallout">
            <a:avLst>
              <a:gd name="adj1" fmla="val -48898"/>
              <a:gd name="adj2" fmla="val 5337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=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генерация не выполн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E73A-F156-49A8-8A15-9B9B43A702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8.8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Деление целых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IVIDE  MACRO   DIVIDEND,DIVISOR,QUO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  COM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;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м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 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DEF  DIVID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CNTR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DEF  DI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CNTR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DEF  QUO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CNTR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      CNT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;;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не равно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I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4846680" y="1512720"/>
            <a:ext cx="429552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AX,DIVIDE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BX,DIVISOR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CX,CX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MP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AX,B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B   OU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C  CX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CO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OUT:    MOV  QUOTIENT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4001-AC3D-4E28-BFCC-7EFE81F3A6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проблемы ассембл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хое понимание исходного текста программы, особенно по прошествии некоторого времени после ее напис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сть набора коман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яемость идентичных или незначительно отличающихся участков программ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сть включения в каждую программу участков кода, которые уже были использованы в других програм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макросредств позволя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динамически перестраивать програм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той полиморфиз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увеличить скорость выполнения по сравнению с вызовом процеду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создавать макробиблиоте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улучшать наглядность про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0AB7-D30A-45F0-92A6-C21B70D653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ирующ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         dw    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         dw    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dw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9999c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Divide A,B,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4788000" y="1916280"/>
            <a:ext cx="4032000" cy="3311280"/>
          </a:xfrm>
          <a:prstGeom prst="roundRect">
            <a:avLst>
              <a:gd name="adj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AX,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BX,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CX,CX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CMP  AX,B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B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C  CX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MOV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067280" y="3357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05FB-5E70-4EDB-9CB3-0FDF7ADB86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8.9 Макрос ввода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с выводит запрос, вводит данные и возвращает их адрес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put MACRO prompt:VARARG 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prompt –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текст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B &lt;prompt&gt;   </a:t>
            </a:r>
            <a:r>
              <a:rPr b="0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если текст за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txt db prompt, 0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место для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текст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uffer db 128 dup (0)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буфер вв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lign 4     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выровнять на границу дв. сл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buffer,LENGTHOF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ripLF,ADDR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eax, offset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ITM &lt;eax&gt;  </a:t>
            </a:r>
            <a:r>
              <a:rPr b="0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возвращаемое значение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B8DE-7B78-4DB7-BEA7-54EAC6A29B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рос ввода строки (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если запрос отсутств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uffer db 128 dup (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lig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buffer,LENGTHOF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ripLF,ADDR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eax, offset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ITM &lt;eax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A412-933F-46F6-991F-BF6E53177D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ирующ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OLn     DB    13,10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EBX,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input ("Input Data",13,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EO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ч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параметров указан в скобках, поскольку в макроопределении указан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A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макрокоманды указан в машинной команде, поскольку в макроопределении указано возвращаемое 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D921-7108-477E-8FF8-FA43DAC541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395640"/>
            <a:ext cx="874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B1E3-F8A6-4510-B58F-2B97BC5C01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1 Трансляция программы на ассембл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68360" y="2133720"/>
            <a:ext cx="4032360" cy="93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я фаза трансля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крогене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68360" y="3070080"/>
            <a:ext cx="403236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971640" y="3286080"/>
            <a:ext cx="3166920" cy="936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нутренн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тав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68360" y="4510080"/>
            <a:ext cx="403236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-я фаза трансля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900000" y="907920"/>
            <a:ext cx="3024360" cy="863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ассембл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971640" y="5734080"/>
            <a:ext cx="3024000" cy="863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кт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2411280" y="17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2411280" y="5300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2411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241128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59280" y="1052640"/>
            <a:ext cx="410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сляция программы на ассемблере выполняется в два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генер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ембл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макрогенерации программа обрабатывается как текстовая информация, т.е. выполняются текстовые замены в том числе услов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8909-D49C-45D0-920E-3E44CADB760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2 Термы и 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ндом макросредств является строка символов (тер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ы делятся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самоопредел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 литерал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численные числовые: 2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, 10, 10001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овые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ABCD”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перемещаем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 метки операторов и данных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екущее значение счетчика адреса при ассемблирован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граммах термы представляются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символов, состоящих из букв, цифр, а также символов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«_» – без ограничителей, например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12, 01F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символов, включающая специа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в угловых скобках, например: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Строк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с использование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м специальным символом, например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трока!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407B-A4E4-49C5-8AEF-1A2933F39D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ро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856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Макровыра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овокупность термов, связанных символами арифметических, логических операций, а также скобками и символами операций срав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ифметические операции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ческие операц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– ложь,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FFFh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 сравнен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AX,((C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20) AND 5)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(C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20)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&lt;20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: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mov AX,(0FFFFh AND 5) OR (0 AND 6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mov AX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&gt;20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: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mov AX, (0 AND 5) OR (0FFFFh AND 6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mov AX,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B996-5524-4A64-99EB-0E73EBDE26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константы и пере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евдоконстан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  EQU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QU  1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QU  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QU  60*20/K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евдоперем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= 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= 1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= CONST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adr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5 dup (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r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n = adr2-adr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D796-5034-4EF1-BA7F-460D44BC67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3 Макрокоманды и макро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53640"/>
            <a:ext cx="822960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коман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акровызов) – команда, по которой происходит вставка фрагмента в програ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аготовка, из которой генерируется вставляемый фраг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расшир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ставляемый фраг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генер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цесс построения макрорасширения из макроо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30F4-601C-4F93-B586-A285062AA5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роо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уктура макроопреде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ACRO [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формальных параметр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ело макроопределен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_W  MACRO  T1,T2,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X,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X,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SU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вызов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_W  PRICE,TAX,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_W  BX,CX,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150160" y="2852640"/>
            <a:ext cx="335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расшир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OST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расшир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DX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780000" y="3789360"/>
            <a:ext cx="165564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 flipV="1">
            <a:off x="3851280" y="5373720"/>
            <a:ext cx="1800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9CC1-3FAC-49CA-ACB8-11DCC32992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4 Операции макроопре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168560"/>
            <a:ext cx="4260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Слияние символьных стр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рок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&amp;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рок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Комментарий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MOVE   MACRO   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генерация команды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REP    MOVS&amp;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1168560"/>
            <a:ext cx="46432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Преобразование имени в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%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VALUE   EQU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     MACRO 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′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&amp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ume   CS: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   %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66800" y="5057640"/>
            <a:ext cx="2592360" cy="1152720"/>
          </a:xfrm>
          <a:prstGeom prst="wedgeRoundRectCallout">
            <a:avLst>
              <a:gd name="adj1" fmla="val -48773"/>
              <a:gd name="adj2" fmla="val -20250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 = 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ир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  MOV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4727520" y="5273640"/>
            <a:ext cx="2592360" cy="863640"/>
          </a:xfrm>
          <a:prstGeom prst="wedgeRoundRectCallout">
            <a:avLst>
              <a:gd name="adj1" fmla="val -49018"/>
              <a:gd name="adj2" fmla="val 9189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B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′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G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9:24:54Z</dcterms:created>
  <dc:creator>Ivanova</dc:creator>
  <dc:description/>
  <dc:language>en-US</dc:language>
  <cp:lastModifiedBy>Иванова Галина Сергеевна</cp:lastModifiedBy>
  <dcterms:modified xsi:type="dcterms:W3CDTF">2018-01-23T15:44:21Z</dcterms:modified>
  <cp:revision>19</cp:revision>
  <dc:subject/>
  <dc:title>Глава 8   Макросредства ассемблера</dc:title>
</cp:coreProperties>
</file>