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7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8E3C-7A06-4BAA-A163-EA1F4EF436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1EF9-24BD-48E4-8F40-AD164F06AD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C802-7F47-43A3-B115-8F04C920B8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1563-9E3B-4C1E-A222-A0D1CFA52C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FA61-DF0E-48A0-82CA-55814F3AB8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9558-F124-4FD6-8EFF-B104B4E34B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9A5D-5D4E-4C25-8A49-ABB8CB2A85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7D54-E6B7-4B0F-9E44-515EF5F36C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B4ED-E039-4C42-B58D-040B904FCC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0A39-0665-4B21-9136-D1365D34C8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CEC3-6E30-4111-A5FB-FD0198D994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9449-32B2-4566-A977-E5A78D16FF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46E0-DDE2-4587-8F23-9C193EB0E6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010F-A910-469D-9B76-AEA2E10551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28C6-52E4-4BDF-BC88-07DD64EA9B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5B499-32D8-4A2D-8068-7E391C40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8BFB8-4AD0-4F09-A053-3F15A104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8B274-3F05-4506-BCE1-187A25D6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DA602-E5C5-4580-8990-9093B024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574B-A82B-4D83-AAF4-BD1485F2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B0B8-CB95-4A3C-9EB2-7E10B0C7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055B-D304-41AF-9695-D7D4EA0D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8397-B07B-4BDE-B595-0E69F2E5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6F3D-C75C-4F9C-BF6F-2D432032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6C62-3D1F-4B5E-ABE2-F4E6DC56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3FA9-8557-4EE2-823A-E2A76E60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01180-E1B4-4EBE-8AFF-DFDF8866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37DB-05D6-475F-94DC-F34137DE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9A13-A687-4EC4-BBAB-A911FAE5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CC6C-CCD1-4A1D-9C6B-055FD6FC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2C6F-BF03-4661-AA05-72AACDA8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15BA-5DE0-462A-9FB2-1A8D5A4D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D9C95-3D8B-48EB-8292-3FD5FE11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F1FE0-C478-43D4-B70C-C83CF92E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3868C-8EB8-44AF-9DA6-40709389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1FE9D-227E-4B83-967B-F27CF4F4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1AAA6-5B33-4FBB-9063-36F83989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71506-E4A2-4154-9D3B-6698A7F4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871FB-9435-4CB9-9079-2D315176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5AB7-8696-4C11-861B-EECD0B5928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35E4-DBE0-46B6-89C9-79337BAB7F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1677-EFF2-42BA-840B-10F871BC26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52640" y="1773360"/>
            <a:ext cx="6291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лава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сновы конструирования компилято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267080"/>
            <a:ext cx="773280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ГТУ им. Н.Э. Баум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ультет Информатика и системы 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федра Компьютерные системы и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тор: д.т.н., проф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ванова Галина Серге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195640" y="26028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8DC5-4E23-417A-B555-F04E38AD6B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альная грамма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алфавит языка или множество терминальных (окончательных, незаменяемых) симво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ножество нетерминальных (заменяемых) символов – вспомогательный алфавит, символы которого обозна-чают допустимые </a:t>
            </a:r>
            <a:r>
              <a:rPr b="0" i="1" lang="ru-RU" sz="2400" spc="-1" strike="noStrike">
                <a:solidFill>
                  <a:srgbClr val="1818ff"/>
                </a:solidFill>
                <a:latin typeface="Arial"/>
              </a:rPr>
              <a:t>поня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зы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=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ловарь грамма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множество порождающих правил – каждое правило состоит из пары строк (α, β), где α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– левая часть правила, β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– правая часть правила: α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β, где строка α должна содержать хотя бы один нетермин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чальный символ – аксиома грам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2398-A4AE-4AD4-8639-C76FCD67BC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мматика записи десятичных чисел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4470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0, 1, 2, 3, 4, 5, 6, 7, 8, 9, +, -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&lt;целое&gt;, &lt;целое без знака&gt;, &lt;цифра&gt;, &lt;знак&gt;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{&lt;целое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&lt;целое без знака&gt;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елое без знака&gt;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ифра&gt;&lt;целое без знака&gt;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ифра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3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4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5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6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7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8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&lt;целое&gt;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6732720" y="2708280"/>
            <a:ext cx="2163600" cy="792000"/>
          </a:xfrm>
          <a:prstGeom prst="wedgeRoundRectCallout">
            <a:avLst>
              <a:gd name="adj1" fmla="val -51759"/>
              <a:gd name="adj2" fmla="val -9208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сторонняя рекурс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7A4B-115C-4F12-8B3B-F132C5EF6D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а Бэкуса-Нау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БНФ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ные обозна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8ff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1818ff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терминальный символ – конструк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– терминальный символ – символ алфави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ожно заменить н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::= &lt;знак&gt;&lt;целое без знака&gt;|&lt;целое без знака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::= &lt;цифра&gt;&lt;целое без знака&gt;|&lt;цифра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 &gt; ::= 0|1|2|3|4|5|6|7|8|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::= +|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B48A-1835-4588-850E-5D2F6CF7930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2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рамматический разб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амматический разб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сопоставления линейной последовательности лексем (слов, токенов) языка с его формальной граммат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вод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последовательность подстано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ывод строки «-45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&lt;целое без знак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&lt;цифра&gt;&lt;целое без знака&gt;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&lt;цифра&gt;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- &lt;цифра&gt;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4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6622920" y="256536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5759280" y="343044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7486560" y="343044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622920" y="429408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8352000" y="4294080"/>
            <a:ext cx="79200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7486560" y="515772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0"/>
          <p:cNvSpPr/>
          <p:nvPr/>
        </p:nvSpPr>
        <p:spPr>
          <a:xfrm flipH="1">
            <a:off x="6407280" y="314172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"/>
          <p:cNvSpPr/>
          <p:nvPr/>
        </p:nvSpPr>
        <p:spPr>
          <a:xfrm flipH="1">
            <a:off x="7270920" y="40068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8133840" y="487044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7342200" y="314172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8207280" y="4006800"/>
            <a:ext cx="289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 flipH="1">
            <a:off x="5543640" y="40068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6"/>
          <p:cNvSpPr/>
          <p:nvPr/>
        </p:nvSpPr>
        <p:spPr>
          <a:xfrm flipH="1">
            <a:off x="6407280" y="48704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7"/>
          <p:cNvSpPr/>
          <p:nvPr/>
        </p:nvSpPr>
        <p:spPr>
          <a:xfrm flipH="1">
            <a:off x="7270920" y="57340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5327640" y="429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612000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985440" y="602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7596360" y="1700280"/>
            <a:ext cx="1368360" cy="649080"/>
          </a:xfrm>
          <a:prstGeom prst="wedgeRoundRectCallout">
            <a:avLst>
              <a:gd name="adj1" fmla="val -57782"/>
              <a:gd name="adj2" fmla="val 9199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рамматический разбор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355640" y="3500280"/>
            <a:ext cx="4537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ходящий – от символов или лексем языка к понятиям (понятиям более высокого порядка, аксиом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сходящий – от понятия (понятия более высокого порядка, аксиомы) к символам или лексемам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39BF-3778-4A79-A5B9-748FD17C652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5580000" y="1413000"/>
            <a:ext cx="201636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мма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4284720" y="2492280"/>
            <a:ext cx="201600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ходя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3"/>
          <p:cNvSpPr/>
          <p:nvPr/>
        </p:nvSpPr>
        <p:spPr>
          <a:xfrm>
            <a:off x="6877080" y="2492280"/>
            <a:ext cx="201600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сходя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4"/>
          <p:cNvSpPr/>
          <p:nvPr/>
        </p:nvSpPr>
        <p:spPr>
          <a:xfrm flipH="1">
            <a:off x="5292720" y="2060640"/>
            <a:ext cx="719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7236000" y="2060640"/>
            <a:ext cx="649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1476360" y="1125360"/>
            <a:ext cx="79200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612720" y="1990800"/>
            <a:ext cx="79236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2340000" y="1990800"/>
            <a:ext cx="79200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1476360" y="2854440"/>
            <a:ext cx="79200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3205080" y="2854440"/>
            <a:ext cx="79236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9"/>
          <p:cNvSpPr/>
          <p:nvPr/>
        </p:nvSpPr>
        <p:spPr>
          <a:xfrm>
            <a:off x="2340000" y="3718080"/>
            <a:ext cx="79200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 flipH="1">
            <a:off x="1260360" y="170172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 flipH="1">
            <a:off x="2124000" y="2567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2987640" y="34304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195640" y="1701720"/>
            <a:ext cx="288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060720" y="256716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 flipH="1">
            <a:off x="396360" y="256716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H="1">
            <a:off x="1260360" y="34304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7"/>
          <p:cNvSpPr/>
          <p:nvPr/>
        </p:nvSpPr>
        <p:spPr>
          <a:xfrm flipH="1">
            <a:off x="2124000" y="42940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180720" y="2854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973440" y="371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1838520" y="458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7C47-9E10-4EC0-9E4F-A37DAB3CB80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6160" y="209160"/>
            <a:ext cx="86374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Левосторонний нисходящий грамматический разб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3640" y="90756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зобрать строку «-45» по правилам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елое&gt; ::= &lt;знак&gt;&lt;целое без знака&gt;|&lt;целое без знака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елое без знака&gt; ::= &lt;цифра&gt;&lt;целое без знака&gt;|&lt;цифра&gt;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ифра &gt; ::= 0|1|2|3|4|5|6|7|8|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 ::= +| -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ьтернативные правила нумеруем буквами а, б, в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дея разб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ервый символ правила – терминальный, т.е. символ алфавита, и он совпадает с первым символом  распознаваемой строки, то символ считается распознанным и удаляется из стека и строки. Если терминалы не совпадают, то ищем альтернативу ближайшему правилу и производим его заме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ервый символ правила – нетерминал, то заменяем его на первое из правил, его определя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ак дале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6948360" y="2492280"/>
            <a:ext cx="1871640" cy="576360"/>
          </a:xfrm>
          <a:prstGeom prst="wedgeRoundRectCallout">
            <a:avLst>
              <a:gd name="adj1" fmla="val -120518"/>
              <a:gd name="adj2" fmla="val -116152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осторонняя рекур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AB1A-8806-4C8D-B723-958FE6CD63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820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грамматического разб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-541440" y="907920"/>
          <a:ext cx="8428320" cy="634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41440" y="907920"/>
                    <a:ext cx="842832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Arc 137"/>
          <p:cNvSpPr/>
          <p:nvPr/>
        </p:nvSpPr>
        <p:spPr>
          <a:xfrm>
            <a:off x="6084720" y="4365720"/>
            <a:ext cx="648000" cy="358560"/>
          </a:xfrm>
          <a:custGeom>
            <a:avLst/>
            <a:gdLst/>
            <a:ahLst/>
            <a:rect l="l" t="t" r="r" b="b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rc 137"/>
          <p:cNvSpPr/>
          <p:nvPr/>
        </p:nvSpPr>
        <p:spPr>
          <a:xfrm>
            <a:off x="6012000" y="3357720"/>
            <a:ext cx="936360" cy="1871640"/>
          </a:xfrm>
          <a:custGeom>
            <a:avLst/>
            <a:gdLst>
              <a:gd name="textAreaLeft" fmla="*/ 0 w 936360"/>
              <a:gd name="textAreaRight" fmla="*/ 936720 w 9363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rc 137"/>
          <p:cNvSpPr/>
          <p:nvPr/>
        </p:nvSpPr>
        <p:spPr>
          <a:xfrm>
            <a:off x="6084720" y="2637000"/>
            <a:ext cx="358920" cy="504720"/>
          </a:xfrm>
          <a:custGeom>
            <a:avLst/>
            <a:gdLst>
              <a:gd name="textAreaLeft" fmla="*/ 0 w 358920"/>
              <a:gd name="textAreaRight" fmla="*/ 359280 w 358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rc 137"/>
          <p:cNvSpPr/>
          <p:nvPr/>
        </p:nvSpPr>
        <p:spPr>
          <a:xfrm>
            <a:off x="6084720" y="3645000"/>
            <a:ext cx="358920" cy="504720"/>
          </a:xfrm>
          <a:custGeom>
            <a:avLst/>
            <a:gdLst>
              <a:gd name="textAreaLeft" fmla="*/ 0 w 358920"/>
              <a:gd name="textAreaRight" fmla="*/ 359280 w 358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rc 137"/>
          <p:cNvSpPr/>
          <p:nvPr/>
        </p:nvSpPr>
        <p:spPr>
          <a:xfrm>
            <a:off x="6084720" y="5229360"/>
            <a:ext cx="358920" cy="288720"/>
          </a:xfrm>
          <a:custGeom>
            <a:avLst/>
            <a:gdLst>
              <a:gd name="textAreaLeft" fmla="*/ 0 w 358920"/>
              <a:gd name="textAreaRight" fmla="*/ 359280 w 358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rc 137"/>
          <p:cNvSpPr/>
          <p:nvPr/>
        </p:nvSpPr>
        <p:spPr>
          <a:xfrm>
            <a:off x="6084720" y="5732640"/>
            <a:ext cx="358920" cy="576000"/>
          </a:xfrm>
          <a:custGeom>
            <a:avLst/>
            <a:gdLst>
              <a:gd name="textAreaLeft" fmla="*/ 0 w 358920"/>
              <a:gd name="textAreaRight" fmla="*/ 359280 w 3589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6659640" y="981000"/>
            <a:ext cx="2305080" cy="1152720"/>
          </a:xfrm>
          <a:prstGeom prst="wedgeRoundRectCallout">
            <a:avLst>
              <a:gd name="adj1" fmla="val -59624"/>
              <a:gd name="adj2" fmla="val 2389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ными стрелками показаны смены правил  на альтернатив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7093080" y="2781360"/>
            <a:ext cx="2050920" cy="2448000"/>
          </a:xfrm>
          <a:prstGeom prst="wedgeRoundRectCallout">
            <a:avLst>
              <a:gd name="adj1" fmla="val -68060"/>
              <a:gd name="adj2" fmla="val 21379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ые стрелки показывают воз-враты, требую-щие сменить правило преды-дущих уровней, что требует сох-ранения истории разб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137"/>
          <p:cNvSpPr/>
          <p:nvPr/>
        </p:nvSpPr>
        <p:spPr>
          <a:xfrm>
            <a:off x="6084720" y="1628640"/>
            <a:ext cx="358920" cy="432000"/>
          </a:xfrm>
          <a:custGeom>
            <a:avLst/>
            <a:gdLst>
              <a:gd name="textAreaLeft" fmla="*/ 0 w 358920"/>
              <a:gd name="textAreaRight" fmla="*/ 359280 w 358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rc 137"/>
          <p:cNvSpPr/>
          <p:nvPr/>
        </p:nvSpPr>
        <p:spPr>
          <a:xfrm>
            <a:off x="6084720" y="4724280"/>
            <a:ext cx="358920" cy="289080"/>
          </a:xfrm>
          <a:custGeom>
            <a:avLst/>
            <a:gdLst>
              <a:gd name="textAreaLeft" fmla="*/ 0 w 358920"/>
              <a:gd name="textAreaRight" fmla="*/ 359280 w 3589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6659640" y="5445000"/>
            <a:ext cx="2305080" cy="1152720"/>
          </a:xfrm>
          <a:prstGeom prst="wedgeRoundRectCallout">
            <a:avLst>
              <a:gd name="adj1" fmla="val -49462"/>
              <a:gd name="adj2" fmla="val 16342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враты вызваны неправильным выбором альтернатив 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9E01-72DE-4443-9AAF-38B3EAB4A0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6868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Левосторонний восходящий грамматический разб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22960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зобрать строку «-45», используя пр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::= &lt;знак&gt;&lt;целое без знака&gt;|&lt;целое без знака&gt;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::= &lt;целое без знака&gt;&lt;цифра&gt;|&lt;цифра&gt;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 &gt; ::= 0|1|2|3|4|5|6|7|8|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::= +| -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дея мет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зборе строка просматривается слева направо и ищется часть, совпадающая с правой частью правила, – осн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818ff"/>
                </a:solidFill>
                <a:latin typeface="Arial"/>
              </a:rPr>
              <a:t>Основа</a:t>
            </a:r>
            <a:r>
              <a:rPr b="0" lang="ru-RU" sz="2000" spc="-1" strike="noStrike">
                <a:solidFill>
                  <a:srgbClr val="1818ff"/>
                </a:solidFill>
                <a:latin typeface="Arial"/>
              </a:rPr>
              <a:t> – последовательность символов, сворачиваемая на следующем шаге разб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ая основа заменяется левой частью соответствующего правила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выбора основ определена алгоритм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ерный выбор основы приводит к необходимости возв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6875640" y="2060640"/>
            <a:ext cx="1942920" cy="647640"/>
          </a:xfrm>
          <a:prstGeom prst="wedgeRoundRectCallout">
            <a:avLst>
              <a:gd name="adj1" fmla="val -149888"/>
              <a:gd name="adj2" fmla="val -7458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восторонняя рекур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3D50-15C1-4EC2-AB7F-732B8267DD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6868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Левосторонний восходящий грамматический разб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ь получения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ентенциа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орм при разбор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ифра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елое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2268360" y="2421000"/>
            <a:ext cx="1440000" cy="360360"/>
          </a:xfrm>
          <a:prstGeom prst="wedgeRoundRectCallout">
            <a:avLst>
              <a:gd name="adj1" fmla="val -89023"/>
              <a:gd name="adj2" fmla="val 1347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2843280" y="3284640"/>
            <a:ext cx="1439640" cy="360360"/>
          </a:xfrm>
          <a:prstGeom prst="wedgeRoundRectCallout">
            <a:avLst>
              <a:gd name="adj1" fmla="val -80064"/>
              <a:gd name="adj2" fmla="val -2441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3276720" y="4149720"/>
            <a:ext cx="1439640" cy="360360"/>
          </a:xfrm>
          <a:prstGeom prst="wedgeRoundRectCallout">
            <a:avLst>
              <a:gd name="adj1" fmla="val -108722"/>
              <a:gd name="adj2" fmla="val 285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3635280" y="4869000"/>
            <a:ext cx="1440000" cy="360360"/>
          </a:xfrm>
          <a:prstGeom prst="wedgeRoundRectCallout">
            <a:avLst>
              <a:gd name="adj1" fmla="val -71833"/>
              <a:gd name="adj2" fmla="val -1822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5796000" y="4149720"/>
            <a:ext cx="2448000" cy="1008000"/>
          </a:xfrm>
          <a:prstGeom prst="wedgeRoundRectCallout">
            <a:avLst>
              <a:gd name="adj1" fmla="val -43722"/>
              <a:gd name="adj2" fmla="val 4593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враты возникают из-за неверного выбора осно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4427640" y="148428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елое&gt; ::= &lt;знак&gt;&lt;ЦБЗ&gt;|&lt; ЦБЗ &gt;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БЗ&gt; ::= &lt;ЦБЗ&gt;&lt;цифра&gt;|&lt;цифра&gt;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ифра &gt; ::= 0|1|2|3|4|5|6|7|8|9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знак&gt; ::= +|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A56D-C7B9-48AB-A9E8-43F6507381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3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лассификация грамматик Хомс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ки фразовой структуры или грамматики «без ограничений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, где 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, 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– в таких грамматиках допустимо наличие любых правил вывода, что свойственно грамматикам естественных яз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нтекстно-зависимые (неукорачивающие)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, где 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, | α |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| β | – в этих грамматиках для правил вида α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α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β возможность подстановки строк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место символ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ся присутствием подстрок α и β, т. е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текс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что также свойственно грамматикам естественных яз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нтекстно-свободные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, 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β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– поскольку в левой части правила стоит нетерминал, подстановки не зависят от контек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регулярные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F398-FEBB-40A9-918E-3E7FA36A38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едение. Метод Рутисхауз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. Записать в полной скобочной фор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опоставить индек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Цикл-пока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’_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Если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ли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 = &lt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операнд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то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: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-1]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иначе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предели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ндекс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строить трой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далить обработанные символы из выражения, результату сопоставить индекс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991A-8D9B-437A-8596-68FB20FBE6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2.4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познавание регулярных грамматик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2.4.1 Конечный авто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δ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нечное множество состоя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чное множество входных симво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δ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– функция переходов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текущее состояние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чередной симво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чальное состоя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 – подмножество допускающих состоя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втомат «Чет-нечет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Чет, Нечет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{0, 1}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δ(Чет, 0) = Чет, δ(Нечет, 0) = Неч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δ(Чет, 1) = Нечет, δ(Нечет, 1) = Ч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Ч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Чет}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724360" y="3860640"/>
          <a:ext cx="2880000" cy="1152720"/>
        </p:xfrm>
        <a:graphic>
          <a:graphicData uri="http://schemas.openxmlformats.org/drawingml/2006/table">
            <a:tbl>
              <a:tblPr/>
              <a:tblGrid>
                <a:gridCol w="1028880"/>
                <a:gridCol w="952560"/>
                <a:gridCol w="898560"/>
              </a:tblGrid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Text Box 22"/>
          <p:cNvSpPr/>
          <p:nvPr/>
        </p:nvSpPr>
        <p:spPr>
          <a:xfrm>
            <a:off x="6013080" y="342900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а пере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3"/>
          <p:cNvSpPr/>
          <p:nvPr/>
        </p:nvSpPr>
        <p:spPr>
          <a:xfrm>
            <a:off x="2465280" y="5919840"/>
            <a:ext cx="72072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4"/>
          <p:cNvSpPr/>
          <p:nvPr/>
        </p:nvSpPr>
        <p:spPr>
          <a:xfrm>
            <a:off x="3833640" y="5919840"/>
            <a:ext cx="72072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rc 25"/>
          <p:cNvSpPr/>
          <p:nvPr/>
        </p:nvSpPr>
        <p:spPr>
          <a:xfrm flipV="1">
            <a:off x="3041640" y="6495480"/>
            <a:ext cx="865080" cy="215640"/>
          </a:xfrm>
          <a:custGeom>
            <a:avLst/>
            <a:gdLst>
              <a:gd name="textAreaLeft" fmla="*/ 0 w 865080"/>
              <a:gd name="textAreaRight" fmla="*/ 865440 w 865080"/>
              <a:gd name="textAreaTop" fmla="*/ -360 h 215640"/>
              <a:gd name="textAreaBottom" fmla="*/ 215640 h 215640"/>
            </a:gdLst>
            <a:ahLst/>
            <a:rect l="textAreaLeft" t="textAreaTop" r="textAreaRight" b="textAreaBottom"/>
            <a:pathLst>
              <a:path fill="none" w="43074" h="21600">
                <a:moveTo>
                  <a:pt x="-1" y="19272"/>
                </a:moveTo>
                <a:cubicBezTo>
                  <a:pt x="1187" y="8308"/>
                  <a:pt x="10445" y="-1"/>
                  <a:pt x="21474" y="0"/>
                </a:cubicBezTo>
                <a:cubicBezTo>
                  <a:pt x="33403" y="0"/>
                  <a:pt x="43074" y="9670"/>
                  <a:pt x="43074" y="21600"/>
                </a:cubicBezTo>
              </a:path>
              <a:path stroke="0" w="43074" h="21600">
                <a:moveTo>
                  <a:pt x="-1" y="19272"/>
                </a:moveTo>
                <a:cubicBezTo>
                  <a:pt x="1187" y="8308"/>
                  <a:pt x="10445" y="-1"/>
                  <a:pt x="21474" y="0"/>
                </a:cubicBezTo>
                <a:cubicBezTo>
                  <a:pt x="33403" y="0"/>
                  <a:pt x="43074" y="9670"/>
                  <a:pt x="43074" y="21600"/>
                </a:cubicBezTo>
                <a:lnTo>
                  <a:pt x="21474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rc 26"/>
          <p:cNvSpPr/>
          <p:nvPr/>
        </p:nvSpPr>
        <p:spPr>
          <a:xfrm>
            <a:off x="3041640" y="5775480"/>
            <a:ext cx="865080" cy="215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43074" h="21600">
                <a:moveTo>
                  <a:pt x="-1" y="19272"/>
                </a:moveTo>
                <a:cubicBezTo>
                  <a:pt x="1187" y="8308"/>
                  <a:pt x="10445" y="-1"/>
                  <a:pt x="21474" y="0"/>
                </a:cubicBezTo>
                <a:cubicBezTo>
                  <a:pt x="33403" y="0"/>
                  <a:pt x="43074" y="9670"/>
                  <a:pt x="43074" y="21600"/>
                </a:cubicBezTo>
              </a:path>
              <a:path stroke="0" w="43074" h="21600">
                <a:moveTo>
                  <a:pt x="-1" y="19272"/>
                </a:moveTo>
                <a:cubicBezTo>
                  <a:pt x="1187" y="8308"/>
                  <a:pt x="10445" y="-1"/>
                  <a:pt x="21474" y="0"/>
                </a:cubicBezTo>
                <a:cubicBezTo>
                  <a:pt x="33403" y="0"/>
                  <a:pt x="43074" y="9670"/>
                  <a:pt x="43074" y="21600"/>
                </a:cubicBezTo>
                <a:lnTo>
                  <a:pt x="21474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3332520" y="628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3332520" y="577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rc 29"/>
          <p:cNvSpPr/>
          <p:nvPr/>
        </p:nvSpPr>
        <p:spPr>
          <a:xfrm flipV="1">
            <a:off x="4410000" y="5990400"/>
            <a:ext cx="620640" cy="577800"/>
          </a:xfrm>
          <a:custGeom>
            <a:avLst/>
            <a:gdLst>
              <a:gd name="textAreaLeft" fmla="*/ 0 w 620640"/>
              <a:gd name="textAreaRight" fmla="*/ 621000 w 620640"/>
              <a:gd name="textAreaTop" fmla="*/ -360 h 577800"/>
              <a:gd name="textAreaBottom" fmla="*/ 577800 h 577800"/>
            </a:gdLst>
            <a:ahLst/>
            <a:rect l="textAreaLeft" t="textAreaTop" r="textAreaRight" b="textAreaBottom"/>
            <a:pathLst>
              <a:path fill="none" w="31065" h="43200">
                <a:moveTo>
                  <a:pt x="2718" y="1080"/>
                </a:moveTo>
                <a:cubicBezTo>
                  <a:pt x="4895" y="364"/>
                  <a:pt x="7173" y="-1"/>
                  <a:pt x="9465" y="0"/>
                </a:cubicBezTo>
                <a:cubicBezTo>
                  <a:pt x="21394" y="0"/>
                  <a:pt x="31065" y="9670"/>
                  <a:pt x="31065" y="21600"/>
                </a:cubicBezTo>
                <a:cubicBezTo>
                  <a:pt x="31065" y="33529"/>
                  <a:pt x="21394" y="43200"/>
                  <a:pt x="9465" y="43200"/>
                </a:cubicBezTo>
                <a:cubicBezTo>
                  <a:pt x="6185" y="43200"/>
                  <a:pt x="2948" y="42453"/>
                  <a:pt x="0" y="41015"/>
                </a:cubicBezTo>
              </a:path>
              <a:path stroke="0" w="31065" h="43200">
                <a:moveTo>
                  <a:pt x="2718" y="1080"/>
                </a:moveTo>
                <a:cubicBezTo>
                  <a:pt x="4895" y="364"/>
                  <a:pt x="7173" y="-1"/>
                  <a:pt x="9465" y="0"/>
                </a:cubicBezTo>
                <a:cubicBezTo>
                  <a:pt x="21394" y="0"/>
                  <a:pt x="31065" y="9670"/>
                  <a:pt x="31065" y="21600"/>
                </a:cubicBezTo>
                <a:cubicBezTo>
                  <a:pt x="31065" y="33529"/>
                  <a:pt x="21394" y="43200"/>
                  <a:pt x="9465" y="43200"/>
                </a:cubicBezTo>
                <a:cubicBezTo>
                  <a:pt x="6185" y="43200"/>
                  <a:pt x="2948" y="42453"/>
                  <a:pt x="0" y="41015"/>
                </a:cubicBezTo>
                <a:lnTo>
                  <a:pt x="9465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627800" y="606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rc 31"/>
          <p:cNvSpPr/>
          <p:nvPr/>
        </p:nvSpPr>
        <p:spPr>
          <a:xfrm flipH="1" flipV="1">
            <a:off x="1890000" y="5990400"/>
            <a:ext cx="647640" cy="577800"/>
          </a:xfrm>
          <a:custGeom>
            <a:avLst/>
            <a:gdLst>
              <a:gd name="textAreaLeft" fmla="*/ -360 w 647640"/>
              <a:gd name="textAreaRight" fmla="*/ 647640 w 647640"/>
              <a:gd name="textAreaTop" fmla="*/ -360 h 577800"/>
              <a:gd name="textAreaBottom" fmla="*/ 577800 h 577800"/>
            </a:gdLst>
            <a:ahLst/>
            <a:rect l="textAreaLeft" t="textAreaTop" r="textAreaRight" b="textAreaBottom"/>
            <a:pathLst>
              <a:path fill="none" w="31065" h="43200">
                <a:moveTo>
                  <a:pt x="2718" y="1080"/>
                </a:moveTo>
                <a:cubicBezTo>
                  <a:pt x="4895" y="364"/>
                  <a:pt x="7173" y="-1"/>
                  <a:pt x="9465" y="0"/>
                </a:cubicBezTo>
                <a:cubicBezTo>
                  <a:pt x="21394" y="0"/>
                  <a:pt x="31065" y="9670"/>
                  <a:pt x="31065" y="21600"/>
                </a:cubicBezTo>
                <a:cubicBezTo>
                  <a:pt x="31065" y="33529"/>
                  <a:pt x="21394" y="43200"/>
                  <a:pt x="9465" y="43200"/>
                </a:cubicBezTo>
                <a:cubicBezTo>
                  <a:pt x="6185" y="43200"/>
                  <a:pt x="2948" y="42453"/>
                  <a:pt x="0" y="41015"/>
                </a:cubicBezTo>
              </a:path>
              <a:path stroke="0" w="31065" h="43200">
                <a:moveTo>
                  <a:pt x="2718" y="1080"/>
                </a:moveTo>
                <a:cubicBezTo>
                  <a:pt x="4895" y="364"/>
                  <a:pt x="7173" y="-1"/>
                  <a:pt x="9465" y="0"/>
                </a:cubicBezTo>
                <a:cubicBezTo>
                  <a:pt x="21394" y="0"/>
                  <a:pt x="31065" y="9670"/>
                  <a:pt x="31065" y="21600"/>
                </a:cubicBezTo>
                <a:cubicBezTo>
                  <a:pt x="31065" y="33529"/>
                  <a:pt x="21394" y="43200"/>
                  <a:pt x="9465" y="43200"/>
                </a:cubicBezTo>
                <a:cubicBezTo>
                  <a:pt x="6185" y="43200"/>
                  <a:pt x="2948" y="42453"/>
                  <a:pt x="0" y="41015"/>
                </a:cubicBezTo>
                <a:lnTo>
                  <a:pt x="9465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2"/>
          <p:cNvSpPr/>
          <p:nvPr/>
        </p:nvSpPr>
        <p:spPr>
          <a:xfrm flipH="1">
            <a:off x="1963440" y="606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430880" y="573408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 пере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4"/>
          <p:cNvSpPr/>
          <p:nvPr/>
        </p:nvSpPr>
        <p:spPr>
          <a:xfrm>
            <a:off x="7524720" y="551664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5"/>
          <p:cNvSpPr/>
          <p:nvPr/>
        </p:nvSpPr>
        <p:spPr>
          <a:xfrm>
            <a:off x="6948360" y="594828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6"/>
          <p:cNvSpPr/>
          <p:nvPr/>
        </p:nvSpPr>
        <p:spPr>
          <a:xfrm>
            <a:off x="8172360" y="594828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37"/>
          <p:cNvSpPr/>
          <p:nvPr/>
        </p:nvSpPr>
        <p:spPr>
          <a:xfrm>
            <a:off x="7524720" y="623736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8"/>
          <p:cNvSpPr/>
          <p:nvPr/>
        </p:nvSpPr>
        <p:spPr>
          <a:xfrm>
            <a:off x="6588000" y="6669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9"/>
          <p:cNvSpPr/>
          <p:nvPr/>
        </p:nvSpPr>
        <p:spPr>
          <a:xfrm flipH="1">
            <a:off x="7308360" y="609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0"/>
          <p:cNvSpPr/>
          <p:nvPr/>
        </p:nvSpPr>
        <p:spPr>
          <a:xfrm flipH="1" flipV="1">
            <a:off x="8459280" y="623700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1"/>
          <p:cNvSpPr/>
          <p:nvPr/>
        </p:nvSpPr>
        <p:spPr>
          <a:xfrm flipH="1">
            <a:off x="6732720" y="6261120"/>
            <a:ext cx="2635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2"/>
          <p:cNvSpPr/>
          <p:nvPr/>
        </p:nvSpPr>
        <p:spPr>
          <a:xfrm flipV="1">
            <a:off x="7451640" y="5820840"/>
            <a:ext cx="162000" cy="2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3"/>
          <p:cNvSpPr/>
          <p:nvPr/>
        </p:nvSpPr>
        <p:spPr>
          <a:xfrm>
            <a:off x="7788240" y="5848200"/>
            <a:ext cx="16848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4"/>
          <p:cNvSpPr/>
          <p:nvPr/>
        </p:nvSpPr>
        <p:spPr>
          <a:xfrm flipH="1">
            <a:off x="7380000" y="6453360"/>
            <a:ext cx="14436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5"/>
          <p:cNvSpPr/>
          <p:nvPr/>
        </p:nvSpPr>
        <p:spPr>
          <a:xfrm flipH="1" flipV="1">
            <a:off x="7883280" y="6453000"/>
            <a:ext cx="14436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6"/>
          <p:cNvSpPr/>
          <p:nvPr/>
        </p:nvSpPr>
        <p:spPr>
          <a:xfrm>
            <a:off x="5918040" y="5157720"/>
            <a:ext cx="32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аксическая диа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8DD9-A753-400D-B3D8-23873824FC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ная реализация конечного автом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25600" y="2884320"/>
            <a:ext cx="8229600" cy="37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Ошибка» 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Кон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«Кон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 «Строка приня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аче «Строка отвергну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-е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187280" y="981000"/>
          <a:ext cx="6769440" cy="1673280"/>
        </p:xfrm>
        <a:graphic>
          <a:graphicData uri="http://schemas.openxmlformats.org/drawingml/2006/table">
            <a:tbl>
              <a:tblPr/>
              <a:tblGrid>
                <a:gridCol w="1354320"/>
                <a:gridCol w="1353960"/>
                <a:gridCol w="1352880"/>
                <a:gridCol w="1353960"/>
                <a:gridCol w="13543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ер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4AF4-7E69-4E2C-83E0-7252857CBED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4.2 Лексические анализа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915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познаватель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416720" cy="12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250920" y="3716280"/>
          <a:ext cx="4897440" cy="2260800"/>
        </p:xfrm>
        <a:graphic>
          <a:graphicData uri="http://schemas.openxmlformats.org/drawingml/2006/table">
            <a:tbl>
              <a:tblPr/>
              <a:tblGrid>
                <a:gridCol w="936360"/>
                <a:gridCol w="924120"/>
                <a:gridCol w="909720"/>
                <a:gridCol w="1149120"/>
                <a:gridCol w="97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-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-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-л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А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A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A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Text Box 37"/>
          <p:cNvSpPr/>
          <p:nvPr/>
        </p:nvSpPr>
        <p:spPr>
          <a:xfrm>
            <a:off x="5219640" y="2852640"/>
            <a:ext cx="39243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ициализация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 := 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_числа := «+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1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Знак_числа :=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2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 := Целое*10 + 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3: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с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нак_числа = «-»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 := -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се-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1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«Строка не является  числом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2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«Два знака рядом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3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«В строке отсутствуют цифры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4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 строке встречаются недопустимые символ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9A99-366C-40D7-A872-C6DB13C146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ознаватель цел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0560" y="952560"/>
            <a:ext cx="8435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= «+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= «-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«0»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«9»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j 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АЗДЕЛ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]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5148360" y="1052640"/>
            <a:ext cx="399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«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 Выполн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ести «Это число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аче Вывести сообщ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-ес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5219640" y="4383000"/>
          <a:ext cx="3924360" cy="2071800"/>
        </p:xfrm>
        <a:graphic>
          <a:graphicData uri="http://schemas.openxmlformats.org/drawingml/2006/table">
            <a:tbl>
              <a:tblPr/>
              <a:tblGrid>
                <a:gridCol w="934920"/>
                <a:gridCol w="714600"/>
                <a:gridCol w="668160"/>
                <a:gridCol w="870120"/>
                <a:gridCol w="73656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-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-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-л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-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А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A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61DD-94B8-49FF-8A02-6181E30CEC8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4.3 Синтаксические анализато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7138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таксический анализатор списка описания целых скаляров, массивов и функций, например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a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22[5]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r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2][4]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), 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V,V[N],V[N][N],V[N],V(),*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5184720" cy="19447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5"/>
          <p:cNvSpPr/>
          <p:nvPr/>
        </p:nvSpPr>
        <p:spPr>
          <a:xfrm>
            <a:off x="250920" y="4076640"/>
            <a:ext cx="525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*  (  )  [  ]  ,  ;  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1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2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2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4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6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1  К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4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5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5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1  К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6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7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7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8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8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6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1  К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580000" y="2133720"/>
            <a:ext cx="356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означ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идентификатор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целочисленная констан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ужебные символы: «[ ] ( ) , ; *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177840" y="4363920"/>
            <a:ext cx="4984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 flipV="1">
            <a:off x="609480" y="422064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8937-6C94-4474-AE3D-EB2C0156AA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анализ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Е»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 «VN*()[];»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 Вывести сообщение «Да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 Вывести сообщение «Нет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 «VN*()[];»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позиция (номер столбца таблицы) очередного символа в строке символов или 0, если это «другой» симв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955B-EA08-4131-AACB-356091748EA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5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спознавание КС-грамматик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5.1 Автомат с магазинной памя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31256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конечное множество состояний автома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ечный входной алфави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 – конечное множество магазинных символ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функция переход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 начальное состояние автома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 – символ, находящийся в магазине в начальный момен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ножество заключительных (допускающих) состоя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603D-0BF0-4117-982A-1B84B3EAD8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таксические диаграммы вы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0" y="836640"/>
            <a:ext cx="89647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нтаксический анализатор выра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{&lt;Ид&gt;, +, –, *,  /, (, ), ◄, ►}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: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* (B + C) + (D + F) / (A + B) - C *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4"/>
          <p:cNvGraphicFramePr/>
          <p:nvPr/>
        </p:nvGraphicFramePr>
        <p:xfrm>
          <a:off x="1258920" y="2565360"/>
          <a:ext cx="6261120" cy="37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565360"/>
                    <a:ext cx="626112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03A5-F566-4008-848D-B4861D5637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диненная синтаксическая диа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5690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F533-83E4-4745-A37C-BF895174F4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лица переходов автома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-1405080" y="1052640"/>
          <a:ext cx="11809440" cy="58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05080" y="1052640"/>
                    <a:ext cx="118094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8609-AECE-40F0-8958-B56ECFB5DB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использования метода Рутисхаузера для разбора вы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2760" y="144756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:      (  (  ( a +  b ) * c  ) + d )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:   0 1 2 3 4 3 4 3 2 3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2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:      (  ( T1 * c  ) + d )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:   0 1 2 3  2 3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2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:      ( T2 + d )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:   0 1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2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:      T3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  0 1  0  1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050920" y="3543480"/>
            <a:ext cx="1295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268360" y="2449440"/>
            <a:ext cx="1295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63640" y="4653000"/>
            <a:ext cx="1295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763640" y="5740560"/>
            <a:ext cx="936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6372360" y="242100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1 = a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6372360" y="342900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2 = T1*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6372360" y="443700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6372360" y="551664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4 = T3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A89D-C6E6-45E7-B645-3879150A74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распозна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58720" y="69840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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 Есл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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«Строка приня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 «Строка отвергну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B1B3-424A-4E5D-BF49-7A6759629A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820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2.5.2 Синтаксические анализатор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L(k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мматик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восторонний нисходящий грамматический раз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4"/>
          <p:cNvGraphicFramePr/>
          <p:nvPr/>
        </p:nvGraphicFramePr>
        <p:xfrm>
          <a:off x="-1179360" y="903240"/>
          <a:ext cx="9144000" cy="634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79360" y="903240"/>
                    <a:ext cx="914400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Arc 137"/>
          <p:cNvSpPr/>
          <p:nvPr/>
        </p:nvSpPr>
        <p:spPr>
          <a:xfrm>
            <a:off x="6084720" y="4437000"/>
            <a:ext cx="648000" cy="216000"/>
          </a:xfrm>
          <a:custGeom>
            <a:avLst/>
            <a:gdLst>
              <a:gd name="textAreaLeft" fmla="*/ 0 w 648000"/>
              <a:gd name="textAreaRight" fmla="*/ 648000 w 64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rc 137"/>
          <p:cNvSpPr/>
          <p:nvPr/>
        </p:nvSpPr>
        <p:spPr>
          <a:xfrm>
            <a:off x="6012000" y="3357720"/>
            <a:ext cx="936360" cy="1871640"/>
          </a:xfrm>
          <a:custGeom>
            <a:avLst/>
            <a:gdLst>
              <a:gd name="textAreaLeft" fmla="*/ 0 w 936360"/>
              <a:gd name="textAreaRight" fmla="*/ 936720 w 9363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137"/>
          <p:cNvSpPr/>
          <p:nvPr/>
        </p:nvSpPr>
        <p:spPr>
          <a:xfrm>
            <a:off x="6084720" y="2637000"/>
            <a:ext cx="358920" cy="431640"/>
          </a:xfrm>
          <a:custGeom>
            <a:avLst/>
            <a:gdLst>
              <a:gd name="textAreaLeft" fmla="*/ 0 w 358920"/>
              <a:gd name="textAreaRight" fmla="*/ 359280 w 358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rc 137"/>
          <p:cNvSpPr/>
          <p:nvPr/>
        </p:nvSpPr>
        <p:spPr>
          <a:xfrm>
            <a:off x="6084720" y="3645000"/>
            <a:ext cx="358920" cy="504720"/>
          </a:xfrm>
          <a:custGeom>
            <a:avLst/>
            <a:gdLst>
              <a:gd name="textAreaLeft" fmla="*/ 0 w 358920"/>
              <a:gd name="textAreaRight" fmla="*/ 359280 w 358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rc 137"/>
          <p:cNvSpPr/>
          <p:nvPr/>
        </p:nvSpPr>
        <p:spPr>
          <a:xfrm>
            <a:off x="6084720" y="5229360"/>
            <a:ext cx="358920" cy="288720"/>
          </a:xfrm>
          <a:custGeom>
            <a:avLst/>
            <a:gdLst>
              <a:gd name="textAreaLeft" fmla="*/ 0 w 358920"/>
              <a:gd name="textAreaRight" fmla="*/ 359280 w 358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rc 137"/>
          <p:cNvSpPr/>
          <p:nvPr/>
        </p:nvSpPr>
        <p:spPr>
          <a:xfrm>
            <a:off x="6084720" y="5805360"/>
            <a:ext cx="358920" cy="432000"/>
          </a:xfrm>
          <a:custGeom>
            <a:avLst/>
            <a:gdLst>
              <a:gd name="textAreaLeft" fmla="*/ 0 w 358920"/>
              <a:gd name="textAreaRight" fmla="*/ 359280 w 358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rc 137"/>
          <p:cNvSpPr/>
          <p:nvPr/>
        </p:nvSpPr>
        <p:spPr>
          <a:xfrm>
            <a:off x="6084720" y="1628640"/>
            <a:ext cx="358920" cy="432000"/>
          </a:xfrm>
          <a:custGeom>
            <a:avLst/>
            <a:gdLst>
              <a:gd name="textAreaLeft" fmla="*/ 0 w 358920"/>
              <a:gd name="textAreaRight" fmla="*/ 359280 w 358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rc 137"/>
          <p:cNvSpPr/>
          <p:nvPr/>
        </p:nvSpPr>
        <p:spPr>
          <a:xfrm>
            <a:off x="6084720" y="4724280"/>
            <a:ext cx="358920" cy="217440"/>
          </a:xfrm>
          <a:custGeom>
            <a:avLst/>
            <a:gdLst>
              <a:gd name="textAreaLeft" fmla="*/ 0 w 358920"/>
              <a:gd name="textAreaRight" fmla="*/ 359280 w 3589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6659640" y="1341360"/>
            <a:ext cx="2305080" cy="1150920"/>
          </a:xfrm>
          <a:prstGeom prst="wedgeRoundRectCallout">
            <a:avLst>
              <a:gd name="adj1" fmla="val -49462"/>
              <a:gd name="adj2" fmla="val 16342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враты вызваны неправильным выбором альтернатив 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8"/>
          <p:cNvSpPr/>
          <p:nvPr/>
        </p:nvSpPr>
        <p:spPr>
          <a:xfrm>
            <a:off x="7164360" y="3429000"/>
            <a:ext cx="1871640" cy="1944720"/>
          </a:xfrm>
          <a:prstGeom prst="wedgeRoundRectCallout">
            <a:avLst>
              <a:gd name="adj1" fmla="val -49671"/>
              <a:gd name="adj2" fmla="val -19884"/>
              <a:gd name="adj3" fmla="val 16667"/>
            </a:avLst>
          </a:prstGeom>
          <a:solidFill>
            <a:srgbClr val="fb05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L(k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мматиках обеспечивается однозначный выбор прави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разб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3127-59FC-4F6C-A90A-7DC2730E48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640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таксические анализатор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L(k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915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а грамматика записи выраж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&lt;Строка&gt; ::= &lt;Выр&gt;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&lt;Выр&gt; ::= &lt;Терм&gt; &lt;Слож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&lt;Слож&gt; ::=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| + &lt;Терм&gt; &lt;Слож&gt; |  - &lt;Терм&gt;&lt;Слож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&lt;Терм&gt; ::= &lt;Множ&gt;&lt;Умн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&lt;Умн&gt; ::=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| *&lt;Множ&gt;&lt;Умн&gt; | / &lt;Множ&gt;&lt;Умн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&lt;Множ&gt; ::= &lt;Ид&gt; | (&lt;Выр&gt;)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Object 4"/>
          <p:cNvGraphicFramePr/>
          <p:nvPr/>
        </p:nvGraphicFramePr>
        <p:xfrm>
          <a:off x="-828720" y="3141720"/>
          <a:ext cx="1072836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28720" y="3141720"/>
                    <a:ext cx="1072836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A820-B145-4858-944E-3246A8DCA6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 рекурсивного с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4"/>
          <p:cNvGraphicFramePr/>
          <p:nvPr/>
        </p:nvGraphicFramePr>
        <p:xfrm>
          <a:off x="539640" y="1773360"/>
          <a:ext cx="7561440" cy="45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756144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D0CB-2848-4370-9F3C-079AB5A680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распозна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 Выра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Терм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к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=tru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extSymbol =’+’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Symbol =’-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Терм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е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 Тер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к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=tru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extSymbol =’*’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Symbol =’/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Множ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23F9-63A1-4AE9-BCFA-E7FDF0FC186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распознавателя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Bool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Symbol =’(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Выражение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Symbol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‘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Ошибка 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ач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: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ая програм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Выражение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Symbol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‘◄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Ошибка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521B-00D9-4928-B165-669700A965B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90741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ram Compil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{$APPTYPE CONSOL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ses  SysUti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 SetofChar=set of AnsiCh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Bukv:setofChar=['A'..'Z','a'..'z'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Cyfr:setofChar=['0'..'9'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Razd:setofChar=[' ','+','-','*','/',')'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St:shortstring; R: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ulc(Var St:shortstring;Razd:setofChar):boolean;forwar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 Error(St:shortstring);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Courier New"/>
              </a:rPr>
              <a:t>{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  <a:ea typeface="Courier New"/>
              </a:rPr>
              <a:t>вывод сообщений об ошибках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      WriteLn('Error *** ', st, ' ***');  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 Probel(Var St:shortstring);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Courier New"/>
              </a:rPr>
              <a:t>{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  <a:ea typeface="Courier New"/>
              </a:rPr>
              <a:t>удаление пробелов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   While (St&lt;&gt;'') and (St[1]=' ') do Delete(St,1,1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5147-22D4-46A6-8510-59EC61CADDC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Id(Var St:shortstring; Razd:setofChar):boolea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S:shortString; State,Ind,Col:by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TableId:array[1..2,1..4] of Byte=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2,0,0,0),(2,2,10,0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процедура удаления пробелов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:=1;   S:='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State&lt;&gt;0) and (State&lt;&gt;10) and (Length(St)&lt;&gt;0)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St[1] in ['A'..'Z','a'..'z'] then Col: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 if St[1] in ['0'..'9'] then Col: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f (St[1] in Razd) then Col: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Col:=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:=TableId[State,Col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6FE5-300F-4A87-A0BF-B9751DA40AB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tate&lt;&gt;0) and (State&lt;&gt;10) then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правильный символ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  S:=S+St[1]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ete(St,1,1);  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length(st)=0 then State:=10;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 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строка закончилась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tate=10) and (S&lt;&gt;'') then  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правильно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:=true;  WriteLn('Identify=',S)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tate=0) the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ошибка символа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:=fals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Wrong symbol *',St[1],'*')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нет идентификатора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  Result:=fals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Identifier waits...', 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A1F2-079F-4FE0-A411-8CFF4223A0D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ult(Var St:shortstring;Razd:setofChar)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R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St[1]='('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(St,1,1); 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Culc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 and (St[1]=')')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(St,1,1) else Error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R:=Id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ult:=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F29C-4CF1-4D48-88AE-70388254D1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1 Основные понятия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1.1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лассификация компилирующих програм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12560"/>
            <a:ext cx="8291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ансля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грамма, которая переводит програм-му, написанную на одном языке, в эквивалентную ей программу, написанную на другом язы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иля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нслятор с языка высокого уровня на машинный язык или язык ассемб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нслятор с языка Ассемблера на ма-шинны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грамма, которая принимает ис-ходную программу и выполняет ее, не создавая про-граммы на другом язы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крогенер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ля компиляторов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процесс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программа, которая обрабатывает исходную про-грамму, как текст, и выполняет в нем замены ука-занных символов на подстроки. Макрогенератор обрабатывает программу до трансля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AFD8-A9C6-4A13-8986-82BEDA1CF4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erm(Var St:shortstring;Razd:setofChar)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R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Mult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St[1]='*') or (St[1]='/')) and R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(St,1,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Mult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:=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F0A5-B562-4B8B-8028-E4561727A4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ulc(Var St:shortstring;Razd:setofChar)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R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Term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St[1]='+') or (St[1]='-')) and R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(St,1,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Term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lc:=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6CC6-9904-4258-B544-EDC20CC866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Input Strings:'); Readln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tr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St&lt;&gt;'end') and R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Culc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 and (length(st)=0) then Writeln('Yes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Writeln('No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Input Strings:'); Readln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Press Enter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B8A4-4D6A-42C4-80B7-64357CF916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 работы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Str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yy+(hjh-hj)*h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y=t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y=hj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y=h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y=h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Str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22F3-12D7-4175-BC0F-1AFFB5602D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2.5.3 Синтаксические анализатор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(k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и предше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23640" y="131256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восторонний восходящий грамматический разбо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ифра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елое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195640" y="2897280"/>
            <a:ext cx="1439640" cy="360360"/>
          </a:xfrm>
          <a:prstGeom prst="wedgeRoundRectCallout">
            <a:avLst>
              <a:gd name="adj1" fmla="val -89023"/>
              <a:gd name="adj2" fmla="val 1347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71640" y="3762360"/>
            <a:ext cx="1440000" cy="360360"/>
          </a:xfrm>
          <a:prstGeom prst="wedgeRoundRectCallout">
            <a:avLst>
              <a:gd name="adj1" fmla="val -80064"/>
              <a:gd name="adj2" fmla="val -2441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203640" y="4626000"/>
            <a:ext cx="1439640" cy="360360"/>
          </a:xfrm>
          <a:prstGeom prst="wedgeRoundRectCallout">
            <a:avLst>
              <a:gd name="adj1" fmla="val -108722"/>
              <a:gd name="adj2" fmla="val 285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7"/>
          <p:cNvSpPr/>
          <p:nvPr/>
        </p:nvSpPr>
        <p:spPr>
          <a:xfrm>
            <a:off x="3564000" y="5345280"/>
            <a:ext cx="1439640" cy="360360"/>
          </a:xfrm>
          <a:prstGeom prst="wedgeRoundRectCallout">
            <a:avLst>
              <a:gd name="adj1" fmla="val -71833"/>
              <a:gd name="adj2" fmla="val -1822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8"/>
          <p:cNvSpPr/>
          <p:nvPr/>
        </p:nvSpPr>
        <p:spPr>
          <a:xfrm>
            <a:off x="5651640" y="3429000"/>
            <a:ext cx="2808000" cy="1152360"/>
          </a:xfrm>
          <a:prstGeom prst="wedgeRoundRectCallout">
            <a:avLst>
              <a:gd name="adj1" fmla="val -43722"/>
              <a:gd name="adj2" fmla="val 4593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ты возникают из-за неверного выбора осн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0"/>
          <p:cNvSpPr/>
          <p:nvPr/>
        </p:nvSpPr>
        <p:spPr>
          <a:xfrm>
            <a:off x="4356000" y="19620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елое&gt; ::= &lt;знак&gt;&lt;ЦБЗ&gt;|&lt; ЦБЗ &gt;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БЗ&gt; ::= &lt;ЦБЗ&gt;&lt;цифра&gt;|&lt;цифра&gt;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ифра &gt; ::= 0|1|2|3|4|5|6|7|8|9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знак&gt; ::= +|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Скругленная прямоугольная выноска 11"/>
          <p:cNvSpPr/>
          <p:nvPr/>
        </p:nvSpPr>
        <p:spPr>
          <a:xfrm>
            <a:off x="5580000" y="4869000"/>
            <a:ext cx="2879640" cy="1584360"/>
          </a:xfrm>
          <a:prstGeom prst="wedgeRoundRectCallout">
            <a:avLst>
              <a:gd name="adj1" fmla="val -27384"/>
              <a:gd name="adj2" fmla="val 50111"/>
              <a:gd name="adj3" fmla="val 16667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R(k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ивают однозначный выбор осн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1202-0340-4E64-BB40-F927AC1D71C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74872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и предшеств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87200" y="981000"/>
            <a:ext cx="8956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задана некоторая произвольная строка – предложение язы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...αβ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два симво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и α, 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положены рядом в сентенциальной форме, то между ними возможны следующие отношения, названные отношениями предшествова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принадлежит основе, а β – нет, т. е. α – конец основы: 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gt; 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β принадлежит основе, а α – нет, т. е. β – начало основы: α &lt;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и β принадлежит одной основе, т. е. α =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и β не могут находиться рядом в сентенциальной форме (ошиб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мматикой предшеств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грамматика, в которой из последовательности символов однозначно следует определение осно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мматикой операторного предшеств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ется грамматика, в которой существует однозначное отношение предшествования терминальных символов, которое не зависит от нетерминальных символов, находящихся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941F-CE3D-432D-A8C7-54F5A5C50C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ение таблицы предш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24000" y="4365360"/>
            <a:ext cx="45352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+    ► A*    ►(A    ► A)    ►A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A+     +A*       +(A      +A)      +A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A+      *A*        *(A       *A )     *A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+       (A*       ((A        (A)       (A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+        A)*      A)(         A))      A)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Object 4"/>
          <p:cNvGraphicFramePr/>
          <p:nvPr/>
        </p:nvGraphicFramePr>
        <p:xfrm>
          <a:off x="4500720" y="3284640"/>
          <a:ext cx="13033080" cy="299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284640"/>
                    <a:ext cx="1303308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Text Box 5"/>
          <p:cNvSpPr/>
          <p:nvPr/>
        </p:nvSpPr>
        <p:spPr>
          <a:xfrm>
            <a:off x="611280" y="292428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о осно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ц осно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- одна осн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ши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50920" y="260280"/>
            <a:ext cx="87138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рамматика арифметических выраж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левосторонней рекурси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&lt;Выражение&gt;  ::= &lt;Терм&gt;|&lt;Выражение&gt;+&lt;Терм&gt;|&lt;Выражение&gt;- &lt;Терм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&lt;Терм&gt;  ::= &lt;Множитель&gt; | &lt;Терм&gt;* &lt;Множитель&gt; | &lt;Терм&gt; / &lt;Множитель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&lt;Множитель&gt; ::= (&lt;Выражение&gt;) | &lt;Идентификатор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81A8-3584-4794-9FB6-D204FCF4E87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разбора выражения стековым мет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0028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Object 4"/>
          <p:cNvGraphicFramePr/>
          <p:nvPr/>
        </p:nvGraphicFramePr>
        <p:xfrm>
          <a:off x="0" y="1557360"/>
          <a:ext cx="9144000" cy="49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7" dur="indefinite" restart="never" nodeType="tmRoot">
          <p:childTnLst>
            <p:seq>
              <p:cTn id="1758" dur="indefinite" nodeType="mainSeq">
                <p:childTnLst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8633-7950-48FE-AE13-79295C6DCC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903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ть программу, осуществляющую лексический анализ идентификаторов и служебных слов, а также синтаксический анализ сравнений (не более одной операции сравнения вида =, &lt;&gt;, &gt;, &lt;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gt;=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=), выражений с операциями +,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*, / и скобками, операторов условной передачи управления и присваивания в синтаксисе языка Паскаль. Наприм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aaa&gt;vvvv then j:=hhh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h then ffff:=hhh+(ppp+yyy)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исание синтаксиса язы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&gt; ; |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ваи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&gt; ::=if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|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ваи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&gt;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&lt;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11D1-74C2-4B76-B0FC-14C7A9A9383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кены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_ – идентификатор - операн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@@ – пустой операнд – дополнительный токен, который позволяет при разборе считывать строго по два токена &lt;операнд-оператор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лужеб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лужеб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лужеб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_, &lt;_, =_, &lt;&gt;, &gt;=, &lt;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 срав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_, -_, *_, /_, (_, )_ – операторы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 - служебное слово «присвоить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_ - конец опера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имера, приведенного в задан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aaa&gt;vvvv then j:=hhh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h then ffff:=hhh+(ppp+yyy)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 работы сканера должен выглядеть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i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&gt;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t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:=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e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i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t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:=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_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+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)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;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FC60-0CBD-4E9E-B00F-1EBDB8FB1C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1.2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руктура компилирующей программ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нтакси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совокупность правил, определяющих допустимые конструкции языка, т. е. его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фор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ман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совокупность правил, определяющих логическое соответствие между элементами и значением синтаксически корректных предложений, т. е.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зы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9AF8-5014-4BE4-8DF4-04C6FEC6A9F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лица предш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еализации использовано следующее кодирова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чало основ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ередина основ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конец основ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коб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– выхо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 – ошиб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6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4072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3A67-93AB-4326-9095-505FB6CC4A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Str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aaa&gt;vvvv then j:=hhhh else if h the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fff:=hhh*(ppp+yy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lugeb slovo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entify=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lugeb simbol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entify=vvv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lugeb slovo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entify=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Sc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ifV &gt; V thV :=V el@@ifV thV :=V * @@( V + V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5" dur="indefinite" restart="never" nodeType="tmRoot">
          <p:childTnLst>
            <p:seq>
              <p:cTn id="1876" dur="indefinite" nodeType="mainSeq">
                <p:childTnLst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406C-8E70-4652-8073-7DEF36F51D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 синтаксическог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aaa&gt;vvvv then j:=hhh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h then ffff:=hhh+(ppp+yy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Sc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ifV &gt; V thV :=V el@@ifV thV :=V * @@( V + V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 &gt; 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/ присваивание в ветви «да» внешнег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 + 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/ умножени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/ присваивание в ветви «да» вложенног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V thO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ожен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se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L thOpelO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860B-BC0E-44B9-AD2F-34D1A6AEAE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6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ьская запись. Алгоритм Бауэра-Замельзо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Польская запис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ставляет собой последовательность команд двух тип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дентификатор операнда – выбрать число по имен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заслать его в стек операн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я – выбрать два верхних числа из стека операндов, произвести над ними операцию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занести результат в стек операн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B*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E591-BB4F-4DF5-B7A2-6F1CCC8BC3A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17136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Бауэра-Замельз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87440" y="7412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польской запис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если символ – операнд, то вырабатывается команда 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если символ – операция, то выполняются действия согласно таблиц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аслать 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тек операций и читать следую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генерирова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слать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тек операций и читать следую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далить верхний символ из стека операций и читать следую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генерирова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овторить с тем же входным симво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" descr=""/>
          <p:cNvPicPr/>
          <p:nvPr/>
        </p:nvPicPr>
        <p:blipFill>
          <a:blip r:embed="rId1"/>
          <a:stretch/>
        </p:blipFill>
        <p:spPr>
          <a:xfrm>
            <a:off x="4232160" y="1844640"/>
            <a:ext cx="9936360" cy="26956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11665080" cy="230364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6"/>
          <p:cNvSpPr/>
          <p:nvPr/>
        </p:nvSpPr>
        <p:spPr>
          <a:xfrm>
            <a:off x="2249640" y="178920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253080" y="314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7" dur="indefinite" restart="never" nodeType="tmRoot">
          <p:childTnLst>
            <p:seq>
              <p:cTn id="1998" dur="indefinite" nodeType="mainSeq">
                <p:childTnLst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4710-7565-45B6-A534-4E87B38DA2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ить тройки дл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польской запис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4" descr=""/>
          <p:cNvPicPr/>
          <p:nvPr/>
        </p:nvPicPr>
        <p:blipFill>
          <a:blip r:embed="rId1"/>
          <a:stretch/>
        </p:blipFill>
        <p:spPr>
          <a:xfrm>
            <a:off x="-1116000" y="1700280"/>
            <a:ext cx="8748720" cy="463212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5"/>
          <p:cNvSpPr/>
          <p:nvPr/>
        </p:nvSpPr>
        <p:spPr>
          <a:xfrm>
            <a:off x="1878480" y="6165720"/>
            <a:ext cx="49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и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*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5" dur="indefinite" restart="never" nodeType="tmRoot">
          <p:childTnLst>
            <p:seq>
              <p:cTn id="2046" dur="indefinite" nodeType="mainSeq">
                <p:childTnLst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3B97-8A04-437B-87BE-06F684C646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е операций польской запис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"/>
          <p:cNvPicPr/>
          <p:nvPr/>
        </p:nvPicPr>
        <p:blipFill>
          <a:blip r:embed="rId1"/>
          <a:stretch/>
        </p:blipFill>
        <p:spPr>
          <a:xfrm>
            <a:off x="-181080" y="1700280"/>
            <a:ext cx="9649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9" dur="indefinite" restart="never" nodeType="tmRoot">
          <p:childTnLst>
            <p:seq>
              <p:cTn id="2060" dur="indefinite" nodeType="mainSeq">
                <p:childTnLst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BEBF-E47E-4071-9A57-3FF3F00C44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3 Распределение памяти под перемен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атическо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ется в процессе компиляции или загрузки в память (для сегмента неинициированных данных), используется для хранения глобальных перемен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томатическ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ыполняется при вызове подпрограмм, используется для локальных переменных, размещаемых в сте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правляем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ыполняется по запросу программист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, dele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используется для динамических переменных, размещаемых в динамической памя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базирован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также выполняется по запросу программиста, но большими фрагментам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mem, freeme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за размещение переменных отвечает программист.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69EF-1A6B-44B5-AABF-E245E524B3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4 Генерация код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рация кодов – процесс замены распознанных конструкций на соответствующий заранее заготовленный фраг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«заготовки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    AX, &lt;Op1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   AX, &lt;Op2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подставляемый фрагмент автоматически настраивается по данным, находящимся в таблице раз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ая программа очень далека от оптимальной, поэтому осуществляется ее автоматическая оптимизация еще на уровне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7" dur="indefinite" restart="never" nodeType="tmRoot">
          <p:childTnLst>
            <p:seq>
              <p:cTn id="2088" dur="indefinite" nodeType="mainSeq">
                <p:childTnLst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26E7-C4CC-46DC-8674-0922BFBFED0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тимизация к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ются два критерия эффективности результирующей программы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71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ем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я программ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71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м памя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еобходимый для выполнения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м случае задача построения оптимального кода программы алгоритмически неразрешима. Основная оптимизация программы должна производится программис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личают две группы метод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714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шинно-независим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мизация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исключение повторных вычислений одних и тех же операн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выполнение операций над константами во время трансля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вынесение из циклов вычисления величин, не зависящих от параметров цик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упрощение сложных логических выражений и т. 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7144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шинно-зависим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мизация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исключение лишних передач данных типа «память-регистр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выб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эффективных команд т. 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7450-61D8-43B1-86A1-B46AF5F664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процесса компиля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692360" y="1052640"/>
            <a:ext cx="575928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692360" y="2205000"/>
            <a:ext cx="5759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нтаксический анал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692360" y="3357720"/>
            <a:ext cx="575928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антический анал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692360" y="4581360"/>
            <a:ext cx="5759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ение памя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692360" y="5805360"/>
            <a:ext cx="5759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ерация и оптимизация объектного к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4572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4572000" y="27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4572000" y="393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4572000" y="515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C933-1BFB-4D45-BB53-6F257541F2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Удаление недостижимого к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компилятора найти и исключить код, на который не передается управ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1;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2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7" dur="indefinite" restart="never" nodeType="tmRoot">
          <p:childTnLst>
            <p:seq>
              <p:cTn id="2118" dur="indefinite" nodeType="mainSeq">
                <p:childTnLst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EC5B-B2A5-48D8-9117-676AB5C1AB5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Оптимизация линейных участков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временных системах программирования профилировщик на основе результатов запуска программы выдаёт информацию о том, на какие её линейные участки приходится основное время выполнения. Для этих фрагментов выполн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ление бесполезных присваива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b * c; d = b + c; a = d * c; 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d = b + c;  a = d *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, в следующем примере эта операция уже не бесполез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= &amp; a;  a = b * c;  d = * p + c;  a = d *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ключение избыточных вычисл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 = d + b * c;  a = d + b * c;  c = d + b * c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 = b * c;  d = d + t;  a = d + t;  c =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ртка объектного к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выполнение во время компиляции тех операций исходной программы, для которых значения операндов уже извест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; 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; 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1" dur="indefinite" restart="never" nodeType="tmRoot">
          <p:childTnLst>
            <p:seq>
              <p:cTn id="2152" dur="indefinite" nodeType="mainSeq">
                <p:childTnLst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7956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) Перестановка операц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ля дальнейшей свертки или оптимизации вычислен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2 * b * 3 * c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(2 * 3) * (b * 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(b 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 + (d + e)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(b + (c + (d + e) 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) Арифметические преобраз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 основе алгебраических и логических тождест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b * c + b * d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b * (c + 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* 1 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a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a * 0 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0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+ 0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a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Оптимизация вычисления логических выр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!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сег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р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быть побочный эфф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Подстановка кода функции вместо ее вызова в объектный к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метод, как правило, применим к простым функциям и процедурам, вызываемым непосредственно по адресу, без применения косвенной адресации через таблиц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ime Type Informat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компиляторы допускают применять метод только к функциям, содержащим последовательные вычисления без цик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С++ позволяет явно указать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для каких функций желательно использова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одстан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748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Оптимизация цик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Вынесение инвариантных вычислений из цик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10; i++)a[i]=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b*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*a[i]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 = b*c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10; i++) a[i]=d*a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Замена операций с индуктивными (образующими арифметическую прогрессию) переменными (как правило, умножения на слож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N; i++) a[i]=i*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 = 10; i =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i&lt;=N) 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=t;  t=t+10;  i++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1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N; i++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r=r+f(s); s=s+10; 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=10; m=N*1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s &lt;= m) {r= r+f(s); s=s+10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бавились от одной индуктивной переменно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ияние цик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N; i++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j= 1; j&lt;= M; j++) a[i][j] = 0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 = N * 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k; i++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0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ертывание цик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ожно выполнить для циклов, кратность выполнения которых известна на этапе компиля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3; i++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=i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1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2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3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6756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шинно-зависимые преобразования результирующей объектной программы зависят от архитектуры вычислительной системы, на которой будет выполняться результирующая программа. При этом может учитываться объем кэш-памяти, методы организации работы процессора 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преобразования, как правило, являются "ноу-хау", и именно они позволяют существенно повысить эффективность результирующего к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71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ение регистров процесс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регистров общего назначения и специальных регистров (аккумулятор, счетчик цикла, базовый указатель) для хранения значения операндов и результатов вычислений позволяет увеличить быстродействие програм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упных регистров всегда ограниченное количество, поэтому перед компилятором встает вопрос их оптимального распределения и использования при выполнении вычис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Оптимизация передачи параметров в процедуры и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параметры процедур и функций передаются через стек. При этом всякий раз при вызове процедуры или функции компилятор  создает объектный код для размещения ее фактических параметров в стеке, а при выходе из нее - код для освобождения соответствующей памя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уменьшить код и время выполнения  результирующей программы за счет оптимизации передачи параметров в процедуру или функцию, передавая и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з регист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цесс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данного оптимизирующего преобразования зависит от количества доступных регистров процессора в целевой вычислительной системе и от используемого компилятором алгоритма распределения регис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татки мет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птимизированные таким образом процедуры и функции не могут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ы в качеств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блиотеч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к. методы передачи парам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регистры не стандартизованы и зависят от реализации компилят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этот метод не может быть использован, если где-либо в функции требу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ции с адрес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раме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ыки Си и С++ позволяют явно указать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какие параметры и локальные переменные желательно разместить в регис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8244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Оптимизация кода для процессоров, допускающих распараллеливание вычис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озможности параллельного выполнения нескольких операций компилятор должен порождать объектный код таким образом, чтобы в нем было максимально возможное количество соседних операций, все операнды которых не зависят друг от др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этого надо найти оптимальный порядок выполнения операций для каждого оператора (переставить и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дного потока обработки данных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((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двух потоков обработки данных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(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рех потоков обработки данных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(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AD5B-3B11-4030-BED1-7632EA29D2C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7" dur="indefinite" restart="never" nodeType="tmRoot">
          <p:childTnLst>
            <p:seq>
              <p:cTn id="2198" dur="indefinite" nodeType="mainSeq">
                <p:childTnLst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C530-4342-4A96-AEC3-6CF6BE5459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915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Su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5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p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419640" y="981000"/>
            <a:ext cx="215892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кс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84360" y="1700280"/>
            <a:ext cx="360036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нальны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788000" y="1700280"/>
            <a:ext cx="388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зо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 flipV="1">
            <a:off x="2340000" y="1413000"/>
            <a:ext cx="172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 flipH="1" flipV="1">
            <a:off x="4859280" y="1413000"/>
            <a:ext cx="1873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2924280"/>
          <a:ext cx="8351640" cy="3744720"/>
        </p:xfrm>
        <a:graphic>
          <a:graphicData uri="http://schemas.openxmlformats.org/drawingml/2006/table">
            <a:tbl>
              <a:tblPr/>
              <a:tblGrid>
                <a:gridCol w="1366920"/>
                <a:gridCol w="2305080"/>
                <a:gridCol w="1368360"/>
                <a:gridCol w="33112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с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ы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ое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нтифик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иденти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литер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ое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нтифик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иденти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=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литер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2904-6C38-4CEE-8D64-9625BA50EE1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таксический анали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413000"/>
          <a:ext cx="4043520" cy="5040360"/>
        </p:xfrm>
        <a:graphic>
          <a:graphicData uri="http://schemas.openxmlformats.org/drawingml/2006/table">
            <a:tbl>
              <a:tblPr/>
              <a:tblGrid>
                <a:gridCol w="1019160"/>
                <a:gridCol w="574560"/>
                <a:gridCol w="1368720"/>
                <a:gridCol w="1081080"/>
              </a:tblGrid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с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ыл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: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AutoShape 60"/>
          <p:cNvSpPr/>
          <p:nvPr/>
        </p:nvSpPr>
        <p:spPr>
          <a:xfrm>
            <a:off x="4572000" y="2637000"/>
            <a:ext cx="216000" cy="129672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3"/>
                </a:lnTo>
                <a:cubicBezTo>
                  <a:pt x="10800" y="9913"/>
                  <a:pt x="16200" y="10813"/>
                  <a:pt x="21600" y="10813"/>
                </a:cubicBezTo>
                <a:cubicBezTo>
                  <a:pt x="16200" y="10813"/>
                  <a:pt x="10800" y="11713"/>
                  <a:pt x="10800" y="1261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1"/>
          <p:cNvSpPr/>
          <p:nvPr/>
        </p:nvSpPr>
        <p:spPr>
          <a:xfrm>
            <a:off x="4572000" y="4437000"/>
            <a:ext cx="216000" cy="12970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3"/>
                </a:lnTo>
                <a:cubicBezTo>
                  <a:pt x="10800" y="9913"/>
                  <a:pt x="16200" y="10813"/>
                  <a:pt x="21600" y="10813"/>
                </a:cubicBezTo>
                <a:cubicBezTo>
                  <a:pt x="16200" y="10813"/>
                  <a:pt x="10800" y="11713"/>
                  <a:pt x="10800" y="1261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2"/>
          <p:cNvSpPr/>
          <p:nvPr/>
        </p:nvSpPr>
        <p:spPr>
          <a:xfrm>
            <a:off x="6732720" y="2205000"/>
            <a:ext cx="433080" cy="4103640"/>
          </a:xfrm>
          <a:custGeom>
            <a:avLst/>
            <a:gdLst>
              <a:gd name="textAreaLeft" fmla="*/ 0 w 433080"/>
              <a:gd name="textAreaRight" fmla="*/ 156240 w 43308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3"/>
                </a:lnTo>
                <a:cubicBezTo>
                  <a:pt x="10800" y="9913"/>
                  <a:pt x="16200" y="10813"/>
                  <a:pt x="21600" y="10813"/>
                </a:cubicBezTo>
                <a:cubicBezTo>
                  <a:pt x="16200" y="10813"/>
                  <a:pt x="10800" y="11713"/>
                  <a:pt x="10800" y="1261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3"/>
          <p:cNvSpPr/>
          <p:nvPr/>
        </p:nvSpPr>
        <p:spPr>
          <a:xfrm>
            <a:off x="5079600" y="292428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4"/>
          <p:cNvSpPr/>
          <p:nvPr/>
        </p:nvSpPr>
        <p:spPr>
          <a:xfrm>
            <a:off x="5079600" y="4869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5"/>
          <p:cNvSpPr/>
          <p:nvPr/>
        </p:nvSpPr>
        <p:spPr>
          <a:xfrm>
            <a:off x="7308720" y="386064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6"/>
          <p:cNvSpPr/>
          <p:nvPr/>
        </p:nvSpPr>
        <p:spPr>
          <a:xfrm>
            <a:off x="1330200" y="882720"/>
            <a:ext cx="23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ток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2B98-3FE9-4507-8186-EBCA7F3766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6788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 Формальные грамматики и распознавател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1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мальный язык и формальная грамма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пустое конечное множество символов, используе-мых для записи предложений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{0,1,2,3,4,5,6,7,8,9,+,-}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о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любая последовательность символов алфав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о строк, включая пустую, составленных из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о строк за исключением пустой, составленных из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*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альным язык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алфавит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ют произвольное подмножество множеств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можно зада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ечислени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авилами продук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2:16:54Z</dcterms:created>
  <dc:creator>Ivanova</dc:creator>
  <dc:description/>
  <dc:language>en-US</dc:language>
  <cp:lastModifiedBy>Иванова Галина Сергеевна</cp:lastModifiedBy>
  <dcterms:modified xsi:type="dcterms:W3CDTF">2018-01-23T15:43:58Z</dcterms:modified>
  <cp:revision>106</cp:revision>
  <dc:subject/>
  <dc:title>Глава 6  Основы конструирования компиляторов</dc:title>
</cp:coreProperties>
</file>