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2008-14B5-4BD1-8F26-2E757C32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2BC0-184A-477D-B092-DB522D8E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1E80-724E-4695-8CE8-A2D5707A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C2C0-C8E2-46C8-90C8-C8E7A10E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1871-1A04-4CF6-B83F-1FC75930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9C39-315B-4D57-B401-5FB0499B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7AD1-70F5-48B9-AF70-0D0112CB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3A94-EF0C-4835-878D-D753DBB5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A65C-DAC0-4834-88F3-5FCF26B7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EA2D-97A5-4703-B984-69C415D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C074-D670-4F2B-BA66-856D1A34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B945-30E4-4CDF-9927-648E4255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2394-6C31-4E5A-B0F2-736374E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5A32-4A39-406B-A438-26EF177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5BD-A184-41A2-8784-114E3DA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8C36-0471-4246-B4A3-F8A1387B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41FB-9DF2-4B7C-A1CF-DFAF9C5C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96BA-BB94-4C20-8A6E-F651EC11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A925-40E9-480A-8742-A44FE63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E2B5-840B-4916-9884-362FDB7F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B11A-27DD-4DE2-BF7D-81190C3A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F61E-E036-4972-A797-D51083E9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D41B-02C6-48EB-B54F-37DB434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7DB8-72D5-451E-B1DE-6DEFC30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57BD-BACB-4792-AF41-FC53B71C1F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F73-A927-499F-8ED7-4E3CCEC30E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DB9-8310-4E15-9A42-917E0B4143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акросредств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68360" y="476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4C50-622C-47B1-B059-D517CCE237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щение макро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адки – перед программой, для работы – в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ие суммы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dw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dw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ma  A,B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32360" y="1628640"/>
            <a:ext cx="38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651640" y="2276640"/>
            <a:ext cx="2881080" cy="1295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30600" y="2637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9B2F-576F-4A10-B63D-8D9D5FA7B6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женные макроопределения помещают в библиот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макроопределений строится как обычный файл и подключает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LUDE  MACRO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неиспользуемых макроопределений из программы во время трансля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RGE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мен макрос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GE   MAC1,MAC2,MA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1C9C-E70E-4F63-B753-DEF145A0F6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5 Псевдооператоры макроассембл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Изменение меток при каждом расши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OCAL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Список мето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     macro 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     loo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будут генериров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, ??0001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219640" y="191628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: loop 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292720" y="429264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loop 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4919-61A4-49D2-BB9C-664A7D0B75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овторять с каждым аргументом сп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rp    value,&lt;1,2,3,4,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     value*value*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572000" y="4653000"/>
            <a:ext cx="2590920" cy="1727280"/>
          </a:xfrm>
          <a:prstGeom prst="wedgeRoundRectCallout">
            <a:avLst>
              <a:gd name="adj1" fmla="val -51226"/>
              <a:gd name="adj2" fmla="val 2095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B8CA-D880-46B4-958A-3F40232371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овторять с каждым символом ст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C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12345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 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ABC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ar&amp;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5148360" y="2565360"/>
            <a:ext cx="2303280" cy="165564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148360" y="4724280"/>
            <a:ext cx="2303280" cy="165600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1 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4EF-C025-4112-A9BC-A7750C5D1C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ять указанное число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REP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P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B 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3640" y="5373720"/>
            <a:ext cx="2376720" cy="1008000"/>
          </a:xfrm>
          <a:prstGeom prst="wedgeRoundRectCallout">
            <a:avLst>
              <a:gd name="adj1" fmla="val -48597"/>
              <a:gd name="adj2" fmla="val 4486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32360" y="2781360"/>
            <a:ext cx="2376360" cy="1655640"/>
          </a:xfrm>
          <a:prstGeom prst="wedgeRoundRectCallout">
            <a:avLst>
              <a:gd name="adj1" fmla="val -50601"/>
              <a:gd name="adj2" fmla="val -29578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0E7-5DFE-4F40-A90E-88A5214CCA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6 Условное ассемб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Завершение макрогенер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I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Если …, 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XX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EL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29E-49FC-4C20-BAE7-B3D43F0B32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условий условной ген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981000"/>
            <a:ext cx="8893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E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- имя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я не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раметр опущ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- параметр за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IDN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не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оход ассемблер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чтения библиот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опреде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роход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9754-EF67-4CC8-A127-FE8358E2B7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7 Условная макроген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   macro 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en g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value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5867280" y="1773360"/>
            <a:ext cx="2880000" cy="1655640"/>
          </a:xfrm>
          <a:prstGeom prst="wedgeRoundRectCallout">
            <a:avLst>
              <a:gd name="adj1" fmla="val -50717"/>
              <a:gd name="adj2" fmla="val 2181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3573360"/>
            <a:ext cx="2880000" cy="1368360"/>
          </a:xfrm>
          <a:prstGeom prst="wedgeRoundRectCallout">
            <a:avLst>
              <a:gd name="adj1" fmla="val -48898"/>
              <a:gd name="adj2" fmla="val 5337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 не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1D3-C6A0-4A86-9C61-BD37943849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ление целых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IDE  MACRO   DIVIDEND,DIVISOR,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CO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     CN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846680" y="1512720"/>
            <a:ext cx="4295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DIVID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DIVISO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MP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OU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:    MOV  QUOTIEN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27D2-C88A-45CF-A671-C8AE7E5EB5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ассемб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е понимание исходного текста программы, особенно по прошествии некоторого времени после ее напис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набора коман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емость идентичных или незначительно отличающихся участков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включения в каждую программу участков кода, которые уже были использованы в других програм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акросредств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намически перестраивать програм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 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величить скорость выполнения по сравнению с вызовом процед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здавать макробибли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лучшать наглядность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FA8F-F3DC-4C5A-817B-AFF970C5C1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 dw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 dw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Divide A,B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788000" y="1916280"/>
            <a:ext cx="4032000" cy="3311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MOV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06728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BF03-E017-427F-91A2-2C56A31F08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9 Макрос ввод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с выводит запрос, вводит данные и возвращает их адре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put MACRO prompt:VARARG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prompt –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B &lt;prompt&gt; 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текст з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xt db prompt, 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место для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буфер в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ыровнять на границу дв.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озвращаемое значе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14F0-1ACD-4337-B414-59A7A01CFE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с ввода строки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запрос от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2937-C005-4861-AF3E-A7EDDE0710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OLn     DB  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B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input ("Input Data",13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араметров указан в скобках, поскольку в макроопределении указа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A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макрокоманды указан в машинной команде, поскольку в макроопределении указано возвращаем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D5DF-C028-427B-929C-7FC1E59E71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801-8D80-41CF-B928-ACBB17F8CB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1 Трансляция программы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2133720"/>
            <a:ext cx="403236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3070080"/>
            <a:ext cx="403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3286080"/>
            <a:ext cx="316692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нутрен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68360" y="4510080"/>
            <a:ext cx="403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900000" y="907920"/>
            <a:ext cx="302436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71640" y="5734080"/>
            <a:ext cx="302400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41128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10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ляция программы на ассемблере выполняется в два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макрогенерации программа обрабатывается как текстовая информация, т.е. выполняются текстовые замены в том числе усло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1ADE-E365-4F19-BA6A-2D49BA675F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2 Термы и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ом макросредств является строка символов (те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ы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амоопредел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литер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ые числовые: 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10, 10001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ов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ABCD”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еремещае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метки операторов и данных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кущее значение счетчика адреса при ассемблирова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ах термы представ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состоящих из букв, цифр, а также символов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«_» – без ограничителей, например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12, 01F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включающая спе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угловых скобках, например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Стр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использова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м специальным символом, 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ок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222-9292-45D7-9972-202104BF9E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кровыра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вокупность термов, связанных символами арифметических, логических операций, а также скобками и символами операций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 опер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ложь,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AX,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AND 5)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l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(0FFFFh AND 5) OR (0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g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 (0 AND 5) OR (0FFFFh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3281-7DEE-4910-A83C-9C7F23ACE2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нстанты и 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  EQU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60*20/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=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CONS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adr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 dup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n = adr2-adr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838B-ECD5-4201-A778-E1FA713E8D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3 Макрокоманды и макр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536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коман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кровызов) – команда, по которой происходит вставка фрагмента в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готовка, из которой генерируется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генер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строения макрорасширения из макр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39C6-8A19-4B9A-B2F2-4A0832830E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а макроо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CRO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формальных параме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ло макроопредел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выз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PRICE,TAX,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BX,CX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50160" y="2852640"/>
            <a:ext cx="335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ST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780000" y="378936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3851280" y="537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095F-B6B9-4116-A443-A5BD3AC885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4 Операции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4260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лияние символьных ст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&amp;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Комментар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E   MACRO  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генерация команды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REP    MOVS&amp;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1168560"/>
            <a:ext cx="4643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реобразование имен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%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   EQU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  MACRO 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ume   C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%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6800" y="5057640"/>
            <a:ext cx="2592360" cy="1152720"/>
          </a:xfrm>
          <a:prstGeom prst="wedgeRoundRectCallout">
            <a:avLst>
              <a:gd name="adj1" fmla="val -48773"/>
              <a:gd name="adj2" fmla="val -2025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=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 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4727520" y="5273640"/>
            <a:ext cx="2592360" cy="863640"/>
          </a:xfrm>
          <a:prstGeom prst="wedgeRoundRectCallout">
            <a:avLst>
              <a:gd name="adj1" fmla="val -49018"/>
              <a:gd name="adj2" fmla="val 9189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9:24:54Z</dcterms:created>
  <dc:creator>Ivanova</dc:creator>
  <dc:description/>
  <dc:language>en-US</dc:language>
  <cp:lastModifiedBy>Иванова Галина Сергеевна</cp:lastModifiedBy>
  <dcterms:modified xsi:type="dcterms:W3CDTF">2018-01-23T15:44:21Z</dcterms:modified>
  <cp:revision>19</cp:revision>
  <dc:subject/>
  <dc:title>Глава 8   Макросредства ассемблера</dc:title>
</cp:coreProperties>
</file>