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7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DD4E-9C2F-42E1-91ED-6C026A7795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C399-E49C-4332-83D5-382DC0B7BC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7277-E4B0-4E81-A784-1F87E29B3E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1582-7FDD-4A9A-A64C-59B505273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EED2-2BB8-4FC2-8134-EE3F1CAA93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29BA-DF14-4FFB-AF9F-5C8B4F0F34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99F9-FE2B-4C00-88AA-597745CE07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1C45-5DA7-4D2E-B4AA-AF4B23F77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6807-7325-46C3-853E-6FD5AE135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DE1F-8ED2-4CF9-9999-98A214C296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DCAE-44EA-48B4-B739-146FEDB413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7C74-9C14-4103-971A-518DAD17BD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5600-13BD-47BD-AFF1-FA400C216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759A-5F4A-4D9B-9F18-F45CCDF14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1BED-8F1B-4FFE-9EF6-18D7D5E786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028A-DE05-4597-9E21-C2F4B3D0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E45D-BE32-44E6-9A44-CD122181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DC14-2B75-4DDC-BA1F-AEDF63F1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3D5B-B33F-47A5-A189-65CC61AF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8075-1E81-4472-90DA-4A2942FE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804E-5C11-42A2-A48B-8F90C6B4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B27D-23B4-48FB-B6F6-9D2660A0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435C-A8CC-4C7C-A0B2-A72E27EE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5BB7-9765-4CBA-9D3A-EA15673C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857F-9E7E-46C3-AE24-7C7F0E86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9DBC-7A61-4DFF-9134-BB2F8B0F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40F2-D67C-4A3C-A300-1CA55F51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A77-502D-4211-A3C9-356B8A1F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56A5-A856-4B7B-A220-D9ACF618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F1E6-F221-49C6-95E0-6896F770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31E3-AA6E-4D5E-92D9-7C0969C2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83C9-1AB6-4122-9C6B-98A7E3C5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6D3C-2156-4113-9A45-327E1951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EE50-E4D9-4DBD-9880-10A08EC7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DD0E-2920-4176-B4A9-A20C4094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1F9E6-0A35-427A-B9CA-DAEE0D45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7DD6-149D-4DE3-B11F-7CE6BEB6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1E86-D761-4095-AF93-64788E4D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8A2F6-492D-41C0-8CAA-A25B8498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6470-806F-44D5-9D05-E36090D8BE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9F56-7845-4452-9C43-B336F317F4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EEDE-5474-4C71-A4A0-FA5B1F7BB4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сновы конструирования компиля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95640" y="26028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85F2-4382-4AAB-A260-77859FBB16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льная грамма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лфавит языка или множество терминальных (окончательных, незаменяемых) симво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нетерминальных (заменяемых) символов – вспомогательный алфавит, символы которого обозна-чают допустимые </a:t>
            </a:r>
            <a:r>
              <a:rPr b="0" i="1" lang="ru-RU" sz="2400" spc="-1" strike="noStrike">
                <a:solidFill>
                  <a:srgbClr val="1818ff"/>
                </a:solidFill>
                <a:latin typeface="Arial"/>
              </a:rPr>
              <a:t>поня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зы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ловарь грамма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множество порождающих правил – каждое правило состоит из пары строк (α, β), где α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– левая часть правила, 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– правая часть правила: α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β, где строка α должна содержать хотя бы один нетермин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чальный символ – аксиома грам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2FB9-FFCC-42F9-AC5A-EF86651888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мматика записи десятичных чисел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0, 1, 2, 3, 4, 5, 6, 7, 8, 9, +, -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&lt;целое&gt;, &lt;целое без знака&gt;, &lt;цифра&gt;, &lt;знак&gt;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елое без знак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 без знак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&gt;&lt;целое без знак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3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5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6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8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&lt;целое&gt;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732720" y="2708280"/>
            <a:ext cx="2163600" cy="792000"/>
          </a:xfrm>
          <a:prstGeom prst="wedgeRoundRectCallout">
            <a:avLst>
              <a:gd name="adj1" fmla="val -51759"/>
              <a:gd name="adj2" fmla="val -9208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сторонняя рекур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6B57-CE6A-4B5F-8B4D-55530A60A3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 Бэкуса-На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БНФ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ны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ff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1818ff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терминальный символ – конструк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– терминальный символ – символ алфави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жно заменить н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::= &lt;знак&gt;&lt;целое без знака&gt;|&lt;целое без знака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::= &lt;цифра&gt;&lt;целое без знака&gt;|&lt;цифра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 &gt; ::= 0|1|2|3|4|5|6|7|8|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::= +|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B72E-329A-4D67-9420-86A0BA6D36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матический разб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сопоставления линейной последовательности лексем (слов, токенов) языка с его формальной граммат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вод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последовательность подстано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ывод строки «-45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ифра&gt;&lt;целое без знака&gt;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ифра&gt;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- &lt;цифра&gt;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4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6622920" y="256536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5759280" y="343044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7486560" y="343044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622920" y="429408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8352000" y="429408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7486560" y="515772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6407280" y="3141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7270920" y="40068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8133840" y="487044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7342200" y="314172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8207280" y="400680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H="1">
            <a:off x="5543640" y="40068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6407280" y="487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 flipH="1">
            <a:off x="7270920" y="57340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5327640" y="429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612000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985440" y="602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596360" y="1700280"/>
            <a:ext cx="1368360" cy="649080"/>
          </a:xfrm>
          <a:prstGeom prst="wedgeRoundRectCallout">
            <a:avLst>
              <a:gd name="adj1" fmla="val -57782"/>
              <a:gd name="adj2" fmla="val 9199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матический разбор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355640" y="3500280"/>
            <a:ext cx="4537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ходящий – от символов или лексем языка к понятиям (понятиям более высокого порядка, аксиом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сходящий – от понятия (понятия более высокого порядка, аксиомы) к символам или лексемам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A46B-8448-486C-8FC6-01B943B960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5580000" y="1413000"/>
            <a:ext cx="201636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м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4284720" y="2492280"/>
            <a:ext cx="2016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хо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6877080" y="2492280"/>
            <a:ext cx="2016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схо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 flipH="1">
            <a:off x="5292720" y="2060640"/>
            <a:ext cx="719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7236000" y="2060640"/>
            <a:ext cx="64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1476360" y="112536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612720" y="1990800"/>
            <a:ext cx="79236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2340000" y="199080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1476360" y="285444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3205080" y="2854440"/>
            <a:ext cx="79236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2340000" y="371808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H="1">
            <a:off x="1260360" y="1701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2124000" y="2567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987640" y="343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195640" y="170172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060720" y="256716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H="1">
            <a:off x="396360" y="256716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1260360" y="343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 flipH="1">
            <a:off x="2124000" y="42940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180720" y="2854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973440" y="371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1838520" y="458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4DA5-9F03-44B8-8C77-2FEA8A61D6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6160" y="209160"/>
            <a:ext cx="86374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Левосторонний нисходящий грамматический разб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обрать строку «-45» по правилам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&gt; ::= &lt;знак&gt;&lt;целое без знака&gt;|&lt;целое без знака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 без знака&gt; ::= &lt;цифра&gt;&lt;целое без знака&gt;|&lt;цифр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 &gt; ::= 0|1|2|3|4|5|6|7|8|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 ::= +| -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тернативные правила нумеруем буквами а, б, в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дея разб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ый символ правила – терминальный, т.е. символ алфавита, и он совпадает с первым символом  распознаваемой строки, то символ считается распознанным и удаляется из стека и строки. Если терминалы не совпадают, то ищем альтернативу ближайшему правилу и производим его зам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ый символ правила – нетерминал, то заменяем его на первое из правил, его определя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ак дале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6948360" y="2492280"/>
            <a:ext cx="1871640" cy="576360"/>
          </a:xfrm>
          <a:prstGeom prst="wedgeRoundRectCallout">
            <a:avLst>
              <a:gd name="adj1" fmla="val -120518"/>
              <a:gd name="adj2" fmla="val -11615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осторонняя рекур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284D-353A-49D8-8BA3-6E8A73F819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грамматического раз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-541440" y="907920"/>
          <a:ext cx="8428320" cy="63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907920"/>
                    <a:ext cx="842832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Arc 137"/>
          <p:cNvSpPr/>
          <p:nvPr/>
        </p:nvSpPr>
        <p:spPr>
          <a:xfrm>
            <a:off x="6084720" y="4365720"/>
            <a:ext cx="648000" cy="358560"/>
          </a:xfrm>
          <a:custGeom>
            <a:avLst/>
            <a:gdLst/>
            <a:ahLst/>
            <a:rect l="l" t="t" r="r" b="b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rc 137"/>
          <p:cNvSpPr/>
          <p:nvPr/>
        </p:nvSpPr>
        <p:spPr>
          <a:xfrm>
            <a:off x="6012000" y="3357720"/>
            <a:ext cx="936360" cy="1871640"/>
          </a:xfrm>
          <a:custGeom>
            <a:avLst/>
            <a:gdLst>
              <a:gd name="textAreaLeft" fmla="*/ 0 w 936360"/>
              <a:gd name="textAreaRight" fmla="*/ 936720 w 936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rc 137"/>
          <p:cNvSpPr/>
          <p:nvPr/>
        </p:nvSpPr>
        <p:spPr>
          <a:xfrm>
            <a:off x="6084720" y="2637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137"/>
          <p:cNvSpPr/>
          <p:nvPr/>
        </p:nvSpPr>
        <p:spPr>
          <a:xfrm>
            <a:off x="6084720" y="3645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137"/>
          <p:cNvSpPr/>
          <p:nvPr/>
        </p:nvSpPr>
        <p:spPr>
          <a:xfrm>
            <a:off x="6084720" y="5229360"/>
            <a:ext cx="358920" cy="288720"/>
          </a:xfrm>
          <a:custGeom>
            <a:avLst/>
            <a:gdLst>
              <a:gd name="textAreaLeft" fmla="*/ 0 w 358920"/>
              <a:gd name="textAreaRight" fmla="*/ 359280 w 358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137"/>
          <p:cNvSpPr/>
          <p:nvPr/>
        </p:nvSpPr>
        <p:spPr>
          <a:xfrm>
            <a:off x="6084720" y="5732640"/>
            <a:ext cx="358920" cy="576000"/>
          </a:xfrm>
          <a:custGeom>
            <a:avLst/>
            <a:gdLst>
              <a:gd name="textAreaLeft" fmla="*/ 0 w 358920"/>
              <a:gd name="textAreaRight" fmla="*/ 359280 w 3589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6659640" y="981000"/>
            <a:ext cx="2305080" cy="1152720"/>
          </a:xfrm>
          <a:prstGeom prst="wedgeRoundRectCallout">
            <a:avLst>
              <a:gd name="adj1" fmla="val -59624"/>
              <a:gd name="adj2" fmla="val 23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ными стрелками показаны смены правил  на альтерна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7093080" y="2781360"/>
            <a:ext cx="2050920" cy="2448000"/>
          </a:xfrm>
          <a:prstGeom prst="wedgeRoundRectCallout">
            <a:avLst>
              <a:gd name="adj1" fmla="val -68060"/>
              <a:gd name="adj2" fmla="val 21379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ые стрелки показывают воз-враты, требую-щие сменить правило преды-дущих уровней, что требует сох-ранения истории раз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137"/>
          <p:cNvSpPr/>
          <p:nvPr/>
        </p:nvSpPr>
        <p:spPr>
          <a:xfrm>
            <a:off x="6084720" y="162864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137"/>
          <p:cNvSpPr/>
          <p:nvPr/>
        </p:nvSpPr>
        <p:spPr>
          <a:xfrm>
            <a:off x="6084720" y="4724280"/>
            <a:ext cx="358920" cy="289080"/>
          </a:xfrm>
          <a:custGeom>
            <a:avLst/>
            <a:gdLst>
              <a:gd name="textAreaLeft" fmla="*/ 0 w 358920"/>
              <a:gd name="textAreaRight" fmla="*/ 359280 w 3589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6659640" y="5445000"/>
            <a:ext cx="2305080" cy="1152720"/>
          </a:xfrm>
          <a:prstGeom prst="wedgeRoundRectCallout">
            <a:avLst>
              <a:gd name="adj1" fmla="val -49462"/>
              <a:gd name="adj2" fmla="val 1634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ызваны неправильным выбором альтернатив 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7F35-CB7D-48E2-9F49-C76E734B91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Левосторонний восходящий 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обрать строку «-45», используя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::= &lt;знак&gt;&lt;целое без знака&gt;|&lt;целое без знак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::= &lt;целое без знака&gt;&lt;цифра&gt;|&lt;цифр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::= +| -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дея мет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боре строка просматривается слева направо и ищется часть, совпадающая с правой частью правила, – осн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818ff"/>
                </a:solidFill>
                <a:latin typeface="Arial"/>
              </a:rPr>
              <a:t>Основа</a:t>
            </a:r>
            <a:r>
              <a:rPr b="0" lang="ru-RU" sz="2000" spc="-1" strike="noStrike">
                <a:solidFill>
                  <a:srgbClr val="1818ff"/>
                </a:solidFill>
                <a:latin typeface="Arial"/>
              </a:rPr>
              <a:t> – последовательность символов, сворачиваемая на следующем шаге разб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ая основа заменяется левой частью соответствующего правил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выбора основ определена алгоритм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ерный выбор основы приводит к необходимости возв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875640" y="2060640"/>
            <a:ext cx="1942920" cy="647640"/>
          </a:xfrm>
          <a:prstGeom prst="wedgeRoundRectCallout">
            <a:avLst>
              <a:gd name="adj1" fmla="val -149888"/>
              <a:gd name="adj2" fmla="val -745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восторонняя рекур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4D7C-4B5F-499C-BB4B-B7C33CB790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Левосторонний восходящий 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получени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ентенциа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 при разбо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ифра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елое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2268360" y="2421000"/>
            <a:ext cx="1440000" cy="360360"/>
          </a:xfrm>
          <a:prstGeom prst="wedgeRoundRectCallout">
            <a:avLst>
              <a:gd name="adj1" fmla="val -89023"/>
              <a:gd name="adj2" fmla="val 1347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2843280" y="3284640"/>
            <a:ext cx="1439640" cy="360360"/>
          </a:xfrm>
          <a:prstGeom prst="wedgeRoundRectCallout">
            <a:avLst>
              <a:gd name="adj1" fmla="val -80064"/>
              <a:gd name="adj2" fmla="val -2441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3276720" y="4149720"/>
            <a:ext cx="1439640" cy="360360"/>
          </a:xfrm>
          <a:prstGeom prst="wedgeRoundRectCallout">
            <a:avLst>
              <a:gd name="adj1" fmla="val -108722"/>
              <a:gd name="adj2" fmla="val 28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3635280" y="4869000"/>
            <a:ext cx="1440000" cy="360360"/>
          </a:xfrm>
          <a:prstGeom prst="wedgeRoundRectCallout">
            <a:avLst>
              <a:gd name="adj1" fmla="val -71833"/>
              <a:gd name="adj2" fmla="val -1822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5796000" y="4149720"/>
            <a:ext cx="2448000" cy="1008000"/>
          </a:xfrm>
          <a:prstGeom prst="wedgeRoundRectCallout">
            <a:avLst>
              <a:gd name="adj1" fmla="val -43722"/>
              <a:gd name="adj2" fmla="val 4593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озникают из-за неверного выбора осн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4427640" y="148428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елое&gt; ::= &lt;знак&gt;&lt;ЦБЗ&gt;|&lt; ЦБЗ 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БЗ&gt; ::= &lt;ЦБЗ&gt;&lt;цифра&gt;|&lt;цифра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знак&gt; ::= +|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8C9C-72EE-4299-B4C1-4DC8577D72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3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лассификация грамматик Хом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ки фразовой структуры или грамматики «без ограничений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– в таких грамматиках допустимо наличие любых правил вывода, что свойственно грамматикам естественных яз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текстно-зависимые (неукорачивающие)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, | α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| β | – в этих грамматиках для правил вида α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α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возможность подстановки строк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место символ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ся присутствием подстрок α и β, т. е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тек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то также свойственно грамматикам естественных яз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текстно-свободные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β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– поскольку в левой части правила стоит нетерминал, подстановки не зависят от кон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регулярные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44DC-F78C-4983-8DB5-2BBE66C8EB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. Метод Рутисхауз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. Записать в полной скобочной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опоставить индек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Цикл-пока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’_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ли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перанд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то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]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иначе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предели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декс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строить трой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далить обработанные символы из выражения, результату сопоставить индекс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131D-CE3D-488D-9A55-9BB8EC3286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4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познавание регулярных грамматик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4.1 Конечный авт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δ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ечное множество состоя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чное множество входных симво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δ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– функция переходов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екущее состояние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чередной симво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чальное состоя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– подмножество допускающих состоя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втомат «Чет-нечет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Чет, Нечет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0, 1}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(Чет, 0) = Чет, δ(Нечет, 0) = Неч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(Чет, 1) = Нечет, δ(Нечет, 1) = 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Чет}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724360" y="3860640"/>
          <a:ext cx="2880000" cy="1152720"/>
        </p:xfrm>
        <a:graphic>
          <a:graphicData uri="http://schemas.openxmlformats.org/drawingml/2006/table">
            <a:tbl>
              <a:tblPr/>
              <a:tblGrid>
                <a:gridCol w="1028880"/>
                <a:gridCol w="952560"/>
                <a:gridCol w="898560"/>
              </a:tblGrid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Text Box 22"/>
          <p:cNvSpPr/>
          <p:nvPr/>
        </p:nvSpPr>
        <p:spPr>
          <a:xfrm>
            <a:off x="6013080" y="342900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3"/>
          <p:cNvSpPr/>
          <p:nvPr/>
        </p:nvSpPr>
        <p:spPr>
          <a:xfrm>
            <a:off x="2465280" y="5919840"/>
            <a:ext cx="72072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4"/>
          <p:cNvSpPr/>
          <p:nvPr/>
        </p:nvSpPr>
        <p:spPr>
          <a:xfrm>
            <a:off x="3833640" y="5919840"/>
            <a:ext cx="72072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 flipV="1">
            <a:off x="3041640" y="649548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</a:path>
              <a:path stroke="0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  <a:lnTo>
                  <a:pt x="214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26"/>
          <p:cNvSpPr/>
          <p:nvPr/>
        </p:nvSpPr>
        <p:spPr>
          <a:xfrm>
            <a:off x="3041640" y="577548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</a:path>
              <a:path stroke="0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  <a:lnTo>
                  <a:pt x="214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3332520" y="628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3332520" y="577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rc 29"/>
          <p:cNvSpPr/>
          <p:nvPr/>
        </p:nvSpPr>
        <p:spPr>
          <a:xfrm flipV="1">
            <a:off x="4410000" y="5990400"/>
            <a:ext cx="620640" cy="577800"/>
          </a:xfrm>
          <a:custGeom>
            <a:avLst/>
            <a:gdLst>
              <a:gd name="textAreaLeft" fmla="*/ 0 w 620640"/>
              <a:gd name="textAreaRight" fmla="*/ 621000 w 620640"/>
              <a:gd name="textAreaTop" fmla="*/ -36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</a:path>
              <a:path stroke="0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  <a:lnTo>
                  <a:pt x="946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627800" y="60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rc 31"/>
          <p:cNvSpPr/>
          <p:nvPr/>
        </p:nvSpPr>
        <p:spPr>
          <a:xfrm flipH="1" flipV="1">
            <a:off x="1890000" y="5990400"/>
            <a:ext cx="647640" cy="577800"/>
          </a:xfrm>
          <a:custGeom>
            <a:avLst/>
            <a:gdLst>
              <a:gd name="textAreaLeft" fmla="*/ -360 w 647640"/>
              <a:gd name="textAreaRight" fmla="*/ 647640 w 647640"/>
              <a:gd name="textAreaTop" fmla="*/ -36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</a:path>
              <a:path stroke="0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  <a:lnTo>
                  <a:pt x="946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2"/>
          <p:cNvSpPr/>
          <p:nvPr/>
        </p:nvSpPr>
        <p:spPr>
          <a:xfrm flipH="1">
            <a:off x="1963440" y="60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430880" y="57340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4"/>
          <p:cNvSpPr/>
          <p:nvPr/>
        </p:nvSpPr>
        <p:spPr>
          <a:xfrm>
            <a:off x="7524720" y="551664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5"/>
          <p:cNvSpPr/>
          <p:nvPr/>
        </p:nvSpPr>
        <p:spPr>
          <a:xfrm>
            <a:off x="6948360" y="594828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6"/>
          <p:cNvSpPr/>
          <p:nvPr/>
        </p:nvSpPr>
        <p:spPr>
          <a:xfrm>
            <a:off x="8172360" y="594828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7"/>
          <p:cNvSpPr/>
          <p:nvPr/>
        </p:nvSpPr>
        <p:spPr>
          <a:xfrm>
            <a:off x="7524720" y="623736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8"/>
          <p:cNvSpPr/>
          <p:nvPr/>
        </p:nvSpPr>
        <p:spPr>
          <a:xfrm>
            <a:off x="6588000" y="6669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9"/>
          <p:cNvSpPr/>
          <p:nvPr/>
        </p:nvSpPr>
        <p:spPr>
          <a:xfrm flipH="1">
            <a:off x="7308360" y="609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0"/>
          <p:cNvSpPr/>
          <p:nvPr/>
        </p:nvSpPr>
        <p:spPr>
          <a:xfrm flipH="1" flipV="1">
            <a:off x="8459280" y="623700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1"/>
          <p:cNvSpPr/>
          <p:nvPr/>
        </p:nvSpPr>
        <p:spPr>
          <a:xfrm flipH="1">
            <a:off x="6732720" y="6261120"/>
            <a:ext cx="2635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2"/>
          <p:cNvSpPr/>
          <p:nvPr/>
        </p:nvSpPr>
        <p:spPr>
          <a:xfrm flipV="1">
            <a:off x="7451640" y="5820840"/>
            <a:ext cx="16200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3"/>
          <p:cNvSpPr/>
          <p:nvPr/>
        </p:nvSpPr>
        <p:spPr>
          <a:xfrm>
            <a:off x="7788240" y="5848200"/>
            <a:ext cx="16848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4"/>
          <p:cNvSpPr/>
          <p:nvPr/>
        </p:nvSpPr>
        <p:spPr>
          <a:xfrm flipH="1">
            <a:off x="7380000" y="6453360"/>
            <a:ext cx="1443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5"/>
          <p:cNvSpPr/>
          <p:nvPr/>
        </p:nvSpPr>
        <p:spPr>
          <a:xfrm flipH="1" flipV="1">
            <a:off x="7883280" y="6453000"/>
            <a:ext cx="1443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5918040" y="515772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аксическая диа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D17F-2E74-4919-B952-8284D4867B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ная реализация конечного автом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25600" y="2884320"/>
            <a:ext cx="8229600" cy="37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Ошибка»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Кон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«Кон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«Строка приня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аче «Строка отвергну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-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187280" y="981000"/>
          <a:ext cx="6769440" cy="1673280"/>
        </p:xfrm>
        <a:graphic>
          <a:graphicData uri="http://schemas.openxmlformats.org/drawingml/2006/table">
            <a:tbl>
              <a:tblPr/>
              <a:tblGrid>
                <a:gridCol w="1354320"/>
                <a:gridCol w="1353960"/>
                <a:gridCol w="1352880"/>
                <a:gridCol w="1353960"/>
                <a:gridCol w="1354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9279-9D42-4FC4-AD53-33B0B1C673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4.2 Лексические анализа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915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ознаватель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41672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250920" y="3716280"/>
          <a:ext cx="4897440" cy="2260800"/>
        </p:xfrm>
        <a:graphic>
          <a:graphicData uri="http://schemas.openxmlformats.org/drawingml/2006/table">
            <a:tbl>
              <a:tblPr/>
              <a:tblGrid>
                <a:gridCol w="936360"/>
                <a:gridCol w="924120"/>
                <a:gridCol w="909720"/>
                <a:gridCol w="1149120"/>
                <a:gridCol w="97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-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-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-л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А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37"/>
          <p:cNvSpPr/>
          <p:nvPr/>
        </p:nvSpPr>
        <p:spPr>
          <a:xfrm>
            <a:off x="5219640" y="2852640"/>
            <a:ext cx="3924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ициализация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_числа := «+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1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нак_числа :=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2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Целое*10 + 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3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к_числа = «-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-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се-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1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Строка не является  числ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2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Два знака ряд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3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В строке отсутствуют цифры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4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 строке встречаются недопустимые символ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7719-59DA-420C-A351-61CE370F3D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ознаватель цел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560" y="95256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= «+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= «-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0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9»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j 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АЗДЕЛ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]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5148360" y="1052640"/>
            <a:ext cx="399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 Выполн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ести «Это число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аче Вывести сообщ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-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219640" y="4383000"/>
          <a:ext cx="3924360" cy="2071800"/>
        </p:xfrm>
        <a:graphic>
          <a:graphicData uri="http://schemas.openxmlformats.org/drawingml/2006/table">
            <a:tbl>
              <a:tblPr/>
              <a:tblGrid>
                <a:gridCol w="934920"/>
                <a:gridCol w="714600"/>
                <a:gridCol w="668160"/>
                <a:gridCol w="870120"/>
                <a:gridCol w="73656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-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-л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-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А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8FD6-6264-4ABA-8210-8ED6E91AFC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4.3 Синтаксические анализат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аксический анализатор списка описания целых скаляров, массивов и функций, например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a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2[5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r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2][4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), 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V,V[N],V[N][N],V[N],V(),*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184720" cy="194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250920" y="4076640"/>
            <a:ext cx="52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*  (  )  [  ]  ,  ;  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1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2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4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4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5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5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7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7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8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8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580000" y="2133720"/>
            <a:ext cx="35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идентификатор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целочисленная конста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жебные символы: «[ ] ( ) , ; *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177840" y="4363920"/>
            <a:ext cx="498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 flipV="1">
            <a:off x="609480" y="422064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1CEC-77BA-46E0-B8E7-E5CD742790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анал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Е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 «VN*()[];»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 Вывести сообщение «Да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Вывести сообщение «Нет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 «VN*()[];»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позиция (номер столбца таблицы) очередного символа в строке символов или 0, если это «другой»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93B9-C2A9-44B9-A0F3-5C8DFE0E0C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5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познавание КС-грамматик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5.1 Автомат с магазинной памя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нечное множество состояний автом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ый входной алфави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– конечное множество магазинных символ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функция переход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 начальное состояние автом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 – символ, находящийся в магазине в начальный мо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заключительных (допускающих) состоя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D23D-B44C-40B9-91D6-05449FF3A2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е диаграммы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0" y="836640"/>
            <a:ext cx="89647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нтаксический анализатор вы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{&lt;Ид&gt;, +, –, *,  /, (, ), ◄, ►}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: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* (B + C) + (D + F) / (A + B) - C *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1258920" y="2565360"/>
          <a:ext cx="626112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65360"/>
                    <a:ext cx="626112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264D-7AA3-4413-862C-460ACA62DE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диненная синтаксическая ди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7462-5619-4DF6-9B8B-5CF63CC703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переходов автом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-1405080" y="1052640"/>
          <a:ext cx="11809440" cy="58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05080" y="1052640"/>
                    <a:ext cx="118094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2638-0519-478B-B0EC-F93F4F5018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использования метода Рутисхаузера для разбора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2760" y="144756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:      (  (  ( a +  b ) * c  )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 3 4 3 4 3 2 3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(  ( T1 * c  )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 3  2 3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( T2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T3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0 1  0  1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050920" y="3543480"/>
            <a:ext cx="1295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268360" y="2449440"/>
            <a:ext cx="1295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63640" y="4653000"/>
            <a:ext cx="1295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763640" y="5740560"/>
            <a:ext cx="93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372360" y="2421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1 = 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6372360" y="3429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2 = T1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6372360" y="4437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6372360" y="551664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4 = T3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5E60-64F0-4F09-BE60-EBCC62AA32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58720" y="69840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«Строка приня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«Строка отвергну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216F-5202-431F-9081-3278B006A7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2.5.2 Синтаксические анализатор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восторонний нисходящий грамматический раз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4"/>
          <p:cNvGraphicFramePr/>
          <p:nvPr/>
        </p:nvGraphicFramePr>
        <p:xfrm>
          <a:off x="-1179360" y="903240"/>
          <a:ext cx="9144000" cy="63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79360" y="903240"/>
                    <a:ext cx="914400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Arc 137"/>
          <p:cNvSpPr/>
          <p:nvPr/>
        </p:nvSpPr>
        <p:spPr>
          <a:xfrm>
            <a:off x="6084720" y="4437000"/>
            <a:ext cx="648000" cy="216000"/>
          </a:xfrm>
          <a:custGeom>
            <a:avLst/>
            <a:gdLst>
              <a:gd name="textAreaLeft" fmla="*/ 0 w 648000"/>
              <a:gd name="textAreaRight" fmla="*/ 648000 w 64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137"/>
          <p:cNvSpPr/>
          <p:nvPr/>
        </p:nvSpPr>
        <p:spPr>
          <a:xfrm>
            <a:off x="6012000" y="3357720"/>
            <a:ext cx="936360" cy="1871640"/>
          </a:xfrm>
          <a:custGeom>
            <a:avLst/>
            <a:gdLst>
              <a:gd name="textAreaLeft" fmla="*/ 0 w 936360"/>
              <a:gd name="textAreaRight" fmla="*/ 936720 w 936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137"/>
          <p:cNvSpPr/>
          <p:nvPr/>
        </p:nvSpPr>
        <p:spPr>
          <a:xfrm>
            <a:off x="6084720" y="2637000"/>
            <a:ext cx="358920" cy="431640"/>
          </a:xfrm>
          <a:custGeom>
            <a:avLst/>
            <a:gdLst>
              <a:gd name="textAreaLeft" fmla="*/ 0 w 358920"/>
              <a:gd name="textAreaRight" fmla="*/ 359280 w 358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rc 137"/>
          <p:cNvSpPr/>
          <p:nvPr/>
        </p:nvSpPr>
        <p:spPr>
          <a:xfrm>
            <a:off x="6084720" y="3645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rc 137"/>
          <p:cNvSpPr/>
          <p:nvPr/>
        </p:nvSpPr>
        <p:spPr>
          <a:xfrm>
            <a:off x="6084720" y="5229360"/>
            <a:ext cx="358920" cy="288720"/>
          </a:xfrm>
          <a:custGeom>
            <a:avLst/>
            <a:gdLst>
              <a:gd name="textAreaLeft" fmla="*/ 0 w 358920"/>
              <a:gd name="textAreaRight" fmla="*/ 359280 w 358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rc 137"/>
          <p:cNvSpPr/>
          <p:nvPr/>
        </p:nvSpPr>
        <p:spPr>
          <a:xfrm>
            <a:off x="6084720" y="580536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137"/>
          <p:cNvSpPr/>
          <p:nvPr/>
        </p:nvSpPr>
        <p:spPr>
          <a:xfrm>
            <a:off x="6084720" y="162864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137"/>
          <p:cNvSpPr/>
          <p:nvPr/>
        </p:nvSpPr>
        <p:spPr>
          <a:xfrm>
            <a:off x="6084720" y="4724280"/>
            <a:ext cx="358920" cy="217440"/>
          </a:xfrm>
          <a:custGeom>
            <a:avLst/>
            <a:gdLst>
              <a:gd name="textAreaLeft" fmla="*/ 0 w 358920"/>
              <a:gd name="textAreaRight" fmla="*/ 359280 w 3589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6659640" y="1341360"/>
            <a:ext cx="2305080" cy="1150920"/>
          </a:xfrm>
          <a:prstGeom prst="wedgeRoundRectCallout">
            <a:avLst>
              <a:gd name="adj1" fmla="val -49462"/>
              <a:gd name="adj2" fmla="val 1634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ызваны неправильным выбором альтернатив 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8"/>
          <p:cNvSpPr/>
          <p:nvPr/>
        </p:nvSpPr>
        <p:spPr>
          <a:xfrm>
            <a:off x="7164360" y="3429000"/>
            <a:ext cx="1871640" cy="1944720"/>
          </a:xfrm>
          <a:prstGeom prst="wedgeRoundRectCallout">
            <a:avLst>
              <a:gd name="adj1" fmla="val -49671"/>
              <a:gd name="adj2" fmla="val -19884"/>
              <a:gd name="adj3" fmla="val 16667"/>
            </a:avLst>
          </a:prstGeom>
          <a:solidFill>
            <a:srgbClr val="fb05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мматиках обеспечивается однозначный выбор прави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раз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F1E4-CD2F-496C-8F07-97DD951CCB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а грамматика записи выра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&lt;Строка&gt; ::= &lt;Выр&gt;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&lt;Выр&gt; ::= &lt;Терм&gt; &lt;Слож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Слож&gt; ::=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| + &lt;Терм&gt; &lt;Слож&gt; |  - &lt;Терм&gt;&lt;Слож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&lt;Терм&gt; ::= &lt;Множ&gt;&lt;Умн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Умн&gt; ::=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| *&lt;Множ&gt;&lt;Умн&gt; | / &lt;Множ&gt;&lt;Умн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Множ&gt; ::= &lt;Ид&gt; | (&lt;Выр&gt;)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-828720" y="3141720"/>
          <a:ext cx="1072836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8720" y="3141720"/>
                    <a:ext cx="107283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5026-9356-43C3-90B7-0EEE6856C7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 рекурсивного с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539640" y="1773360"/>
          <a:ext cx="756144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756144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DFCF-14B7-443F-8EF5-F79E5F1C8B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Терм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=tru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xtSymbol =’+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-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Терм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Тер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=tru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xtSymbol =’*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/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Множ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DED3-BC79-4C67-ABDF-34AAFC5D6E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Bool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(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Выражение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Symbol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‘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шибка 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ач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ая програм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Выражение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Symbol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‘◄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шибка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4C62-F0C1-40FC-90B8-B12B2E5215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9074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Compil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{$APPTYPE CONSOL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s  SysUti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SetofChar=set of AnsiCh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Bukv:setofChar=['A'..'Z','a'..'z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yfr:setofChar=['0'..'9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Razd:setofChar=[' ','+','-','*','/',')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t:shortstring; R: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ulc(Var St:shortstring;Razd:setofChar):boolean;forwa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Error(St:shortstring);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Courier New"/>
              </a:rPr>
              <a:t>{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Courier New"/>
              </a:rPr>
              <a:t>вывод сообщений об ошибках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    WriteLn('Error *** ', st, ' ***');  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Probel(Var St:shortstring);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Courier New"/>
              </a:rPr>
              <a:t>{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Courier New"/>
              </a:rPr>
              <a:t>удаление пробелов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 While (St&lt;&gt;'') and (St[1]=' ') do Delete(St,1,1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E53B-50E2-4731-B9E0-E29C98F806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Id(Var St:shortstring; Razd:setofChar):boolea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:shortString; State,Ind,Col:by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TableId:array[1..2,1..4] of Byte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2,0,0,0),(2,2,10,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процедура удаления пробелов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=1;   S:='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tate&lt;&gt;0) and (State&lt;&gt;10) and (Length(St)&lt;&gt;0)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t[1] in ['A'..'Z','a'..'z'] then Col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 if St[1] in ['0'..'9'] then Col: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St[1] in Razd) then Col: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Col:=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=TableId[State,Col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0127-1353-468A-BE2F-CA7E711C1E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&lt;&gt;0) and (State&lt;&gt;10) then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правильный символ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S:=S+St[1]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(St,1,1); 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ength(st)=0 then State:=10;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 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строка закончилась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=10) and (S&lt;&gt;'') then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правильно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:=true;  WriteLn('Identify=',S)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=0) the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ошибка символа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:=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Wrong symbol *',St[1],'*')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нет идентификатора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Result:=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dentifier waits...', 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86FB-ED15-422C-B7A4-7E00F30661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ult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t[1]='('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 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Culc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and (St[1]=')')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 else Error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R:=Id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1D44-DF30-4F3C-88B6-E7114F2EE3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1 Основные понятия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1.1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лассификация компилирующих програ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291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ансля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рамма, которая переводит програм-му, написанную на одном языке, в эквивалентную ей программу, написанную на другом язы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иля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нслятор с языка высокого уровня на машинный язык или язык ассемб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нслятор с языка Ассемблера на ма-шинны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рамма, которая принимает ис-ходную программу и выполняет ее, не создавая про-граммы на друг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кро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я компиляторов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процесс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программа, которая обрабатывает исходную про-грамму, как текст, и выполняет в нем замены ука-занных символов на подстроки. Макрогенератор обрабатывает программу до трансля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5B7F-23A8-4DC3-9E4D-752B1C46A6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erm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Mult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St[1]='*') or (St[1]='/')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Mult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6F04-865B-4DE7-8D5A-C9E938E6CD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ulc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erm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St[1]='+') or (St[1]='-')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erm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lc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4922-9B21-4B46-AFE0-0DFFCEF9E3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nput Strings:'); Readln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t&lt;&gt;'end'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Culc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and (length(st)=0) then Writeln('Yes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Writeln('No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nput Strings:'); Readln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Press Enter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F296-6E00-4FAF-B0E7-D305936BA5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работы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y+(hjh-hj)*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t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886F-AD27-4E60-AFB5-F18A6D99EA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5.3 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(k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и предш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3640" y="131256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восторонний восходящий грамматический разб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ифра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елое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195640" y="2897280"/>
            <a:ext cx="1439640" cy="360360"/>
          </a:xfrm>
          <a:prstGeom prst="wedgeRoundRectCallout">
            <a:avLst>
              <a:gd name="adj1" fmla="val -89023"/>
              <a:gd name="adj2" fmla="val 1347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71640" y="3762360"/>
            <a:ext cx="1440000" cy="360360"/>
          </a:xfrm>
          <a:prstGeom prst="wedgeRoundRectCallout">
            <a:avLst>
              <a:gd name="adj1" fmla="val -80064"/>
              <a:gd name="adj2" fmla="val -2441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203640" y="4626000"/>
            <a:ext cx="1439640" cy="360360"/>
          </a:xfrm>
          <a:prstGeom prst="wedgeRoundRectCallout">
            <a:avLst>
              <a:gd name="adj1" fmla="val -108722"/>
              <a:gd name="adj2" fmla="val 28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3564000" y="5345280"/>
            <a:ext cx="1439640" cy="360360"/>
          </a:xfrm>
          <a:prstGeom prst="wedgeRoundRectCallout">
            <a:avLst>
              <a:gd name="adj1" fmla="val -71833"/>
              <a:gd name="adj2" fmla="val -1822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8"/>
          <p:cNvSpPr/>
          <p:nvPr/>
        </p:nvSpPr>
        <p:spPr>
          <a:xfrm>
            <a:off x="5651640" y="3429000"/>
            <a:ext cx="2808000" cy="1152360"/>
          </a:xfrm>
          <a:prstGeom prst="wedgeRoundRectCallout">
            <a:avLst>
              <a:gd name="adj1" fmla="val -43722"/>
              <a:gd name="adj2" fmla="val 4593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ты возникают из-за неверного выбора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0"/>
          <p:cNvSpPr/>
          <p:nvPr/>
        </p:nvSpPr>
        <p:spPr>
          <a:xfrm>
            <a:off x="4356000" y="1962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елое&gt; ::= &lt;знак&gt;&lt;ЦБЗ&gt;|&lt; ЦБЗ 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БЗ&gt; ::= &lt;ЦБЗ&gt;&lt;цифра&gt;|&lt;цифра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знак&gt; ::= +|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ая прямоугольная выноска 11"/>
          <p:cNvSpPr/>
          <p:nvPr/>
        </p:nvSpPr>
        <p:spPr>
          <a:xfrm>
            <a:off x="5580000" y="4869000"/>
            <a:ext cx="2879640" cy="1584360"/>
          </a:xfrm>
          <a:prstGeom prst="wedgeRoundRectCallout">
            <a:avLst>
              <a:gd name="adj1" fmla="val -27384"/>
              <a:gd name="adj2" fmla="val 50111"/>
              <a:gd name="adj3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R(k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ют однозначный выбор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6D8A-3A6A-4E5D-9AE7-3975332EC7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74872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и предшеств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87200" y="981000"/>
            <a:ext cx="8956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задана некоторая произвольная строка – предложение язы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.αβ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ва симво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и α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положены рядом в сентенциальной форме, то между ними возможны следующие отношения, названные отношениями предшество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принадлежит основе, а β – нет, т. е. α – конец основы: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 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принадлежит основе, а α – нет, т. е. β – начало основы: α &lt;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и β принадлежит одной основе, т. е. α =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и β не могут находиться рядом в сентенциальной форме (ошиб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ой предшеств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грамматика, в которой из последовательности символов однозначно следует определение осно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ой операторного предш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грамматика, в которой существует однозначное отношение предшествования терминальных символов, которое не зависит от нетерминальных символов, находящихся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FADC-B827-42FA-86A3-8496A0C425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таблицы предш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45352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+    ► A*    ►(A    ► A)    ►A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A+     +A*       +(A      +A)      +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A+      *A*        *(A       *A )     *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       (A*       ((A        (A)       (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+        A)*      A)(         A))      A)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4500720" y="3284640"/>
          <a:ext cx="13033080" cy="299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284640"/>
                    <a:ext cx="130330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5"/>
          <p:cNvSpPr/>
          <p:nvPr/>
        </p:nvSpPr>
        <p:spPr>
          <a:xfrm>
            <a:off x="611280" y="292428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осно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 осно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- одна осн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ши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50920" y="260280"/>
            <a:ext cx="87138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амматика арифметических выраж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левосторонней рекурси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Выражение&gt;  ::= &lt;Терм&gt;|&lt;Выражение&gt;+&lt;Терм&gt;|&lt;Выражение&gt;- &lt;Терм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Терм&gt;  ::= &lt;Множитель&gt; | &lt;Терм&gt;* &lt;Множитель&gt; | &lt;Терм&gt; / &lt;Множитель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Множитель&gt; ::= (&lt;Выражение&gt;) | &lt;Идентификатор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1E4C-90A7-4B65-B9C8-05B99D2307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разбора выражения стековым мет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0028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4"/>
          <p:cNvGraphicFramePr/>
          <p:nvPr/>
        </p:nvGraphicFramePr>
        <p:xfrm>
          <a:off x="0" y="1557360"/>
          <a:ext cx="9144000" cy="49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7" dur="indefinite" restart="never" nodeType="tmRoot">
          <p:childTnLst>
            <p:seq>
              <p:cTn id="1758" dur="indefinite" nodeType="mainSeq">
                <p:childTnLst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FE2F-E27A-4114-983F-2AD2FD8946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рограмму, осуществляющую лексический анализ идентификаторов и служебных слов, а также синтаксический анализ сравнений (не более одной операции сравнения вида =, &lt;&gt;, &gt;, &lt;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=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=), выражений с операциями +,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*, / и скобками, операторов условной передачи управления и присваивания в синтаксисе языка Паскаль. На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синтаксиса язы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&gt; ; |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&gt; ::=if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&gt;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&lt;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55E4-3014-432C-AF09-AA8EE6487A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кен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 – идентификатор - операн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@@ – пустой операнд – дополнительный токен, который позволяет при разборе считывать строго по два токена &lt;операнд-оператор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_, &lt;_, =_, &lt;&gt;, &gt;=, &lt;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рав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_, -_, *_, /_, (_, )_ – операторы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 - служебное слово «присвоить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_ - конец опера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имера, приведенного в зад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работы сканера должен выглядеть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&gt;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: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e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: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_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+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)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;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E429-DF0C-4383-8EE7-ED1697DD02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1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уктура компилирующей програм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нтакс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правил, определяющих допустимые конструкции языка, т. е. его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фор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ман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правил, определяющих логическое соответствие между элементами и значением синтаксически корректных предложений, т. е.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зы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E792-A1F4-43BB-A3BD-DEF20BCE8C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предш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еализации использовано следующее кодиров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чало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а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конец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коб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– вы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 – ошиб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7F4C-9A49-49D7-BBC6-0083DF1803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else if h the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ff:=hhh*(ppp+yy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lovo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imbol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vvv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lovo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ifV &gt; V thV :=V el@@ifV thV :=V * @@( V + V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33F0-E970-43FD-8EC1-01F61CA5ED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синтаксическог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ifV &gt; V thV :=V el@@ifV thV :=V * @@( V + V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&gt;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присваивание в ветви «да» внешне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+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умнож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присваивание в ветви «да» вложенно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V thO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s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L thOpelO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A4DC-FAC9-4C84-BC4B-64A09CB507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6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ьская запись. Алгоритм Бауэра-Замельзо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Польская запи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ость команд двух ти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дентификатор операнда – выбрать число по имен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заслать его в стек операн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я – выбрать два верхних числа из стека операндов, произвести над ними операцию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занести результат в стек операн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*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1406-9743-470F-ABB1-1B026E93A9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7136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Бауэра-Замельз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7440" y="7412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польской запис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если символ – операнд, то вырабатывается команда 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если символ – операция, то выполняются действия согласно таблиц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слать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ек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енер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слать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ек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далить верхний символ из стека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енер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овторить с тем же входным симво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4232160" y="1844640"/>
            <a:ext cx="9936360" cy="26956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11665080" cy="230364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"/>
          <p:cNvSpPr/>
          <p:nvPr/>
        </p:nvSpPr>
        <p:spPr>
          <a:xfrm>
            <a:off x="2249640" y="178920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253080" y="314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C646-EFC7-471C-9E98-68F07CE0AB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тройки д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польской запис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-1116000" y="1700280"/>
            <a:ext cx="8748720" cy="463212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"/>
          <p:cNvSpPr/>
          <p:nvPr/>
        </p:nvSpPr>
        <p:spPr>
          <a:xfrm>
            <a:off x="1878480" y="6165720"/>
            <a:ext cx="49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6D58-DBF3-4662-9B5C-74A796DCDA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операций польской запис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-181080" y="1700280"/>
            <a:ext cx="9649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9" dur="indefinite" restart="never" nodeType="tmRoot">
          <p:childTnLst>
            <p:seq>
              <p:cTn id="2060" dur="indefinite" nodeType="mainSeq">
                <p:childTnLst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E7F8-198D-42A6-81E2-CEACA2035F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3 Распределение памяти под перемен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атическ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ся в процессе компиляции или загрузки в память (для сегмента неинициированных данных), используется для хранения глобальных переме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томатическ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полняется при вызове подпрограмм, используется для локальных переменных, размещаемых в сте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правляем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ыполняется по запросу программист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, dele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используется для динамических переменных, размещаемых в динамической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базирован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также выполняется по запросу программиста, но большими фрагментам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mem, freeme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за размещение переменных отвечает программист.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059E-ADBE-4DD1-A501-F1A189E0D0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4 Генерация код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ция кодов – процесс замены распознанных конструкций на соответствующий заранее заготовленный фраг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«заготовк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   AX, &lt;Op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   AX, &lt;Op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подставляемый фрагмент автоматически настраивается по данным, находящимся в таблице раз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ая программа очень далека от оптимальной, поэтому осуществляется ее автоматическая оптимизация еще на уровн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25CB-5769-4604-B3CE-AFDCA0A89A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тимизация к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два критерия эффективности результирующей программы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я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м памя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еобходимый для выполнения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м случае задача построения оптимального кода программы алгоритмически неразрешима. Основная оптимизация программы должна производится программис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личают две группы мет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шинно-независи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сключение повторных вычислений одних и тех же операн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ыполнение операций над константами во время транс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ынесение из циклов вычисления величин, не зависящих от параметров цик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упрощение сложных логических выражений и т. 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шинно-зависи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сключение лишних передач данных типа «память-регистр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ыб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эффективных команд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D873-2239-474D-A171-770B729A4F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процесса компиля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692360" y="1052640"/>
            <a:ext cx="5759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92360" y="220500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такс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692360" y="3357720"/>
            <a:ext cx="5759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ант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692360" y="458136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памя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692360" y="580536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рация и оптимизация объектного к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457200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4572000" y="393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457200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219A-D3E1-4E0D-A43C-7900657398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Удаление недостижимого к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компилятора найти и исключить код, на который не передается уп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2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7" dur="indefinite" restart="never" nodeType="tmRoot">
          <p:childTnLst>
            <p:seq>
              <p:cTn id="2118" dur="indefinite" nodeType="mainSeq">
                <p:childTnLst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68DE-9175-46BE-A197-8D11E4E90D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птимизация линейных участков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ых системах программирования профилировщик на основе результатов запуска программы выдаёт информацию о том, на какие её линейные участки приходится основное время выполнения. Для этих фрагментов выпол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ление бесполезных присваив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c; d = b + c; a = d * c;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d = b + c;  a = d 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, в следующем примере эта операция уже не бесполез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= &amp; a;  a = b * c;  d = * p + c;  a = d 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ение избыточных вычисл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= d + b * c;  a = d + b * c;  c = d + b * c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 = b * c;  d = d + t;  a = d + t;  c 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тка объектного к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ыполнение во время компиляции тех операций исходной программы, для которых значения операндов уже извест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;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;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956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) Перестановка операц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ля дальнейшей свертки или оптимизации вычисле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2 * b * 3 * c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2 * 3) * (b *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b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+ (d + e)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b + (c + (d + e)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) Арифметические пре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 основе алгебраических и логических тождест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c + b * d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(c + 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* 1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 * 0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0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+ 0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Оптимизация вычисления логических вы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!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сег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побочный эфф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одстановка кода функции вместо ее вызова в объектный к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метод, как правило, применим к простым функциям и процедурам, вызываемым непосредственно по адресу, без применения косвенной адресации через табли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 Type Inform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компиляторы допускают применять метод только к функциям, содержащим последовательные вычисления без цик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С++ позволяет явно указать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для каких функций желательно использова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дстан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Оптимизация 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ынесение инвариантных вычислений из 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10; i++)a[i]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b*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a[i]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 = b*c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10; i++) a[i]=d*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Замена операций с индуктивными (образующими арифметическую прогрессию) переменными (как правило, умножения на сло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 a[i]=i*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= 10; i =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&lt;=N) 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t;  t=t+10;  i++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1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r=r+f(s); s=s+10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=10; m=N*1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 &lt;= m) {r= r+f(s); s=s+1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бавились от одной индуктивной переменн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ияние цик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j= 1; j&lt;= M; j++) a[i][j] = 0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 = N * 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k; i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0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ртывание цик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ожно выполнить для циклов, кратность выполнения которых известна на этапе компиля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3; i++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i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1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2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3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шинно-зависимые преобразования результирующей объектной программы зависят от архитектуры вычислительной системы, на которой будет выполняться результирующая программа. При этом может учитываться объем кэш-памяти, методы организации работы процессора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преобразования, как правило, являются "ноу-хау", и именно они позволяют существенно повысить эффективность результирующего к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регистров процес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регистров общего назначения и специальных регистров (аккумулятор, счетчик цикла, базовый указатель) для хранения значения операндов и результатов вычислений позволяет увеличить быстродействие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ных регистров всегда ограниченное количество, поэтому перед компилятором встает вопрос их оптимального распределения и использования при выполнении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птимизация передачи параметров в процедуры и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параметры процедур и функций передаются через стек. При этом всякий раз при вызове процедуры или функции компилятор  создает объектный код для размещения ее фактических параметров в стеке, а при выходе из нее - код для освобождения соответствующе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уменьшить код и время выполнения  результирующей программы за счет оптимизации передачи параметров в процедуру или функцию, передавая и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регист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цесс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данного оптимизирующего преобразования зависит от количества доступных регистров процессора в целевой вычислительной системе и от используемого компилятором алгоритма распределения регис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ки мет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птимизированные таким образом процедуры и функции не могу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блиотеч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к. методы передачи 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регистры не стандартизованы и зависят от реализации компиля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т метод не может быть использован, если где-либо в функции треб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и с адрес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ра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ки Си и С++ позволяют явно указать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какие параметры и локальные переменные желательно разместить в регис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8244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Оптимизация кода для процессоров, допускающих распараллеливание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озможности параллельного выполнения нескольких операций компилятор должен порождать объектный код таким образом, чтобы в нем было максимально возможное количество соседних операций, все операнды которых не зависят друг от д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надо найти оптимальный порядок выполнения операций для каждого оператора (переставить 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дного потока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(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вух потоков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рех потоков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12EF-767A-4808-94C8-0BD0F0E558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9122-6A49-418E-84D9-634847C0F8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Su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p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419640" y="981000"/>
            <a:ext cx="21589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кс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84360" y="1700280"/>
            <a:ext cx="3600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аль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788000" y="1700280"/>
            <a:ext cx="388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о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V="1">
            <a:off x="2340000" y="1413000"/>
            <a:ext cx="172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 flipH="1" flipV="1">
            <a:off x="4859280" y="1413000"/>
            <a:ext cx="187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2924280"/>
          <a:ext cx="8351640" cy="3744720"/>
        </p:xfrm>
        <a:graphic>
          <a:graphicData uri="http://schemas.openxmlformats.org/drawingml/2006/table">
            <a:tbl>
              <a:tblPr/>
              <a:tblGrid>
                <a:gridCol w="1366920"/>
                <a:gridCol w="2305080"/>
                <a:gridCol w="1368360"/>
                <a:gridCol w="33112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иденти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литер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иденти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литер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73D3-0D2B-41EB-965A-1B17581537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й ана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413000"/>
          <a:ext cx="4043520" cy="5040360"/>
        </p:xfrm>
        <a:graphic>
          <a:graphicData uri="http://schemas.openxmlformats.org/drawingml/2006/table">
            <a:tbl>
              <a:tblPr/>
              <a:tblGrid>
                <a:gridCol w="1019160"/>
                <a:gridCol w="574560"/>
                <a:gridCol w="1368720"/>
                <a:gridCol w="108108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ы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60"/>
          <p:cNvSpPr/>
          <p:nvPr/>
        </p:nvSpPr>
        <p:spPr>
          <a:xfrm>
            <a:off x="4572000" y="2637000"/>
            <a:ext cx="216000" cy="129672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1"/>
          <p:cNvSpPr/>
          <p:nvPr/>
        </p:nvSpPr>
        <p:spPr>
          <a:xfrm>
            <a:off x="4572000" y="4437000"/>
            <a:ext cx="216000" cy="12970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2"/>
          <p:cNvSpPr/>
          <p:nvPr/>
        </p:nvSpPr>
        <p:spPr>
          <a:xfrm>
            <a:off x="6732720" y="2205000"/>
            <a:ext cx="433080" cy="4103640"/>
          </a:xfrm>
          <a:custGeom>
            <a:avLst/>
            <a:gdLst>
              <a:gd name="textAreaLeft" fmla="*/ 0 w 433080"/>
              <a:gd name="textAreaRight" fmla="*/ 156240 w 4330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3"/>
          <p:cNvSpPr/>
          <p:nvPr/>
        </p:nvSpPr>
        <p:spPr>
          <a:xfrm>
            <a:off x="5079600" y="292428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4"/>
          <p:cNvSpPr/>
          <p:nvPr/>
        </p:nvSpPr>
        <p:spPr>
          <a:xfrm>
            <a:off x="5079600" y="4869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5"/>
          <p:cNvSpPr/>
          <p:nvPr/>
        </p:nvSpPr>
        <p:spPr>
          <a:xfrm>
            <a:off x="7308720" y="3860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6"/>
          <p:cNvSpPr/>
          <p:nvPr/>
        </p:nvSpPr>
        <p:spPr>
          <a:xfrm>
            <a:off x="1330200" y="882720"/>
            <a:ext cx="23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ток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43B8-0494-4634-9AC5-988CB0545D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6788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 Формальные грамматики и распознавател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1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льный язык и формальная грамма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пустое конечное множество символов, используе-мых для записи предложений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0,1,2,3,4,5,6,7,8,9,+,-}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любая последовательность символов алфав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строк, включая пустую, составленных из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строк за исключением пустой, составленных из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льным язык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алфав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 произвольное подмножество множеств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можно зада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числен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вилами проду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2:16:54Z</dcterms:created>
  <dc:creator>Ivanova</dc:creator>
  <dc:description/>
  <dc:language>en-US</dc:language>
  <cp:lastModifiedBy>Иванова Галина Сергеевна</cp:lastModifiedBy>
  <dcterms:modified xsi:type="dcterms:W3CDTF">2018-01-23T15:43:58Z</dcterms:modified>
  <cp:revision>106</cp:revision>
  <dc:subject/>
  <dc:title>Глава 6  Основы конструирования компиляторов</dc:title>
</cp:coreProperties>
</file>