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4F1C8-E1EC-442F-96EE-591BA90C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86362-459C-4623-8454-6654AD2E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DBBF9-3226-4F30-866D-3E7E58EE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953A-B626-414C-BECF-8ABDF793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09C9-B208-4D9C-A0AA-A9F7337E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02B2-507D-4338-ADAD-DEA5C52C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F4E7-227C-441D-9DD8-72CCD243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925A-68CF-4345-88D9-6808D8EB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7E42-E752-4D47-94CF-8DE9F940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FF43-5897-44C2-AF2A-C40CEF40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4ADE-072E-4305-BF5D-9ED961D3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872B-F013-4A07-870A-5F3E5EED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C708-53DF-4AAE-8F06-925B1C6E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2BFC-663E-453E-9F5F-79940D16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05EB-2007-44BD-BB24-77651205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0899-7E9C-4304-9518-B58907D9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204E-8E8F-4A66-9F4B-97FA41BD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8AC7-3C5A-4B30-BFBC-C378C60C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B323-C8A2-42E7-9272-AC6972BD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DC0D-D7A6-4301-9F08-53D11370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7BFF0-E715-4ED6-B0F4-D9A76446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60374-1F29-4973-B7B3-AC64F60F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0FF7-C3BE-4628-9EC9-C8B6E2EC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0D57E-26DF-4D81-BA5E-F2FCA5BD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3DC7-7B03-4DE7-9424-1CCEF1D468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15B5-7680-45FD-A5DF-35FFA902B3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2735-1D28-4356-92C5-E93A65D0B6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52640" y="177336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а 5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акросредств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п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268360" y="47628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5D66-1645-41E5-B2FA-778F2E7894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щение макроопредел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тладки – перед программой, для работы – в библиот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ение суммы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  MACRO  T1,T2,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Sum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dw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dw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dw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Summa  A,B,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932360" y="1628640"/>
            <a:ext cx="38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651640" y="2276640"/>
            <a:ext cx="2881080" cy="1295280"/>
          </a:xfrm>
          <a:prstGeom prst="roundRect">
            <a:avLst>
              <a:gd name="adj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30600" y="26370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BA58-BCAB-4AC2-84E1-ADE7ECABEC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блиотека макро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496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аженные макроопределения помещают в библиоте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макроопределений строится как обычный файл и подключается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F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NCLUDE  MACRO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ение неиспользуемых макроопределений из программы во время трансля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URGE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имен макрос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GE   MAC1,MAC2,MA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EE82-41F0-4241-8E7D-7FBCC81A23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5 Псевдооператоры макроассембл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Изменение меток при каждом расшир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LOCAL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Список меток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     macro 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 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:     loop  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будут генерирова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0, ??0001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5219640" y="1916280"/>
            <a:ext cx="3529080" cy="1873080"/>
          </a:xfrm>
          <a:prstGeom prst="wedgeRoundRectCallout">
            <a:avLst>
              <a:gd name="adj1" fmla="val -50449"/>
              <a:gd name="adj2" fmla="val 3814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0: loop ??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5292720" y="4292640"/>
            <a:ext cx="3529080" cy="1873080"/>
          </a:xfrm>
          <a:prstGeom prst="wedgeRoundRectCallout">
            <a:avLst>
              <a:gd name="adj1" fmla="val -50449"/>
              <a:gd name="adj2" fmla="val 3814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 loop ??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9D97-A045-46C3-8541-02F938CB4B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Повторять с каждым аргументом спис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RP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аргумент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rp    value,&lt;1,2,3,4,5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w     value*value*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4572000" y="4653000"/>
            <a:ext cx="2590920" cy="1727280"/>
          </a:xfrm>
          <a:prstGeom prst="wedgeRoundRectCallout">
            <a:avLst>
              <a:gd name="adj1" fmla="val -51226"/>
              <a:gd name="adj2" fmla="val 2095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D11E-0F5E-4D20-8AE6-6A1CDEAC78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Повторять с каждым символом стро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RPC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pc   char,12345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   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pc   char,ABCD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har&amp;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5148360" y="2565360"/>
            <a:ext cx="2303280" cy="1655640"/>
          </a:xfrm>
          <a:prstGeom prst="wedgeRoundRectCallout">
            <a:avLst>
              <a:gd name="adj1" fmla="val -49379"/>
              <a:gd name="adj2" fmla="val 33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5148360" y="4724280"/>
            <a:ext cx="2303280" cy="1656000"/>
          </a:xfrm>
          <a:prstGeom prst="wedgeRoundRectCallout">
            <a:avLst>
              <a:gd name="adj1" fmla="val -49379"/>
              <a:gd name="adj2" fmla="val 33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X,1 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C035-E415-47C6-81EB-178E870FE0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торять указанное число ра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REPT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 =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PT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 =  N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B  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T 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5003640" y="5373720"/>
            <a:ext cx="2376720" cy="1008000"/>
          </a:xfrm>
          <a:prstGeom prst="wedgeRoundRectCallout">
            <a:avLst>
              <a:gd name="adj1" fmla="val -48597"/>
              <a:gd name="adj2" fmla="val 4486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932360" y="2781360"/>
            <a:ext cx="2376360" cy="1655640"/>
          </a:xfrm>
          <a:prstGeom prst="wedgeRoundRectCallout">
            <a:avLst>
              <a:gd name="adj1" fmla="val -50601"/>
              <a:gd name="adj2" fmla="val -29578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A0D2-2C99-465D-BBE3-9C0FAEA164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6 Условное ассемб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Завершение макрогенер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I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Если …, т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FXX  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EL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513D-0530-4E30-8E8D-61B1A0E012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условий условной ген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50920" y="981000"/>
            <a:ext cx="889308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E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ыражение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DE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- имя объявлено как внеш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NDE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мя не объявлено как внеш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B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араметр опущ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NB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- параметр за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IDN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оки совпада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DI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оки не совпада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проход ассемблер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для чтения библиот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роопреде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проход ассемб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14FB-3DD2-4FB2-BF00-32D644F71C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7 Условная макрогене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    macro  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en ge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t 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=value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5867280" y="1773360"/>
            <a:ext cx="2880000" cy="1655640"/>
          </a:xfrm>
          <a:prstGeom prst="wedgeRoundRectCallout">
            <a:avLst>
              <a:gd name="adj1" fmla="val -50717"/>
              <a:gd name="adj2" fmla="val 21810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5867280" y="3573360"/>
            <a:ext cx="2880000" cy="1368360"/>
          </a:xfrm>
          <a:prstGeom prst="wedgeRoundRectCallout">
            <a:avLst>
              <a:gd name="adj1" fmla="val -48898"/>
              <a:gd name="adj2" fmla="val 5337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=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генерация не выпол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8DB3-A6B0-4E28-84AB-BFC0A06725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8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Деление целых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IVIDE  MACRO   DIVIDEND,DIVISOR,QUO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  COM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;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м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 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DIVID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DI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QUO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      CNT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;;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не равно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846680" y="1512720"/>
            <a:ext cx="429552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AX,DIVIDE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BX,DIVISOR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CX,CX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MP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AX,B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B   OU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C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CO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UT:    MOV  QUOTIENT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2E1B-E2C9-45C0-95C7-05AA912D14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роблемы ассемб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хое понимание исходного текста программы, особенно по прошествии некоторого времени после ее напис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сть набора коман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яемость идентичных или незначительно отличающихся участков програм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включения в каждую программу участков кода, которые уже были использованы в других програм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макросредств позвол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инамически перестраивать програм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ой полиморф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увеличить скорость выполнения по сравнению с вызовом процеду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создавать макробиблиот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улучшать наглядность пр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686B-6BCF-41B0-842F-5FF8A49308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ирующ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 dw    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 dw   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dw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9999c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Divide A,B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4788000" y="1916280"/>
            <a:ext cx="4032000" cy="3311280"/>
          </a:xfrm>
          <a:prstGeom prst="roundRect">
            <a:avLst>
              <a:gd name="adj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AX,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BX,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CX,CX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CMP  AX,B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B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C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MOV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067280" y="3357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CE69-015C-4E42-958B-AC539817AC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9 Макрос ввода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с выводит запрос, вводит данные и возвращает их адрес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put MACRO prompt:VARARG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prompt –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текст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B &lt;prompt&gt;  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если текст за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txt db prompt, 0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место для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текст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fer db 128 dup (0)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буфер вв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lign 4    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выровнять на границу дв. сл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buffer,LENGTHOF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ax, offse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 &lt;eax&gt; 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возвращаемое значени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C2F1-6D6D-4982-AE5B-3E8405AD5E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с ввода строки 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если запрос отсут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fer db 128 dup 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lig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buffer,LENGTHOF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ax, offse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 &lt;eax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E393-D8B1-454D-9B10-B3B9BFC9FD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ирующ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OLn     DB    13,10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BX,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input ("Input Data",13,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EO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ч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параметров указан в скобках, поскольку в макроопределении указа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A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макрокоманды указан в машинной команде, поскольку в макроопределении указано возвращаемо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9B3E-5B5D-48B4-A2D4-BF4D7BA186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395640"/>
            <a:ext cx="874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61D6-C306-42A3-8E4E-C38023DAAF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1 Трансляция программы на ассембл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68360" y="2133720"/>
            <a:ext cx="4032360" cy="93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я фаза трансля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кроген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68360" y="3070080"/>
            <a:ext cx="4032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71640" y="3286080"/>
            <a:ext cx="316692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нутренн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т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68360" y="4510080"/>
            <a:ext cx="403236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-я фаза трансля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900000" y="907920"/>
            <a:ext cx="3024360" cy="863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ассембл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971640" y="5734080"/>
            <a:ext cx="3024000" cy="863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кт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2411280" y="17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411280" y="5300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411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241128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59280" y="1052640"/>
            <a:ext cx="410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ляция программы на ассемблере выполняется в два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генер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макрогенерации программа обрабатывается как текстовая информация, т.е. выполняются текстовые замены в том числе услов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1056-EAD7-4ED4-AEAF-013F71F16A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2 Термы и 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ндом макросредств является строка символов (тер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ы делят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самоопредел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 литерал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численные числовые: 2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, 10, 10001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овы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ABCD”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перемещаем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 метки операторов и данных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екущее значение счетчика адреса при ассемблирован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граммах термы представ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символов, состоящих из букв, цифр, а также символов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«_» – без ограничителей, например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12, 01F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символов, включающая специа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 угловых скобках, например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Стро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использовани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м специальным символом, например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трока!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4186-B402-443B-8BA5-B946CEC0B3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856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Макровыра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вокупность термов, связанных символами арифметических, логических операций, а также скобками и символами операций срав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ифметические операции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ие операц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– ложь,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FFh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сравнен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AX,((C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0) AND 5)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(C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0)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&lt;20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mov AX,(0FFFFh AND 5) OR (0 AND 6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mov AX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&gt;20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mov AX, (0 AND 5) OR (0FFFFh AND 6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mov AX,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79F0-448A-446F-BAF9-E78BB22892A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константы и пе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евдоконста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  EQU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QU  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QU  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QU  60*20/K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евдоперем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= 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= 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= CONS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adr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5 dup (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r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n = adr2-adr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AACB-8C58-4566-BF1B-C2489407FE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3 Макрокоманды и макро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53640"/>
            <a:ext cx="822960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коман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акровызов) – команда, по которой происходит вставка фрагмента в програ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аготовка, из которой генерируется вставляемый фраг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ставляемый фраг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генер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цесс построения макрорасширения из макроо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A404-CB3A-4547-829A-6B69BB37E3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уктура макроопреде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ACRO [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формальных параметр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ело макроопределен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MACRO  T1,T2,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X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X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SU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вызо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PRICE,TAX,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BX,CX,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150160" y="2852640"/>
            <a:ext cx="335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OST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X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780000" y="3789360"/>
            <a:ext cx="165564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 flipV="1">
            <a:off x="3851280" y="5373720"/>
            <a:ext cx="180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D9D0-78B3-43EB-9D83-FDB3F5F987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4 Операции макро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168560"/>
            <a:ext cx="4260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Слияние символьных стр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&amp;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Комментари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MOVE   MACRO   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генерация команды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REP    MOVS&amp;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1168560"/>
            <a:ext cx="46432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Преобразование имен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%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VALUE   EQU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     MACRO 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′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&amp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ume   CS: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   %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66800" y="5057640"/>
            <a:ext cx="2592360" cy="1152720"/>
          </a:xfrm>
          <a:prstGeom prst="wedgeRoundRectCallout">
            <a:avLst>
              <a:gd name="adj1" fmla="val -48773"/>
              <a:gd name="adj2" fmla="val -20250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 =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ир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  MOV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4727520" y="5273640"/>
            <a:ext cx="2592360" cy="863640"/>
          </a:xfrm>
          <a:prstGeom prst="wedgeRoundRectCallout">
            <a:avLst>
              <a:gd name="adj1" fmla="val -49018"/>
              <a:gd name="adj2" fmla="val 9189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B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′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G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9:24:54Z</dcterms:created>
  <dc:creator>Ivanova</dc:creator>
  <dc:description/>
  <dc:language>en-US</dc:language>
  <cp:lastModifiedBy>Иванова Галина Сергеевна</cp:lastModifiedBy>
  <dcterms:modified xsi:type="dcterms:W3CDTF">2018-01-23T15:44:21Z</dcterms:modified>
  <cp:revision>19</cp:revision>
  <dc:subject/>
  <dc:title>Глава 8   Макросредства ассемблера</dc:title>
</cp:coreProperties>
</file>