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_rels/notesSlide6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7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52B2-4928-4356-8FF4-8F79AF1299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CAD5-1F53-423B-9274-F38F601AF9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1D2B-B84E-4887-A82F-BE2B18D0D1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A0C9-47E9-46A6-9AF5-EEE2AD620D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CF6B-D23C-4BE0-BC14-1790FA9BAE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D8BE-E49B-4765-9556-1BAA4B9F0E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E8FF-61A1-4BF6-A81A-956A451007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C1D0-3DCF-492E-8D3A-E8D6B51BB2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FFE0-5FE4-41DD-BBED-8D1ED858D2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3026-F6C2-4E70-B58F-6103324F02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0443-0EE3-4E42-8F55-D450EC1AE7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D6D4-03ED-4E7B-89ED-5072FA9491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9E65-A86F-452F-90C0-97E839C4DF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E0A3-D0C0-42D9-8662-D94A889ABB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3D2B-11BE-45ED-9F94-45955B3777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158CF-2648-4607-9E0F-6A6E0D530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E1143-650C-4CF0-BDBD-963C2F24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EFB88-A95E-462E-B4A2-D47A8AF10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616DF-13DB-457F-A08D-B6E8F6FD1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C3BC7-F8C9-4007-AB90-17B1729F6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2985-949A-4C2A-BEA9-AE22F6AE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A764-BE6B-4B3E-84E9-2DC6D29E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5161-7750-4BEE-A927-EF3EB002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BBC9-9DF9-4FA7-952F-2DEAB95A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9B45-C8B4-4F31-A853-E96EF405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E9B0-9422-4CF1-9053-738684BB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5CE8F-998D-497C-BF05-2A76B621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83EE-5299-4B7E-9357-24A91C88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85A5-3BF2-4FFF-9765-6DB694EE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6346-23DD-47C0-958D-BA552E01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F975-7C71-4381-B626-E570289CB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5479-F477-43F8-AE8D-25C30DB44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48F1E-AD61-41E8-9AE8-B846103C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5D73C-7E83-461E-96BC-CE874229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01B26-B2E7-4C2B-A814-F0927B01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5FF1C-1170-4BC5-B94F-D9255370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48C8F-1579-46DB-82E4-79814E73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07A33-E549-4A2B-981A-DD406CFD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0D010-5945-466C-9A95-F2171DD5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4FCB-A58A-46D2-8151-71566A6A2AC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4FBD-012A-4186-919E-C5DAF3ED181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D7B2-F79E-4EE6-9B2A-0FD4A1712E7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52640" y="1773360"/>
            <a:ext cx="62913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лава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Основы конструирования компилято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58920" y="4267080"/>
            <a:ext cx="7732800" cy="23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ГТУ им. Н.Э. Баума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акультет Информатика и системы управл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федра Компьютерные системы и се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ктор: д.т.н., проф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ванова Галина Сергеев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195640" y="260280"/>
            <a:ext cx="54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4648-4498-48FF-A15C-85E55E9915B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альная граммати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713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алфавит языка или множество терминальных (окончательных, незаменяемых) симво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множество нетерминальных (заменяемых) символов – вспомогательный алфавит, символы которого обозна-чают допустимые </a:t>
            </a:r>
            <a:r>
              <a:rPr b="0" i="1" lang="ru-RU" sz="2400" spc="-1" strike="noStrike">
                <a:solidFill>
                  <a:srgbClr val="1818ff"/>
                </a:solidFill>
                <a:latin typeface="Arial"/>
              </a:rPr>
              <a:t>понят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язы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 = 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ловарь граммат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множество порождающих правил – каждое правило состоит из пары строк (α, β), где α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 – левая часть правила, β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– правая часть правила: α 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β, где строка α должна содержать хотя бы один нетермина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ачальный символ – аксиома грамма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3F5C-AD41-4B82-AE71-A0F571BD97D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амматика записи десятичных чисел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4470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{0, 1, 2, 3, 4, 5, 6, 7, 8, 9, +, -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{&lt;целое&gt;, &lt;целое без знака&gt;, &lt;цифра&gt;, &lt;знак&gt;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 {&lt;целое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&lt;знак&gt;&lt;целое без знака&gt;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елое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&lt;целое без знака&gt;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елое без знак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&lt;цифра&gt;&lt;целое без знака&gt;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елое без знак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&lt;цифра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0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2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3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4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5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6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7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8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9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+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 &lt;целое&gt;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6732720" y="2708280"/>
            <a:ext cx="2163600" cy="792000"/>
          </a:xfrm>
          <a:prstGeom prst="wedgeRoundRectCallout">
            <a:avLst>
              <a:gd name="adj1" fmla="val -51759"/>
              <a:gd name="adj2" fmla="val -92083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осторонняя рекурс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80E0-27DE-4832-B60D-516ED1C21AE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а Бэкуса-Нау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БНФ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ные обознач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18ff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2000" spc="-1" strike="noStrike">
                <a:solidFill>
                  <a:srgbClr val="1818ff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етерминальный символ – конструк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я – терминальный символ – символ алфави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: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можно заменить на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ил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елое&gt; ::= &lt;знак&gt;&lt;целое без знака&gt;|&lt;целое без знака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елое без знака&gt; ::= &lt;цифра&gt;&lt;целое без знака&gt;|&lt;цифра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 &gt; ::= 0|1|2|3|4|5|6|7|8|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знак&gt; ::= +|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C250-1B2C-4B44-932F-9C8F4CDC34D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2.2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рамматический разбо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рамматический разбо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сс сопоставления линейной последовательности лексем (слов, токенов) языка с его формальной граммати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ыводо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ется последовательность подстанов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ывод строки «-45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елое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знак&gt;&lt;целое без знак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&lt;знак&gt;&lt;цифра&gt;&lt;целое без знака&gt;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&lt;знак&gt;&lt;цифра&gt;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- &lt;цифра&gt;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4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6622920" y="2565360"/>
            <a:ext cx="792360" cy="71928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5759280" y="3430440"/>
            <a:ext cx="792360" cy="71928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7486560" y="3430440"/>
            <a:ext cx="792360" cy="71928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б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6622920" y="4294080"/>
            <a:ext cx="792360" cy="71928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ф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8"/>
          <p:cNvSpPr/>
          <p:nvPr/>
        </p:nvSpPr>
        <p:spPr>
          <a:xfrm>
            <a:off x="8352000" y="4294080"/>
            <a:ext cx="792000" cy="71928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б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7486560" y="5157720"/>
            <a:ext cx="792360" cy="71928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ф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0"/>
          <p:cNvSpPr/>
          <p:nvPr/>
        </p:nvSpPr>
        <p:spPr>
          <a:xfrm flipH="1">
            <a:off x="6407280" y="314172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1"/>
          <p:cNvSpPr/>
          <p:nvPr/>
        </p:nvSpPr>
        <p:spPr>
          <a:xfrm flipH="1">
            <a:off x="7270920" y="400680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"/>
          <p:cNvSpPr/>
          <p:nvPr/>
        </p:nvSpPr>
        <p:spPr>
          <a:xfrm flipH="1">
            <a:off x="8133840" y="4870440"/>
            <a:ext cx="287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"/>
          <p:cNvSpPr/>
          <p:nvPr/>
        </p:nvSpPr>
        <p:spPr>
          <a:xfrm>
            <a:off x="7342200" y="3141720"/>
            <a:ext cx="2890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4"/>
          <p:cNvSpPr/>
          <p:nvPr/>
        </p:nvSpPr>
        <p:spPr>
          <a:xfrm>
            <a:off x="8207280" y="4006800"/>
            <a:ext cx="2890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5"/>
          <p:cNvSpPr/>
          <p:nvPr/>
        </p:nvSpPr>
        <p:spPr>
          <a:xfrm flipH="1">
            <a:off x="5543640" y="400680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6"/>
          <p:cNvSpPr/>
          <p:nvPr/>
        </p:nvSpPr>
        <p:spPr>
          <a:xfrm flipH="1">
            <a:off x="6407280" y="487044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7"/>
          <p:cNvSpPr/>
          <p:nvPr/>
        </p:nvSpPr>
        <p:spPr>
          <a:xfrm flipH="1">
            <a:off x="7270920" y="573408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8"/>
          <p:cNvSpPr/>
          <p:nvPr/>
        </p:nvSpPr>
        <p:spPr>
          <a:xfrm>
            <a:off x="5327640" y="429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612000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6985440" y="602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7596360" y="1700280"/>
            <a:ext cx="1368360" cy="649080"/>
          </a:xfrm>
          <a:prstGeom prst="wedgeRoundRectCallout">
            <a:avLst>
              <a:gd name="adj1" fmla="val -57782"/>
              <a:gd name="adj2" fmla="val 91990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б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рамматический разбор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355640" y="3500280"/>
            <a:ext cx="453708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ходящий – от символов или лексем языка к понятиям (понятиям более высокого порядка, аксиом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сходящий – от понятия (понятия более высокого порядка, аксиомы) к символам или лексемам язы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04FE-53DB-4C4D-9123-C9CFF36D7A7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1"/>
          <p:cNvSpPr/>
          <p:nvPr/>
        </p:nvSpPr>
        <p:spPr>
          <a:xfrm>
            <a:off x="5580000" y="1413000"/>
            <a:ext cx="201636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мма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4284720" y="2492280"/>
            <a:ext cx="201600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ходя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3"/>
          <p:cNvSpPr/>
          <p:nvPr/>
        </p:nvSpPr>
        <p:spPr>
          <a:xfrm>
            <a:off x="6877080" y="2492280"/>
            <a:ext cx="201600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сходя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4"/>
          <p:cNvSpPr/>
          <p:nvPr/>
        </p:nvSpPr>
        <p:spPr>
          <a:xfrm flipH="1">
            <a:off x="5292720" y="2060640"/>
            <a:ext cx="7192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5"/>
          <p:cNvSpPr/>
          <p:nvPr/>
        </p:nvSpPr>
        <p:spPr>
          <a:xfrm>
            <a:off x="7236000" y="2060640"/>
            <a:ext cx="6490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4"/>
          <p:cNvSpPr/>
          <p:nvPr/>
        </p:nvSpPr>
        <p:spPr>
          <a:xfrm>
            <a:off x="1476360" y="1125360"/>
            <a:ext cx="792000" cy="71928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5"/>
          <p:cNvSpPr/>
          <p:nvPr/>
        </p:nvSpPr>
        <p:spPr>
          <a:xfrm>
            <a:off x="612720" y="1990800"/>
            <a:ext cx="792360" cy="71892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6"/>
          <p:cNvSpPr/>
          <p:nvPr/>
        </p:nvSpPr>
        <p:spPr>
          <a:xfrm>
            <a:off x="2340000" y="1990800"/>
            <a:ext cx="792000" cy="71892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б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7"/>
          <p:cNvSpPr/>
          <p:nvPr/>
        </p:nvSpPr>
        <p:spPr>
          <a:xfrm>
            <a:off x="1476360" y="2854440"/>
            <a:ext cx="792000" cy="71892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ф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8"/>
          <p:cNvSpPr/>
          <p:nvPr/>
        </p:nvSpPr>
        <p:spPr>
          <a:xfrm>
            <a:off x="3205080" y="2854440"/>
            <a:ext cx="792360" cy="71892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б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9"/>
          <p:cNvSpPr/>
          <p:nvPr/>
        </p:nvSpPr>
        <p:spPr>
          <a:xfrm>
            <a:off x="2340000" y="3718080"/>
            <a:ext cx="792000" cy="71892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ф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0"/>
          <p:cNvSpPr/>
          <p:nvPr/>
        </p:nvSpPr>
        <p:spPr>
          <a:xfrm flipH="1">
            <a:off x="1260360" y="170172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1"/>
          <p:cNvSpPr/>
          <p:nvPr/>
        </p:nvSpPr>
        <p:spPr>
          <a:xfrm flipH="1">
            <a:off x="2124000" y="256716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 flipH="1">
            <a:off x="2987640" y="343044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2195640" y="1701720"/>
            <a:ext cx="28872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4"/>
          <p:cNvSpPr/>
          <p:nvPr/>
        </p:nvSpPr>
        <p:spPr>
          <a:xfrm>
            <a:off x="3060720" y="2567160"/>
            <a:ext cx="2890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5"/>
          <p:cNvSpPr/>
          <p:nvPr/>
        </p:nvSpPr>
        <p:spPr>
          <a:xfrm flipH="1">
            <a:off x="396360" y="2567160"/>
            <a:ext cx="287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"/>
          <p:cNvSpPr/>
          <p:nvPr/>
        </p:nvSpPr>
        <p:spPr>
          <a:xfrm flipH="1">
            <a:off x="1260360" y="343044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7"/>
          <p:cNvSpPr/>
          <p:nvPr/>
        </p:nvSpPr>
        <p:spPr>
          <a:xfrm flipH="1">
            <a:off x="2124000" y="429408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8"/>
          <p:cNvSpPr/>
          <p:nvPr/>
        </p:nvSpPr>
        <p:spPr>
          <a:xfrm>
            <a:off x="180720" y="28544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9"/>
          <p:cNvSpPr/>
          <p:nvPr/>
        </p:nvSpPr>
        <p:spPr>
          <a:xfrm>
            <a:off x="973440" y="371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0"/>
          <p:cNvSpPr/>
          <p:nvPr/>
        </p:nvSpPr>
        <p:spPr>
          <a:xfrm>
            <a:off x="1838520" y="458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A8A0-11DD-4259-919E-BF2F1016DF4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6160" y="209160"/>
            <a:ext cx="86374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Левосторонний нисходящий грамматический разб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3640" y="907560"/>
            <a:ext cx="85690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Разобрать строку «-45» по правилам граммат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&lt;целое&gt; ::= &lt;знак&gt;&lt;целое без знака&gt;|&lt;целое без знака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&lt;целое без знака&gt; ::= &lt;цифра&gt;&lt;целое без знака&gt;|&lt;цифра&gt;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&lt;цифра &gt; ::= 0|1|2|3|4|5|6|7|8|9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&lt;знак&gt; ::= +| -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ьтернативные правила нумеруем буквами а, б, в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дея разб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первый символ правила – терминальный, т.е. символ алфавита, и он совпадает с первым символом  распознаваемой строки, то символ считается распознанным и удаляется из стека и строки. Если терминалы не совпадают, то ищем альтернативу ближайшему правилу и производим его заме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первый символ правила – нетерминал, то заменяем его на первое из правил, его определяющ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так дале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8"/>
          <p:cNvSpPr/>
          <p:nvPr/>
        </p:nvSpPr>
        <p:spPr>
          <a:xfrm>
            <a:off x="6948360" y="2492280"/>
            <a:ext cx="1871640" cy="576360"/>
          </a:xfrm>
          <a:prstGeom prst="wedgeRoundRectCallout">
            <a:avLst>
              <a:gd name="adj1" fmla="val -120518"/>
              <a:gd name="adj2" fmla="val -116152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авосторонняя рекурс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21D2-0E63-4770-8218-E6A33C2D939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820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грамматического разб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Object 4"/>
          <p:cNvGraphicFramePr/>
          <p:nvPr/>
        </p:nvGraphicFramePr>
        <p:xfrm>
          <a:off x="-541440" y="907920"/>
          <a:ext cx="8428320" cy="634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41440" y="907920"/>
                    <a:ext cx="8428320" cy="63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Arc 137"/>
          <p:cNvSpPr/>
          <p:nvPr/>
        </p:nvSpPr>
        <p:spPr>
          <a:xfrm>
            <a:off x="6084720" y="4365720"/>
            <a:ext cx="648000" cy="358560"/>
          </a:xfrm>
          <a:custGeom>
            <a:avLst/>
            <a:gdLst/>
            <a:ahLst/>
            <a:rect l="l" t="t" r="r" b="b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rc 137"/>
          <p:cNvSpPr/>
          <p:nvPr/>
        </p:nvSpPr>
        <p:spPr>
          <a:xfrm>
            <a:off x="6012000" y="3357720"/>
            <a:ext cx="936360" cy="1871640"/>
          </a:xfrm>
          <a:custGeom>
            <a:avLst/>
            <a:gdLst>
              <a:gd name="textAreaLeft" fmla="*/ 0 w 936360"/>
              <a:gd name="textAreaRight" fmla="*/ 936720 w 936360"/>
              <a:gd name="textAreaTop" fmla="*/ 0 h 1871640"/>
              <a:gd name="textAreaBottom" fmla="*/ 1872000 h 187164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rc 137"/>
          <p:cNvSpPr/>
          <p:nvPr/>
        </p:nvSpPr>
        <p:spPr>
          <a:xfrm>
            <a:off x="6084720" y="2637000"/>
            <a:ext cx="358920" cy="504720"/>
          </a:xfrm>
          <a:custGeom>
            <a:avLst/>
            <a:gdLst>
              <a:gd name="textAreaLeft" fmla="*/ 0 w 358920"/>
              <a:gd name="textAreaRight" fmla="*/ 359280 w 3589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rc 137"/>
          <p:cNvSpPr/>
          <p:nvPr/>
        </p:nvSpPr>
        <p:spPr>
          <a:xfrm>
            <a:off x="6084720" y="3645000"/>
            <a:ext cx="358920" cy="504720"/>
          </a:xfrm>
          <a:custGeom>
            <a:avLst/>
            <a:gdLst>
              <a:gd name="textAreaLeft" fmla="*/ 0 w 358920"/>
              <a:gd name="textAreaRight" fmla="*/ 359280 w 3589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rc 137"/>
          <p:cNvSpPr/>
          <p:nvPr/>
        </p:nvSpPr>
        <p:spPr>
          <a:xfrm>
            <a:off x="6084720" y="5229360"/>
            <a:ext cx="358920" cy="288720"/>
          </a:xfrm>
          <a:custGeom>
            <a:avLst/>
            <a:gdLst>
              <a:gd name="textAreaLeft" fmla="*/ 0 w 358920"/>
              <a:gd name="textAreaRight" fmla="*/ 359280 w 3589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rc 137"/>
          <p:cNvSpPr/>
          <p:nvPr/>
        </p:nvSpPr>
        <p:spPr>
          <a:xfrm>
            <a:off x="6084720" y="5732640"/>
            <a:ext cx="358920" cy="576000"/>
          </a:xfrm>
          <a:custGeom>
            <a:avLst/>
            <a:gdLst>
              <a:gd name="textAreaLeft" fmla="*/ 0 w 358920"/>
              <a:gd name="textAreaRight" fmla="*/ 359280 w 35892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8"/>
          <p:cNvSpPr/>
          <p:nvPr/>
        </p:nvSpPr>
        <p:spPr>
          <a:xfrm>
            <a:off x="6659640" y="981000"/>
            <a:ext cx="2305080" cy="1152720"/>
          </a:xfrm>
          <a:prstGeom prst="wedgeRoundRectCallout">
            <a:avLst>
              <a:gd name="adj1" fmla="val -59624"/>
              <a:gd name="adj2" fmla="val 23893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рными стрелками показаны смены правил  на альтернатив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8"/>
          <p:cNvSpPr/>
          <p:nvPr/>
        </p:nvSpPr>
        <p:spPr>
          <a:xfrm>
            <a:off x="7093080" y="2781360"/>
            <a:ext cx="2050920" cy="2448000"/>
          </a:xfrm>
          <a:prstGeom prst="wedgeRoundRectCallout">
            <a:avLst>
              <a:gd name="adj1" fmla="val -68060"/>
              <a:gd name="adj2" fmla="val 21379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асные стрелки показывают воз-враты, требую-щие сменить правило преды-дущих уровней, что требует сох-ранения истории разб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rc 137"/>
          <p:cNvSpPr/>
          <p:nvPr/>
        </p:nvSpPr>
        <p:spPr>
          <a:xfrm>
            <a:off x="6084720" y="1628640"/>
            <a:ext cx="358920" cy="432000"/>
          </a:xfrm>
          <a:custGeom>
            <a:avLst/>
            <a:gdLst>
              <a:gd name="textAreaLeft" fmla="*/ 0 w 358920"/>
              <a:gd name="textAreaRight" fmla="*/ 359280 w 35892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rc 137"/>
          <p:cNvSpPr/>
          <p:nvPr/>
        </p:nvSpPr>
        <p:spPr>
          <a:xfrm>
            <a:off x="6084720" y="4724280"/>
            <a:ext cx="358920" cy="289080"/>
          </a:xfrm>
          <a:custGeom>
            <a:avLst/>
            <a:gdLst>
              <a:gd name="textAreaLeft" fmla="*/ 0 w 358920"/>
              <a:gd name="textAreaRight" fmla="*/ 359280 w 35892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8"/>
          <p:cNvSpPr/>
          <p:nvPr/>
        </p:nvSpPr>
        <p:spPr>
          <a:xfrm>
            <a:off x="6659640" y="5445000"/>
            <a:ext cx="2305080" cy="1152720"/>
          </a:xfrm>
          <a:prstGeom prst="wedgeRoundRectCallout">
            <a:avLst>
              <a:gd name="adj1" fmla="val -49462"/>
              <a:gd name="adj2" fmla="val 16342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враты вызваны неправильным выбором альтернатив прав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C3D9-39C5-4F36-9FAB-A8EF45C82D4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6868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Левосторонний восходящий грамматический разбо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229600" cy="59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Разобрать строку «-45», используя прав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елое&gt; ::= &lt;знак&gt;&lt;целое без знака&gt;|&lt;целое без знака&gt;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елое без знака&gt; ::= &lt;целое без знака&gt;&lt;цифра&gt;|&lt;цифра&gt;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 &gt; ::= 0|1|2|3|4|5|6|7|8|9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знак&gt; ::= +| -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дея мето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разборе строка просматривается слева направо и ищется часть, совпадающая с правой частью правила, – осно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818ff"/>
                </a:solidFill>
                <a:latin typeface="Arial"/>
              </a:rPr>
              <a:t>Основа</a:t>
            </a:r>
            <a:r>
              <a:rPr b="0" lang="ru-RU" sz="2000" spc="-1" strike="noStrike">
                <a:solidFill>
                  <a:srgbClr val="1818ff"/>
                </a:solidFill>
                <a:latin typeface="Arial"/>
              </a:rPr>
              <a:t> – последовательность символов, сворачиваемая на следующем шаге разбо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енная основа заменяется левой частью соответствующего правила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довательность выбора основ определена алгоритм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верный выбор основы приводит к необходимости возвр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8"/>
          <p:cNvSpPr/>
          <p:nvPr/>
        </p:nvSpPr>
        <p:spPr>
          <a:xfrm>
            <a:off x="6875640" y="2060640"/>
            <a:ext cx="1942920" cy="647640"/>
          </a:xfrm>
          <a:prstGeom prst="wedgeRoundRectCallout">
            <a:avLst>
              <a:gd name="adj1" fmla="val -149888"/>
              <a:gd name="adj2" fmla="val -74587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евосторонняя рекурс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E74D-0AC2-4171-BC88-08D9A149C1F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6868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Левосторонний восходящий грамматический разбо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569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овательность получения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ентенциальн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форм при разбор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цифра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знак&gt; &lt;цбз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цел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цбз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&lt;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цел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&lt;цбз&gt;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знак&gt; &lt;цбз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цифра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цел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 &lt;цифра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цбз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цифра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&lt;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цел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 &lt;цифра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цбз&gt;&lt;цифра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знак&gt; &lt;цбз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целое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2268360" y="2421000"/>
            <a:ext cx="1440000" cy="360360"/>
          </a:xfrm>
          <a:prstGeom prst="wedgeRoundRectCallout">
            <a:avLst>
              <a:gd name="adj1" fmla="val -89023"/>
              <a:gd name="adj2" fmla="val 13476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Туп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5"/>
          <p:cNvSpPr/>
          <p:nvPr/>
        </p:nvSpPr>
        <p:spPr>
          <a:xfrm>
            <a:off x="2843280" y="3284640"/>
            <a:ext cx="1439640" cy="360360"/>
          </a:xfrm>
          <a:prstGeom prst="wedgeRoundRectCallout">
            <a:avLst>
              <a:gd name="adj1" fmla="val -80064"/>
              <a:gd name="adj2" fmla="val -24416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Туп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3276720" y="4149720"/>
            <a:ext cx="1439640" cy="360360"/>
          </a:xfrm>
          <a:prstGeom prst="wedgeRoundRectCallout">
            <a:avLst>
              <a:gd name="adj1" fmla="val -108722"/>
              <a:gd name="adj2" fmla="val 2851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Туп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7"/>
          <p:cNvSpPr/>
          <p:nvPr/>
        </p:nvSpPr>
        <p:spPr>
          <a:xfrm>
            <a:off x="3635280" y="4869000"/>
            <a:ext cx="1440000" cy="360360"/>
          </a:xfrm>
          <a:prstGeom prst="wedgeRoundRectCallout">
            <a:avLst>
              <a:gd name="adj1" fmla="val -71833"/>
              <a:gd name="adj2" fmla="val -18226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Туп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8"/>
          <p:cNvSpPr/>
          <p:nvPr/>
        </p:nvSpPr>
        <p:spPr>
          <a:xfrm>
            <a:off x="5796000" y="4149720"/>
            <a:ext cx="2448000" cy="1008000"/>
          </a:xfrm>
          <a:prstGeom prst="wedgeRoundRectCallout">
            <a:avLst>
              <a:gd name="adj1" fmla="val -43722"/>
              <a:gd name="adj2" fmla="val 45930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враты возникают из-за неверного выбора основ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0"/>
          <p:cNvSpPr/>
          <p:nvPr/>
        </p:nvSpPr>
        <p:spPr>
          <a:xfrm>
            <a:off x="4427640" y="1484280"/>
            <a:ext cx="43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целое&gt; ::= &lt;знак&gt;&lt;ЦБЗ&gt;|&lt; ЦБЗ &gt;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ЦБЗ&gt; ::= &lt;ЦБЗ&gt;&lt;цифра&gt;|&lt;цифра&gt;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цифра &gt; ::= 0|1|2|3|4|5|6|7|8|9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знак&gt; ::= +|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DE8E-B945-4A51-B649-B35B42296A6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2.3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лассификация грамматик Хомск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ип 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мматики фразовой структуры или грамматики «без ограничений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α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β, где α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, β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*– в таких грамматиках допустимо наличие любых правил вывода, что свойственно грамматикам естественных язы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ип 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контекстно-зависимые (неукорачивающие) граммат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β, где α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β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*, | α |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| β | – в этих грамматиках для правил вида α 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β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α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β возможность подстановки строк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место символ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яется присутствием подстрок α и β, т. е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нтекс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что также свойственно грамматикам естественных язы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ип 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контекстно-свободные граммат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β, гд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β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* – поскольку в левой части правила стоит нетерминал, подстановки не зависят от контекс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ип 3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регулярные граммат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9D2E-A555-42C3-8695-7467892A027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ведение. Метод Рутисхауз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. Записать в полной скобочной форм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Сопоставить индекс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Цикл-пока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’_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Если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] =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ли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] = &lt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операнд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то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]:=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-1]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иначе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-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Все-ц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Определит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ндекс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1)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остроить трой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Удалить обработанные символы из выражения, результату сопоставить индекс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3C40-51C0-4FA0-843F-F4EE9CEC859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2.4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спознавание регулярных грамматик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2.4.1 Конечный автом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8200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δ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конечное множество состояни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ечное множество входных символ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δ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– функция переходов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текущее состояние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чередной симво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ачальное состоя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} – подмножество допускающих состоя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втомат «Чет-нечет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{Чет, Нечет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 {0, 1}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δ(Чет, 0) = Чет, δ(Нечет, 0) = Нече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δ(Чет, 1) = Нечет, δ(Нечет, 1) = Ч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Ч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{Чет}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5724360" y="3860640"/>
          <a:ext cx="2880000" cy="1152720"/>
        </p:xfrm>
        <a:graphic>
          <a:graphicData uri="http://schemas.openxmlformats.org/drawingml/2006/table">
            <a:tbl>
              <a:tblPr/>
              <a:tblGrid>
                <a:gridCol w="1028880"/>
                <a:gridCol w="952560"/>
                <a:gridCol w="898560"/>
              </a:tblGrid>
              <a:tr h="38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Text Box 22"/>
          <p:cNvSpPr/>
          <p:nvPr/>
        </p:nvSpPr>
        <p:spPr>
          <a:xfrm>
            <a:off x="6013080" y="3429000"/>
            <a:ext cx="22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блица пере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23"/>
          <p:cNvSpPr/>
          <p:nvPr/>
        </p:nvSpPr>
        <p:spPr>
          <a:xfrm>
            <a:off x="2465280" y="5919840"/>
            <a:ext cx="720720" cy="71892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4"/>
          <p:cNvSpPr/>
          <p:nvPr/>
        </p:nvSpPr>
        <p:spPr>
          <a:xfrm>
            <a:off x="3833640" y="5919840"/>
            <a:ext cx="720720" cy="71892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rc 25"/>
          <p:cNvSpPr/>
          <p:nvPr/>
        </p:nvSpPr>
        <p:spPr>
          <a:xfrm flipV="1">
            <a:off x="3041640" y="6495480"/>
            <a:ext cx="865080" cy="215640"/>
          </a:xfrm>
          <a:custGeom>
            <a:avLst/>
            <a:gdLst>
              <a:gd name="textAreaLeft" fmla="*/ 0 w 865080"/>
              <a:gd name="textAreaRight" fmla="*/ 865440 w 865080"/>
              <a:gd name="textAreaTop" fmla="*/ -360 h 215640"/>
              <a:gd name="textAreaBottom" fmla="*/ 215640 h 215640"/>
            </a:gdLst>
            <a:ahLst/>
            <a:rect l="textAreaLeft" t="textAreaTop" r="textAreaRight" b="textAreaBottom"/>
            <a:pathLst>
              <a:path fill="none" w="43074" h="21600">
                <a:moveTo>
                  <a:pt x="-1" y="19272"/>
                </a:moveTo>
                <a:cubicBezTo>
                  <a:pt x="1187" y="8308"/>
                  <a:pt x="10445" y="-1"/>
                  <a:pt x="21474" y="0"/>
                </a:cubicBezTo>
                <a:cubicBezTo>
                  <a:pt x="33403" y="0"/>
                  <a:pt x="43074" y="9670"/>
                  <a:pt x="43074" y="21600"/>
                </a:cubicBezTo>
              </a:path>
              <a:path stroke="0" w="43074" h="21600">
                <a:moveTo>
                  <a:pt x="-1" y="19272"/>
                </a:moveTo>
                <a:cubicBezTo>
                  <a:pt x="1187" y="8308"/>
                  <a:pt x="10445" y="-1"/>
                  <a:pt x="21474" y="0"/>
                </a:cubicBezTo>
                <a:cubicBezTo>
                  <a:pt x="33403" y="0"/>
                  <a:pt x="43074" y="9670"/>
                  <a:pt x="43074" y="21600"/>
                </a:cubicBezTo>
                <a:lnTo>
                  <a:pt x="21474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rc 26"/>
          <p:cNvSpPr/>
          <p:nvPr/>
        </p:nvSpPr>
        <p:spPr>
          <a:xfrm>
            <a:off x="3041640" y="5775480"/>
            <a:ext cx="865080" cy="215640"/>
          </a:xfrm>
          <a:custGeom>
            <a:avLst/>
            <a:gdLst>
              <a:gd name="textAreaLeft" fmla="*/ 0 w 865080"/>
              <a:gd name="textAreaRight" fmla="*/ 865440 w 8650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fill="none" w="43074" h="21600">
                <a:moveTo>
                  <a:pt x="-1" y="19272"/>
                </a:moveTo>
                <a:cubicBezTo>
                  <a:pt x="1187" y="8308"/>
                  <a:pt x="10445" y="-1"/>
                  <a:pt x="21474" y="0"/>
                </a:cubicBezTo>
                <a:cubicBezTo>
                  <a:pt x="33403" y="0"/>
                  <a:pt x="43074" y="9670"/>
                  <a:pt x="43074" y="21600"/>
                </a:cubicBezTo>
              </a:path>
              <a:path stroke="0" w="43074" h="21600">
                <a:moveTo>
                  <a:pt x="-1" y="19272"/>
                </a:moveTo>
                <a:cubicBezTo>
                  <a:pt x="1187" y="8308"/>
                  <a:pt x="10445" y="-1"/>
                  <a:pt x="21474" y="0"/>
                </a:cubicBezTo>
                <a:cubicBezTo>
                  <a:pt x="33403" y="0"/>
                  <a:pt x="43074" y="9670"/>
                  <a:pt x="43074" y="21600"/>
                </a:cubicBezTo>
                <a:lnTo>
                  <a:pt x="21474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3332520" y="6280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3332520" y="5775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rc 29"/>
          <p:cNvSpPr/>
          <p:nvPr/>
        </p:nvSpPr>
        <p:spPr>
          <a:xfrm flipV="1">
            <a:off x="4410000" y="5990400"/>
            <a:ext cx="620640" cy="577800"/>
          </a:xfrm>
          <a:custGeom>
            <a:avLst/>
            <a:gdLst>
              <a:gd name="textAreaLeft" fmla="*/ 0 w 620640"/>
              <a:gd name="textAreaRight" fmla="*/ 621000 w 620640"/>
              <a:gd name="textAreaTop" fmla="*/ -360 h 577800"/>
              <a:gd name="textAreaBottom" fmla="*/ 577800 h 577800"/>
            </a:gdLst>
            <a:ahLst/>
            <a:rect l="textAreaLeft" t="textAreaTop" r="textAreaRight" b="textAreaBottom"/>
            <a:pathLst>
              <a:path fill="none" w="31065" h="43200">
                <a:moveTo>
                  <a:pt x="2718" y="1080"/>
                </a:moveTo>
                <a:cubicBezTo>
                  <a:pt x="4895" y="364"/>
                  <a:pt x="7173" y="-1"/>
                  <a:pt x="9465" y="0"/>
                </a:cubicBezTo>
                <a:cubicBezTo>
                  <a:pt x="21394" y="0"/>
                  <a:pt x="31065" y="9670"/>
                  <a:pt x="31065" y="21600"/>
                </a:cubicBezTo>
                <a:cubicBezTo>
                  <a:pt x="31065" y="33529"/>
                  <a:pt x="21394" y="43200"/>
                  <a:pt x="9465" y="43200"/>
                </a:cubicBezTo>
                <a:cubicBezTo>
                  <a:pt x="6185" y="43200"/>
                  <a:pt x="2948" y="42453"/>
                  <a:pt x="0" y="41015"/>
                </a:cubicBezTo>
              </a:path>
              <a:path stroke="0" w="31065" h="43200">
                <a:moveTo>
                  <a:pt x="2718" y="1080"/>
                </a:moveTo>
                <a:cubicBezTo>
                  <a:pt x="4895" y="364"/>
                  <a:pt x="7173" y="-1"/>
                  <a:pt x="9465" y="0"/>
                </a:cubicBezTo>
                <a:cubicBezTo>
                  <a:pt x="21394" y="0"/>
                  <a:pt x="31065" y="9670"/>
                  <a:pt x="31065" y="21600"/>
                </a:cubicBezTo>
                <a:cubicBezTo>
                  <a:pt x="31065" y="33529"/>
                  <a:pt x="21394" y="43200"/>
                  <a:pt x="9465" y="43200"/>
                </a:cubicBezTo>
                <a:cubicBezTo>
                  <a:pt x="6185" y="43200"/>
                  <a:pt x="2948" y="42453"/>
                  <a:pt x="0" y="41015"/>
                </a:cubicBezTo>
                <a:lnTo>
                  <a:pt x="9465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627800" y="606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rc 31"/>
          <p:cNvSpPr/>
          <p:nvPr/>
        </p:nvSpPr>
        <p:spPr>
          <a:xfrm flipH="1" flipV="1">
            <a:off x="1890000" y="5990400"/>
            <a:ext cx="647640" cy="577800"/>
          </a:xfrm>
          <a:custGeom>
            <a:avLst/>
            <a:gdLst>
              <a:gd name="textAreaLeft" fmla="*/ -360 w 647640"/>
              <a:gd name="textAreaRight" fmla="*/ 647640 w 647640"/>
              <a:gd name="textAreaTop" fmla="*/ -360 h 577800"/>
              <a:gd name="textAreaBottom" fmla="*/ 577800 h 577800"/>
            </a:gdLst>
            <a:ahLst/>
            <a:rect l="textAreaLeft" t="textAreaTop" r="textAreaRight" b="textAreaBottom"/>
            <a:pathLst>
              <a:path fill="none" w="31065" h="43200">
                <a:moveTo>
                  <a:pt x="2718" y="1080"/>
                </a:moveTo>
                <a:cubicBezTo>
                  <a:pt x="4895" y="364"/>
                  <a:pt x="7173" y="-1"/>
                  <a:pt x="9465" y="0"/>
                </a:cubicBezTo>
                <a:cubicBezTo>
                  <a:pt x="21394" y="0"/>
                  <a:pt x="31065" y="9670"/>
                  <a:pt x="31065" y="21600"/>
                </a:cubicBezTo>
                <a:cubicBezTo>
                  <a:pt x="31065" y="33529"/>
                  <a:pt x="21394" y="43200"/>
                  <a:pt x="9465" y="43200"/>
                </a:cubicBezTo>
                <a:cubicBezTo>
                  <a:pt x="6185" y="43200"/>
                  <a:pt x="2948" y="42453"/>
                  <a:pt x="0" y="41015"/>
                </a:cubicBezTo>
              </a:path>
              <a:path stroke="0" w="31065" h="43200">
                <a:moveTo>
                  <a:pt x="2718" y="1080"/>
                </a:moveTo>
                <a:cubicBezTo>
                  <a:pt x="4895" y="364"/>
                  <a:pt x="7173" y="-1"/>
                  <a:pt x="9465" y="0"/>
                </a:cubicBezTo>
                <a:cubicBezTo>
                  <a:pt x="21394" y="0"/>
                  <a:pt x="31065" y="9670"/>
                  <a:pt x="31065" y="21600"/>
                </a:cubicBezTo>
                <a:cubicBezTo>
                  <a:pt x="31065" y="33529"/>
                  <a:pt x="21394" y="43200"/>
                  <a:pt x="9465" y="43200"/>
                </a:cubicBezTo>
                <a:cubicBezTo>
                  <a:pt x="6185" y="43200"/>
                  <a:pt x="2948" y="42453"/>
                  <a:pt x="0" y="41015"/>
                </a:cubicBezTo>
                <a:lnTo>
                  <a:pt x="9465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2"/>
          <p:cNvSpPr/>
          <p:nvPr/>
        </p:nvSpPr>
        <p:spPr>
          <a:xfrm flipH="1">
            <a:off x="1963440" y="606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430880" y="573408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ф пере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34"/>
          <p:cNvSpPr/>
          <p:nvPr/>
        </p:nvSpPr>
        <p:spPr>
          <a:xfrm>
            <a:off x="7524720" y="5516640"/>
            <a:ext cx="358920" cy="36036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35"/>
          <p:cNvSpPr/>
          <p:nvPr/>
        </p:nvSpPr>
        <p:spPr>
          <a:xfrm>
            <a:off x="6948360" y="5948280"/>
            <a:ext cx="358920" cy="36036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36"/>
          <p:cNvSpPr/>
          <p:nvPr/>
        </p:nvSpPr>
        <p:spPr>
          <a:xfrm>
            <a:off x="8172360" y="5948280"/>
            <a:ext cx="358920" cy="36036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37"/>
          <p:cNvSpPr/>
          <p:nvPr/>
        </p:nvSpPr>
        <p:spPr>
          <a:xfrm>
            <a:off x="7524720" y="6237360"/>
            <a:ext cx="358920" cy="36036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38"/>
          <p:cNvSpPr/>
          <p:nvPr/>
        </p:nvSpPr>
        <p:spPr>
          <a:xfrm>
            <a:off x="6588000" y="666900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39"/>
          <p:cNvSpPr/>
          <p:nvPr/>
        </p:nvSpPr>
        <p:spPr>
          <a:xfrm flipH="1">
            <a:off x="7308360" y="6093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40"/>
          <p:cNvSpPr/>
          <p:nvPr/>
        </p:nvSpPr>
        <p:spPr>
          <a:xfrm flipH="1" flipV="1">
            <a:off x="8459280" y="6237000"/>
            <a:ext cx="289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41"/>
          <p:cNvSpPr/>
          <p:nvPr/>
        </p:nvSpPr>
        <p:spPr>
          <a:xfrm flipH="1">
            <a:off x="6732720" y="6261120"/>
            <a:ext cx="263520" cy="4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42"/>
          <p:cNvSpPr/>
          <p:nvPr/>
        </p:nvSpPr>
        <p:spPr>
          <a:xfrm flipV="1">
            <a:off x="7451640" y="5820840"/>
            <a:ext cx="162000" cy="2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43"/>
          <p:cNvSpPr/>
          <p:nvPr/>
        </p:nvSpPr>
        <p:spPr>
          <a:xfrm>
            <a:off x="7788240" y="5848200"/>
            <a:ext cx="168480" cy="2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44"/>
          <p:cNvSpPr/>
          <p:nvPr/>
        </p:nvSpPr>
        <p:spPr>
          <a:xfrm flipH="1">
            <a:off x="7380000" y="6453360"/>
            <a:ext cx="144360" cy="21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45"/>
          <p:cNvSpPr/>
          <p:nvPr/>
        </p:nvSpPr>
        <p:spPr>
          <a:xfrm flipH="1" flipV="1">
            <a:off x="7883280" y="6453000"/>
            <a:ext cx="144360" cy="21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6"/>
          <p:cNvSpPr/>
          <p:nvPr/>
        </p:nvSpPr>
        <p:spPr>
          <a:xfrm>
            <a:off x="5918040" y="5157720"/>
            <a:ext cx="32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таксическая диа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A45F-2C5E-4B83-8858-6D3F47B1EC0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6868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ная реализация конечного автом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25600" y="2884320"/>
            <a:ext cx="8229600" cy="37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: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икл-пока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«Ошибка» и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«Конец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-цик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«Конец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 «Строка приня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аче «Строка отвергну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-ес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187280" y="981000"/>
          <a:ext cx="6769440" cy="1673280"/>
        </p:xfrm>
        <a:graphic>
          <a:graphicData uri="http://schemas.openxmlformats.org/drawingml/2006/table">
            <a:tbl>
              <a:tblPr/>
              <a:tblGrid>
                <a:gridCol w="1354320"/>
                <a:gridCol w="1353960"/>
                <a:gridCol w="1352880"/>
                <a:gridCol w="1353960"/>
                <a:gridCol w="135432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ерш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ч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е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шиб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ч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ч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шиб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шиб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25FC-8E4B-4BB3-A948-F35D4547BC4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2.4.2 Лексические анализатор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9152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спознаватель целых чисе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4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7416720" cy="129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8" name=""/>
          <p:cNvGraphicFramePr/>
          <p:nvPr/>
        </p:nvGraphicFramePr>
        <p:xfrm>
          <a:off x="250920" y="3716280"/>
          <a:ext cx="4897440" cy="2260800"/>
        </p:xfrm>
        <a:graphic>
          <a:graphicData uri="http://schemas.openxmlformats.org/drawingml/2006/table">
            <a:tbl>
              <a:tblPr/>
              <a:tblGrid>
                <a:gridCol w="936360"/>
                <a:gridCol w="924120"/>
                <a:gridCol w="909720"/>
                <a:gridCol w="1149120"/>
                <a:gridCol w="978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о-я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ф-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-л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 А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А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 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 D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А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 D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 D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, A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А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, A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 D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Text Box 37"/>
          <p:cNvSpPr/>
          <p:nvPr/>
        </p:nvSpPr>
        <p:spPr>
          <a:xfrm>
            <a:off x="5219640" y="2852640"/>
            <a:ext cx="392436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нициализация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ое := 0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_числа := «+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1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Знак_числа := З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2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ое := Целое*10 + Циф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3: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Ес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нак_числа = «-»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ое := -Цел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се-ес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1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«Строка не является  числом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2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«Два знака рядом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3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«В строке отсутствуют цифры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4: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В строке встречаются недопустимые символы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7C7C-E0FF-419B-8633-C2268781C89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познаватель целых чис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50560" y="952560"/>
            <a:ext cx="84358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олни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кл-пока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 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 = «+»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 = «-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аче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«0»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«9»,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j :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аче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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РАЗДЕЛ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аче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j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олни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i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]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ц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5148360" y="1052640"/>
            <a:ext cx="3992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= «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  Выполни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вести «Это число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аче Вывести сообщен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-ес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5219640" y="4383000"/>
          <a:ext cx="3924360" cy="2071800"/>
        </p:xfrm>
        <a:graphic>
          <a:graphicData uri="http://schemas.openxmlformats.org/drawingml/2006/table">
            <a:tbl>
              <a:tblPr/>
              <a:tblGrid>
                <a:gridCol w="934920"/>
                <a:gridCol w="714600"/>
                <a:gridCol w="668160"/>
                <a:gridCol w="870120"/>
                <a:gridCol w="736560"/>
              </a:tblGrid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оя-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ф-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-л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-г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 А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А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 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А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 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, A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А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 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0D80-1314-4777-AFE1-8CBD516ADB9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2.4.3 Синтаксические анализатор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7138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таксический анализатор списка описания целых скаляров, массивов и функций, например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xaf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22[5]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rr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2][4]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]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(), *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V,V[N],V[N][N],V[N],V(),*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4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5184720" cy="194472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5"/>
          <p:cNvSpPr/>
          <p:nvPr/>
        </p:nvSpPr>
        <p:spPr>
          <a:xfrm>
            <a:off x="250920" y="4076640"/>
            <a:ext cx="525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*  (  )  [  ]  ,  ;  Друг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1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3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2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2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3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3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4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6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1  К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4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5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5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1  К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6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7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7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8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8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6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1  К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5580000" y="2133720"/>
            <a:ext cx="356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означени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идентификатор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целочисленная констан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ужебные символы: «[ ] ( ) , ; *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7"/>
          <p:cNvSpPr/>
          <p:nvPr/>
        </p:nvSpPr>
        <p:spPr>
          <a:xfrm>
            <a:off x="177840" y="4363920"/>
            <a:ext cx="4984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8"/>
          <p:cNvSpPr/>
          <p:nvPr/>
        </p:nvSpPr>
        <p:spPr>
          <a:xfrm flipV="1">
            <a:off x="609480" y="422064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1" dur="indefinite" restart="never" nodeType="tmRoot">
          <p:childTnLst>
            <p:seq>
              <p:cTn id="1242" dur="indefinite" nodeType="mainSeq">
                <p:childTnLst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A7F0-93CD-4C5A-9C6D-EC812CD239F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лгоритм анализа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кл-пока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Е» 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o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, «VN*()[];»)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ц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«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  Вывести сообщение «Да»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аче Вывести сообщение «Нет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o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, «VN*()[];»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позиция (номер столбца таблицы) очередного символа в строке символов или 0, если это «другой» симв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9" dur="indefinite" restart="never" nodeType="tmRoot">
          <p:childTnLst>
            <p:seq>
              <p:cTn id="1320" dur="indefinite" nodeType="mainSeq">
                <p:childTnLst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9701-1BF1-43EF-BD18-2E94B40A285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2.5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спознавание КС-грамматик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2.5.1 Автомат с магазинной память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131256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Г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конечное множество состояний автома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ечный входной алфавит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 – конечное множество магазинных символ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j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– функция переход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 начальное состояние автома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 – символ, находящийся в магазине в начальный момен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множество заключительных (допускающих) состоя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5" dur="indefinite" restart="never" nodeType="tmRoot">
          <p:childTnLst>
            <p:seq>
              <p:cTn id="1366" dur="indefinite" nodeType="mainSeq">
                <p:childTnLst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E3DC-D88F-4971-B4FA-CD964FA4474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нтаксические диаграммы выра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0" y="836640"/>
            <a:ext cx="896472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интаксический анализатор выраж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{&lt;Ид&gt;, +, –, *,  /, (, ), ◄, ►}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пример: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* (B + C) + (D + F) / (A + B) - C *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Object 4"/>
          <p:cNvGraphicFramePr/>
          <p:nvPr/>
        </p:nvGraphicFramePr>
        <p:xfrm>
          <a:off x="1258920" y="2565360"/>
          <a:ext cx="6261120" cy="37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565360"/>
                    <a:ext cx="6261120" cy="37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399" dur="indefinite" restart="never" nodeType="tmRoot">
          <p:childTnLst>
            <p:seq>
              <p:cTn id="1400" dur="indefinite" nodeType="mainSeq">
                <p:childTnLst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E67A-8790-42DF-B043-608001AA12A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диненная синтаксическая диа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56908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244A-3361-4008-A8C6-91F016BAA5E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блица переходов автома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Object 3"/>
          <p:cNvGraphicFramePr/>
          <p:nvPr/>
        </p:nvGraphicFramePr>
        <p:xfrm>
          <a:off x="-1405080" y="1052640"/>
          <a:ext cx="11809440" cy="580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05080" y="1052640"/>
                    <a:ext cx="1180944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560E-544A-4189-8BF7-E48A7716C6B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использования метода Рутисхаузера для разбора выра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82760" y="1447560"/>
            <a:ext cx="822960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.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S:      (  (  ( a +  b ) * c  ) + d )  /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:   0 1 2 3 4 3 4 3 2 3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2 1 0 1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:      (  ( T1 * c  ) + d )  /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:   0 1 2 3  2 3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2 1 0 1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:      ( T2 + d )  /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:   0 1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2 1 0 1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:      T3  /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  0 1  0  1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050920" y="3543480"/>
            <a:ext cx="1295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2268360" y="2449440"/>
            <a:ext cx="1295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763640" y="4653000"/>
            <a:ext cx="1295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1763640" y="5740560"/>
            <a:ext cx="93672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6372360" y="2421000"/>
            <a:ext cx="2087280" cy="576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&gt;  T1 = a+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6372360" y="3429000"/>
            <a:ext cx="2087280" cy="576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&gt;  T2 = T1*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6372360" y="4437000"/>
            <a:ext cx="2087280" cy="576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&gt;  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6372360" y="5516640"/>
            <a:ext cx="2087280" cy="576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&gt;  T4 = T3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361F-BF38-44B4-9131-761B1718DF9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лгоритм распознава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58720" y="69840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g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кл-пока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 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]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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]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аче Есл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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аче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ц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«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 «Строка принят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аче «Строка отвергнут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ес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5" dur="indefinite" restart="never" nodeType="tmRoot">
          <p:childTnLst>
            <p:seq>
              <p:cTn id="1416" dur="indefinite" nodeType="mainSeq">
                <p:childTnLst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5A9B-5AA1-4126-B32D-BE947C029FA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820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2.5.2 Синтаксические анализаторы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L(k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мматик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восторонний нисходящий грамматический разб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Object 4"/>
          <p:cNvGraphicFramePr/>
          <p:nvPr/>
        </p:nvGraphicFramePr>
        <p:xfrm>
          <a:off x="-1179360" y="903240"/>
          <a:ext cx="9144000" cy="634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79360" y="903240"/>
                    <a:ext cx="9144000" cy="63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Arc 137"/>
          <p:cNvSpPr/>
          <p:nvPr/>
        </p:nvSpPr>
        <p:spPr>
          <a:xfrm>
            <a:off x="6084720" y="4437000"/>
            <a:ext cx="648000" cy="216000"/>
          </a:xfrm>
          <a:custGeom>
            <a:avLst/>
            <a:gdLst>
              <a:gd name="textAreaLeft" fmla="*/ 0 w 648000"/>
              <a:gd name="textAreaRight" fmla="*/ 648000 w 648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rc 137"/>
          <p:cNvSpPr/>
          <p:nvPr/>
        </p:nvSpPr>
        <p:spPr>
          <a:xfrm>
            <a:off x="6012000" y="3357720"/>
            <a:ext cx="936360" cy="1871640"/>
          </a:xfrm>
          <a:custGeom>
            <a:avLst/>
            <a:gdLst>
              <a:gd name="textAreaLeft" fmla="*/ 0 w 936360"/>
              <a:gd name="textAreaRight" fmla="*/ 936720 w 936360"/>
              <a:gd name="textAreaTop" fmla="*/ 0 h 1871640"/>
              <a:gd name="textAreaBottom" fmla="*/ 1872000 h 187164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rc 137"/>
          <p:cNvSpPr/>
          <p:nvPr/>
        </p:nvSpPr>
        <p:spPr>
          <a:xfrm>
            <a:off x="6084720" y="2637000"/>
            <a:ext cx="358920" cy="431640"/>
          </a:xfrm>
          <a:custGeom>
            <a:avLst/>
            <a:gdLst>
              <a:gd name="textAreaLeft" fmla="*/ 0 w 358920"/>
              <a:gd name="textAreaRight" fmla="*/ 359280 w 35892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rc 137"/>
          <p:cNvSpPr/>
          <p:nvPr/>
        </p:nvSpPr>
        <p:spPr>
          <a:xfrm>
            <a:off x="6084720" y="3645000"/>
            <a:ext cx="358920" cy="504720"/>
          </a:xfrm>
          <a:custGeom>
            <a:avLst/>
            <a:gdLst>
              <a:gd name="textAreaLeft" fmla="*/ 0 w 358920"/>
              <a:gd name="textAreaRight" fmla="*/ 359280 w 3589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rc 137"/>
          <p:cNvSpPr/>
          <p:nvPr/>
        </p:nvSpPr>
        <p:spPr>
          <a:xfrm>
            <a:off x="6084720" y="5229360"/>
            <a:ext cx="358920" cy="288720"/>
          </a:xfrm>
          <a:custGeom>
            <a:avLst/>
            <a:gdLst>
              <a:gd name="textAreaLeft" fmla="*/ 0 w 358920"/>
              <a:gd name="textAreaRight" fmla="*/ 359280 w 3589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rc 137"/>
          <p:cNvSpPr/>
          <p:nvPr/>
        </p:nvSpPr>
        <p:spPr>
          <a:xfrm>
            <a:off x="6084720" y="5805360"/>
            <a:ext cx="358920" cy="432000"/>
          </a:xfrm>
          <a:custGeom>
            <a:avLst/>
            <a:gdLst>
              <a:gd name="textAreaLeft" fmla="*/ 0 w 358920"/>
              <a:gd name="textAreaRight" fmla="*/ 359280 w 35892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rc 137"/>
          <p:cNvSpPr/>
          <p:nvPr/>
        </p:nvSpPr>
        <p:spPr>
          <a:xfrm>
            <a:off x="6084720" y="1628640"/>
            <a:ext cx="358920" cy="432000"/>
          </a:xfrm>
          <a:custGeom>
            <a:avLst/>
            <a:gdLst>
              <a:gd name="textAreaLeft" fmla="*/ 0 w 358920"/>
              <a:gd name="textAreaRight" fmla="*/ 359280 w 35892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rc 137"/>
          <p:cNvSpPr/>
          <p:nvPr/>
        </p:nvSpPr>
        <p:spPr>
          <a:xfrm>
            <a:off x="6084720" y="4724280"/>
            <a:ext cx="358920" cy="217440"/>
          </a:xfrm>
          <a:custGeom>
            <a:avLst/>
            <a:gdLst>
              <a:gd name="textAreaLeft" fmla="*/ 0 w 358920"/>
              <a:gd name="textAreaRight" fmla="*/ 359280 w 35892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8"/>
          <p:cNvSpPr/>
          <p:nvPr/>
        </p:nvSpPr>
        <p:spPr>
          <a:xfrm>
            <a:off x="6659640" y="1341360"/>
            <a:ext cx="2305080" cy="1150920"/>
          </a:xfrm>
          <a:prstGeom prst="wedgeRoundRectCallout">
            <a:avLst>
              <a:gd name="adj1" fmla="val -49462"/>
              <a:gd name="adj2" fmla="val 16342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враты вызваны неправильным выбором альтернатив прав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8"/>
          <p:cNvSpPr/>
          <p:nvPr/>
        </p:nvSpPr>
        <p:spPr>
          <a:xfrm>
            <a:off x="7164360" y="3429000"/>
            <a:ext cx="1871640" cy="1944720"/>
          </a:xfrm>
          <a:prstGeom prst="wedgeRoundRectCallout">
            <a:avLst>
              <a:gd name="adj1" fmla="val -49671"/>
              <a:gd name="adj2" fmla="val -19884"/>
              <a:gd name="adj3" fmla="val 16667"/>
            </a:avLst>
          </a:prstGeom>
          <a:solidFill>
            <a:srgbClr val="fb05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L(k)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рамматиках обеспечивается однозначный выбор прави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роцессе разб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9" dur="indefinite" restart="never" nodeType="tmRoot">
          <p:childTnLst>
            <p:seq>
              <p:cTn id="1490" dur="indefinite" nodeType="mainSeq">
                <p:childTnLst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7877-253D-404C-A0D7-66C418068B8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640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нтаксические анализатор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L(k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мматик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9152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мер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а грамматика записи выраж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 &lt;Строка&gt; ::= &lt;Выр&gt;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 &lt;Выр&gt; ::= &lt;Терм&gt; &lt;Слож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&lt;Слож&gt; ::=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e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 | + &lt;Терм&gt; &lt;Слож&gt; |  - &lt;Терм&gt;&lt;Слож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) &lt;Терм&gt; ::= &lt;Множ&gt;&lt;Умн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&lt;Умн&gt; ::=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e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 | *&lt;Множ&gt;&lt;Умн&gt; | / &lt;Множ&gt;&lt;Умн&g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&lt;Множ&gt; ::= &lt;Ид&gt; | (&lt;Выр&gt;)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Object 4"/>
          <p:cNvGraphicFramePr/>
          <p:nvPr/>
        </p:nvGraphicFramePr>
        <p:xfrm>
          <a:off x="-828720" y="3141720"/>
          <a:ext cx="10728360" cy="388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28720" y="3141720"/>
                    <a:ext cx="10728360" cy="38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5" dur="indefinite" restart="never" nodeType="tmRoot">
          <p:childTnLst>
            <p:seq>
              <p:cTn id="1496" dur="indefinite" nodeType="mainSeq">
                <p:childTnLst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0568-5A3E-4513-9C8A-132402FC158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тод рекурсивного спу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Object 4"/>
          <p:cNvGraphicFramePr/>
          <p:nvPr/>
        </p:nvGraphicFramePr>
        <p:xfrm>
          <a:off x="539640" y="1773360"/>
          <a:ext cx="7561440" cy="452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773360"/>
                    <a:ext cx="7561440" cy="45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9A4C-557A-475A-93F9-E289E097ECE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лгоритм распознава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ункция Выраж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=Терм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к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=tru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NextSymbol =’+’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xtSymbol =’-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=Терм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-ц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жение: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ункция Тер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le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ж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к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=tru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NextSymbol =’*’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xtSymbol =’/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=Множ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-ц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рм: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9AC4-E80C-4F41-B5ED-F8192405950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лгоритм распознавателя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ункци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но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Boole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xtSymbol =’(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=Выражение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Symbol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‘)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Ошибка 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ач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: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ая програм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=Выражение(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Symbol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‘◄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Ошибка 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7" dur="indefinite" restart="never" nodeType="tmRoot">
          <p:childTnLst>
            <p:seq>
              <p:cTn id="1598" dur="indefinite" nodeType="mainSeq">
                <p:childTnLst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841B-F7C4-470D-AEEB-4570D65E5A3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907416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ogram Compil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{$APPTYPE CONSOLE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uses  SysUtil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 SetofChar=set of AnsiCha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Bukv:setofChar=['A'..'Z','a'..'z'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Cyfr:setofChar=['0'..'9'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Razd:setofChar=[' ','+','-','*','/',')'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St:shortstring; R:boolea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ulc(Var St:shortstring;Razd:setofChar):boolean;forwar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edure Error(St:shortstring); 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  <a:ea typeface="Courier New"/>
              </a:rPr>
              <a:t>{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  <a:ea typeface="Courier New"/>
              </a:rPr>
              <a:t>вывод сообщений об ошибках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      WriteLn('Error *** ', st, ' ***');  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edure Probel(Var St:shortstring); 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  <a:ea typeface="Courier New"/>
              </a:rPr>
              <a:t>{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  <a:ea typeface="Courier New"/>
              </a:rPr>
              <a:t>удаление пробелов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   While (St&lt;&gt;'') and (St[1]=' ') do Delete(St,1,1)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7B80-515D-41E4-BFC7-AD3BFB5FA8B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 программы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Id(Var St:shortstring; Razd:setofChar):boolean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S:shortString; State,Ind,Col:by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TableId:array[1..2,1..4] of Byte=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(2,0,0,0),(2,2,10,0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be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 </a:t>
            </a:r>
            <a:r>
              <a:rPr b="1" lang="ru-RU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{процедура удаления пробелов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e:=1;   S:=''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State&lt;&gt;0) and (State&lt;&gt;10) and (Length(St)&lt;&gt;0)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St[1] in ['A'..'Z','a'..'z'] then Col: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 if St[1] in ['0'..'9'] then Col:=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if (St[1] in Razd) then Col:=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Col:=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e:=TableId[State,Col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6CB9-3C46-41EB-B481-94FD0051BB3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 программы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State&lt;&gt;0) and (State&lt;&gt;10) then </a:t>
            </a:r>
            <a:r>
              <a:rPr b="1" lang="en-US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{</a:t>
            </a:r>
            <a:r>
              <a:rPr b="1" lang="ru-RU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правильный символ</a:t>
            </a:r>
            <a:r>
              <a:rPr b="1" lang="en-US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  S:=S+St[1];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elete(St,1,1);  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length(st)=0 then State:=10; </a:t>
            </a:r>
            <a:r>
              <a:rPr b="1" lang="en-US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 {</a:t>
            </a:r>
            <a:r>
              <a:rPr b="1" lang="ru-RU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строка закончилась</a:t>
            </a:r>
            <a:r>
              <a:rPr b="1" lang="en-US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State=10) and (S&lt;&gt;'') then   </a:t>
            </a:r>
            <a:r>
              <a:rPr b="1" lang="en-US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{</a:t>
            </a:r>
            <a:r>
              <a:rPr b="1" lang="ru-RU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правильно</a:t>
            </a:r>
            <a:r>
              <a:rPr b="1" lang="en-US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:=true;  WriteLn('Identify=',S);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State=0) the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{</a:t>
            </a:r>
            <a:r>
              <a:rPr b="1" lang="ru-RU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ошибка символа</a:t>
            </a:r>
            <a:r>
              <a:rPr b="1" lang="en-US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:=fals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Ln('Wrong symbol *',St[1],'*');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1" lang="en-US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{</a:t>
            </a:r>
            <a:r>
              <a:rPr b="1" lang="ru-RU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нет идентификатора</a:t>
            </a:r>
            <a:r>
              <a:rPr b="1" lang="en-US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  Result:=fals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Ln('Identifier waits...', 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2698-69CC-45C1-8882-E4C6C5770D7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 программы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ult(Var St:shortstring;Razd:setofChar):boole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R:boole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bel(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St[1]='('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(St,1,1); Probel(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:=Culc(St,Raz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bel(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R and (St[1]=')')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(St,1,1) else Error(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R:=Id(St,Raz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ult:=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BF3E-A9A6-4AA4-AC57-5D35C58DCB4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1 Основные понятия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1.1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лассификация компилирующих програм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312560"/>
            <a:ext cx="82915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рансля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ограмма, которая переводит програм-му, написанную на одном языке, в эквивалентную ей программу, написанную на другом язы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мпиля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транслятор с языка высокого уровня на машинный язык или язык ассембл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ссембл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транслятор с языка Ассемблера на ма-шинный язы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нтерпрета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ограмма, которая принимает ис-ходную программу и выполняет ее, не создавая про-граммы на другом язы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крогенера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для компиляторов 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процесс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– программа, которая обрабатывает исходную про-грамму, как текст, и выполняет в нем замены ука-занных символов на подстроки. Макрогенератор обрабатывает программу до трансля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C6EF-6DC0-44D1-903A-DF51B38535C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 программы (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erm(Var St:shortstring;Razd:setofChar):boole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R:boole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:=Mult(St,Raz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R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bel(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(St[1]='*') or (St[1]='/')) and R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(St,1,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:=Mult(St,Raz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erm:=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97FB-428C-469C-BE5B-A66512483DE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 программы (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ulc(Var St:shortstring;Razd:setofChar):boole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R:boole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:=Term(St,Raz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R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bel(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(St[1]='+') or (St[1]='-')) and R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(St,1,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:=Term(St,Raz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ulc:=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7080-E287-454B-85B7-6BE049F8615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 программы (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ln('Input Strings:'); Readln(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:=tru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St&lt;&gt;'end') and R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:=Culc(St,Raz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R and (length(st)=0) then Writeln('Yes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Writeln('No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ln('Input Strings:'); Readln(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ln('Press Enter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l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EE63-3FA1-4BFA-A9D6-B2EB12D4008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зультат работы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 Strin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yy+(hjh-hj)*h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dentify=ty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dentify=hj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dentify=h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dentify=h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 Strin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9022-0DDF-4DD9-ACB9-79476910CFA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686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2.5.3 Синтаксические анализатор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R(k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мматик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мматики предшеств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23640" y="1312560"/>
            <a:ext cx="8569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восторонний восходящий грамматический разбор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цифра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знак&gt; &lt;цбз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цел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цбз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&lt;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цел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&lt;цбз&gt;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знак&gt; &lt;цбз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цифра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цел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 &lt;цифра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цбз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цифра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&lt;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цел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 &lt;цифра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цбз&gt;&lt;цифра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знак&gt; &lt;цбз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целое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4"/>
          <p:cNvSpPr/>
          <p:nvPr/>
        </p:nvSpPr>
        <p:spPr>
          <a:xfrm>
            <a:off x="2195640" y="2897280"/>
            <a:ext cx="1439640" cy="360360"/>
          </a:xfrm>
          <a:prstGeom prst="wedgeRoundRectCallout">
            <a:avLst>
              <a:gd name="adj1" fmla="val -89023"/>
              <a:gd name="adj2" fmla="val 13476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Туп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2771640" y="3762360"/>
            <a:ext cx="1440000" cy="360360"/>
          </a:xfrm>
          <a:prstGeom prst="wedgeRoundRectCallout">
            <a:avLst>
              <a:gd name="adj1" fmla="val -80064"/>
              <a:gd name="adj2" fmla="val -24416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Туп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3203640" y="4626000"/>
            <a:ext cx="1439640" cy="360360"/>
          </a:xfrm>
          <a:prstGeom prst="wedgeRoundRectCallout">
            <a:avLst>
              <a:gd name="adj1" fmla="val -108722"/>
              <a:gd name="adj2" fmla="val 2851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Туп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7"/>
          <p:cNvSpPr/>
          <p:nvPr/>
        </p:nvSpPr>
        <p:spPr>
          <a:xfrm>
            <a:off x="3564000" y="5345280"/>
            <a:ext cx="1439640" cy="360360"/>
          </a:xfrm>
          <a:prstGeom prst="wedgeRoundRectCallout">
            <a:avLst>
              <a:gd name="adj1" fmla="val -71833"/>
              <a:gd name="adj2" fmla="val -18226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Туп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8"/>
          <p:cNvSpPr/>
          <p:nvPr/>
        </p:nvSpPr>
        <p:spPr>
          <a:xfrm>
            <a:off x="5651640" y="3429000"/>
            <a:ext cx="2808000" cy="1152360"/>
          </a:xfrm>
          <a:prstGeom prst="wedgeRoundRectCallout">
            <a:avLst>
              <a:gd name="adj1" fmla="val -43722"/>
              <a:gd name="adj2" fmla="val 45930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враты возникают из-за неверного выбора осно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10"/>
          <p:cNvSpPr/>
          <p:nvPr/>
        </p:nvSpPr>
        <p:spPr>
          <a:xfrm>
            <a:off x="4356000" y="196200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целое&gt; ::= &lt;знак&gt;&lt;ЦБЗ&gt;|&lt; ЦБЗ &gt;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ЦБЗ&gt; ::= &lt;ЦБЗ&gt;&lt;цифра&gt;|&lt;цифра&gt;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цифра &gt; ::= 0|1|2|3|4|5|6|7|8|9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знак&gt; ::= +|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Скругленная прямоугольная выноска 11"/>
          <p:cNvSpPr/>
          <p:nvPr/>
        </p:nvSpPr>
        <p:spPr>
          <a:xfrm>
            <a:off x="5580000" y="4869000"/>
            <a:ext cx="2879640" cy="1584360"/>
          </a:xfrm>
          <a:prstGeom prst="wedgeRoundRectCallout">
            <a:avLst>
              <a:gd name="adj1" fmla="val -27384"/>
              <a:gd name="adj2" fmla="val 50111"/>
              <a:gd name="adj3" fmla="val 16667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мматик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R(k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еспечивают однозначный выбор осно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5" dur="indefinite" restart="never" nodeType="tmRoot">
          <p:childTnLst>
            <p:seq>
              <p:cTn id="1656" dur="indefinite" nodeType="mainSeq">
                <p:childTnLst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E1D5-015F-4B25-A9C0-540F5506172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748720" cy="21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мматики предшеств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87200" y="981000"/>
            <a:ext cx="8956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сть задана некоторая произвольная строка – предложение язы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...αβ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два симво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ки α, β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сположены рядом в сентенциальной форме, то между ними возможны следующие отношения, названные отношениями предшествова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α принадлежит основе, а β – нет, т. е. α – конец основы: α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gt; 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β принадлежит основе, а α – нет, т. е. β – начало основы: α &lt;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β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α и β принадлежит одной основе, т. е. α =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α и β не могут находиться рядом в сентенциальной форме (ошибк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мматикой предшествова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ется грамматика, в которой из последовательности символов однозначно следует определение основ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мматикой операторного предшествов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зывается грамматика, в которой существует однозначное отношение предшествования терминальных символов, которое не зависит от нетерминальных символов, находящихся между н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1" dur="indefinite" restart="never" nodeType="tmRoot">
          <p:childTnLst>
            <p:seq>
              <p:cTn id="1662" dur="indefinite" nodeType="mainSeq">
                <p:childTnLst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F83D-2D23-4AF8-B4A6-B68A302680C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троение таблицы предшеств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24000" y="4365360"/>
            <a:ext cx="453528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+    ► A*    ►(A    ► A)    ►A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A+     +A*       +(A      +A)      +A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A+      *A*        *(A       *A )     *A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+       (A*       ((A        (A)       (A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+        A)*      A)(         A))      A)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Object 4"/>
          <p:cNvGraphicFramePr/>
          <p:nvPr/>
        </p:nvGraphicFramePr>
        <p:xfrm>
          <a:off x="4500720" y="3284640"/>
          <a:ext cx="13033080" cy="299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284640"/>
                    <a:ext cx="13033080" cy="29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Text Box 5"/>
          <p:cNvSpPr/>
          <p:nvPr/>
        </p:nvSpPr>
        <p:spPr>
          <a:xfrm>
            <a:off x="611280" y="2924280"/>
            <a:ext cx="297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о основ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ец основ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- одна осно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ошиб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250920" y="260280"/>
            <a:ext cx="871380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рамматика арифметических выражен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левосторонней рекурсие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&lt;Выражение&gt;  ::= &lt;Терм&gt;|&lt;Выражение&gt;+&lt;Терм&gt;|&lt;Выражение&gt;- &lt;Терм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&lt;Терм&gt;  ::= &lt;Множитель&gt; | &lt;Терм&gt;* &lt;Множитель&gt; | &lt;Терм&gt; / &lt;Множитель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&lt;Множитель&gt; ::= (&lt;Выражение&gt;) | &lt;Идентификатор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9" dur="indefinite" restart="never" nodeType="tmRoot">
          <p:childTnLst>
            <p:seq>
              <p:cTn id="1700" dur="indefinite" nodeType="mainSeq">
                <p:childTnLst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CC44-7CD2-4147-85A8-A9A15F41F38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 разбора выражения стековым мето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39640" y="764640"/>
            <a:ext cx="800280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Object 4"/>
          <p:cNvGraphicFramePr/>
          <p:nvPr/>
        </p:nvGraphicFramePr>
        <p:xfrm>
          <a:off x="0" y="1557360"/>
          <a:ext cx="9144000" cy="49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57360"/>
                    <a:ext cx="9144000" cy="49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7" dur="indefinite" restart="never" nodeType="tmRoot">
          <p:childTnLst>
            <p:seq>
              <p:cTn id="1758" dur="indefinite" nodeType="mainSeq">
                <p:childTnLst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7F0D-9893-41F9-A9BD-EFC2D8DEE36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08000" y="907920"/>
            <a:ext cx="9036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ать программу, осуществляющую лексический анализ идентификаторов и служебных слов, а также синтаксический анализ сравнений (не более одной операции сравнения вида =, &lt;&gt;, &gt;, &lt;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gt;=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=), выражений с операциями +,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*, / и скобками, операторов условной передачи управления и присваивания в синтаксисе языка Паскаль. Наприм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aaaa&gt;vvvv then j:=hhh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if h then ffff:=hhh+(ppp+yyy)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исание синтаксиса язы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:=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&gt; ; |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сваива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&gt; ::=if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|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сваива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:=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ентифик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=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ж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:=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ентифик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=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ентифик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|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ентифик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&gt;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ентифик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ентифик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&lt;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ентифик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7" dur="indefinite" restart="never" nodeType="tmRoot">
          <p:childTnLst>
            <p:seq>
              <p:cTn id="1768" dur="indefinite" nodeType="mainSeq">
                <p:childTnLst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C7FE-48B9-4286-A527-364E4D2797D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ксический анал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893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кены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_ – идентификатор - операн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@@ – пустой операнд – дополнительный токен, который позволяет при разборе считывать строго по два токена &lt;операнд-оператор&gt;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лужебное слов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служебное слов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служебное слов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_, &lt;_, =_, &lt;&gt;, &gt;=, &lt;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ции сравн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_, -_, *_, /_, (_, )_ – операторы выра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= - служебное слово «присвоить»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_ - конец операт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примера, приведенного в задан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aaaa&gt;vvvv then j:=hhh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if h then ffff:=hhh+(ppp+yyy)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ультат работы сканера должен выглядеть т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@@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if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&gt;</a:t>
            </a:r>
            <a:r>
              <a:rPr b="1" lang="ru-RU" sz="2000" spc="-1" strike="noStrike">
                <a:solidFill>
                  <a:srgbClr val="cc0000"/>
                </a:solidFill>
                <a:latin typeface="Courier New"/>
              </a:rPr>
              <a:t>_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_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th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_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:=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e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@@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if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_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th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_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:=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_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Courier New"/>
              </a:rPr>
              <a:t>*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_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@@ </a:t>
            </a:r>
            <a:r>
              <a:rPr b="1" lang="ru-RU" sz="2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_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_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+_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_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)_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;</a:t>
            </a:r>
            <a:r>
              <a:rPr b="1" lang="ru-RU" sz="2000" spc="-1" strike="noStrike">
                <a:solidFill>
                  <a:srgbClr val="cc0000"/>
                </a:solidFill>
                <a:latin typeface="Courier New"/>
              </a:rPr>
              <a:t>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3" dur="indefinite" restart="never" nodeType="tmRoot">
          <p:childTnLst>
            <p:seq>
              <p:cTn id="1814" dur="indefinite" nodeType="mainSeq">
                <p:childTnLst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7" fill="hold">
                      <p:stCondLst>
                        <p:cond delay="indefinite"/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fill="hold">
                      <p:stCondLst>
                        <p:cond delay="indefinite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fill="hold">
                      <p:stCondLst>
                        <p:cond delay="indefinite"/>
                      </p:stCondLst>
                      <p:childTnLst>
                        <p:par>
                          <p:cTn id="1848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fill="hold">
                      <p:stCondLst>
                        <p:cond delay="indefinite"/>
                      </p:stCondLst>
                      <p:childTnLst>
                        <p:par>
                          <p:cTn id="1860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fill="hold">
                      <p:stCondLst>
                        <p:cond delay="indefinite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3434-510F-4753-ADE6-8DCD2EB80DA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675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1.2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труктура компилирующей программ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5690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интакси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совокупность правил, определяющих допустимые конструкции языка, т. е. его </a:t>
            </a:r>
            <a:r>
              <a:rPr b="0" i="1" lang="ru-RU" sz="2800" spc="-1" strike="noStrike">
                <a:solidFill>
                  <a:srgbClr val="0033cc"/>
                </a:solidFill>
                <a:latin typeface="Arial"/>
              </a:rPr>
              <a:t>форм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еманти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совокупность правил, определяющих логическое соответствие между элементами и значением синтаксически корректных предложений, т. е. </a:t>
            </a:r>
            <a:r>
              <a:rPr b="0" i="1" lang="ru-RU" sz="2800" spc="-1" strike="noStrike">
                <a:solidFill>
                  <a:srgbClr val="0033cc"/>
                </a:solidFill>
                <a:latin typeface="Arial"/>
              </a:rPr>
              <a:t>содерж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язы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C74D-298F-43FB-AAE9-79A8666FD03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блица предшеств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реализации использовано следующее кодировани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начало основ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ередина основ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конец основ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коб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– выход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0 – ошиб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6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640720" cy="31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A7B8-5CBF-420E-B1E6-B193392B3C2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ксический анал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 Strin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aaaa&gt;vvvv then j:=hhhh else if h then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fff:=hhh*(ppp+yy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lugeb slovo 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entify=aa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lugeb simbol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entify=vvv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lugeb slovo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entify=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Sc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@@ifV &gt; V thV :=V el@@ifV thV :=V * @@( V + V 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5" dur="indefinite" restart="never" nodeType="tmRoot">
          <p:childTnLst>
            <p:seq>
              <p:cTn id="1876" dur="indefinite" nodeType="mainSeq">
                <p:childTnLst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fill="hold">
                      <p:stCondLst>
                        <p:cond delay="indefinite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fill="hold">
                      <p:stCondLst>
                        <p:cond delay="indefinite"/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4837-3C1E-48E4-B67E-AF96D960CAE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зультат синтаксического ана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aaaa&gt;vvvv then j:=hhh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if h then ffff:=hhh+(ppp+yy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Sc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@@ifV &gt; V thV :=V el@@ifV thV :=V * @@( V + V 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and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 &gt; 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ав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and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: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/ присваивание в ветви «да» внешнег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and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 + 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ж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and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/ умножение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and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: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/ присваивание в ветви «да» вложенног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and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V thO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оженны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lse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and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L thOpelO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шн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5" dur="indefinite" restart="never" nodeType="tmRoot">
          <p:childTnLst>
            <p:seq>
              <p:cTn id="1926" dur="indefinite" nodeType="mainSeq">
                <p:childTnLst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9" fill="hold">
                      <p:stCondLst>
                        <p:cond delay="indefinite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7" fill="hold">
                      <p:stCondLst>
                        <p:cond delay="indefinite"/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1" fill="hold">
                      <p:stCondLst>
                        <p:cond delay="indefinite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4B25-81CE-4793-AD20-6B11FE9C10A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803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2.6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льская запись. Алгоритм Бауэра-Замельзо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7d"/>
                </a:solidFill>
                <a:latin typeface="Arial"/>
              </a:rPr>
              <a:t>Польская запис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едставляет собой последовательность команд двух тип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идентификатор операнда – выбрать число по имен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заслать его в стек операнд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перация – выбрать два верхних числа из стека операндов, произвести над ними операцию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занести результат в стек операнд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+B*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5" dur="indefinite" restart="never" nodeType="tmRoot">
          <p:childTnLst>
            <p:seq>
              <p:cTn id="1976" dur="indefinite" nodeType="mainSeq">
                <p:childTnLst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E08A-EA05-4BF0-B6EB-B888BCFD383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95280" y="171360"/>
            <a:ext cx="8229600" cy="6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лгоритм Бауэра-Замельзо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87440" y="74124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ение польской записи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если символ – операнд, то вырабатывается команда 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если символ – операция, то выполняются действия согласно таблиц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ции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заслать 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стек операций и читать следующий симво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генерироват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заслать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стек операций и читать следующий симво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удалить верхний символ из стека операций и читать следующий симво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генерироват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повторить с тем же входным симво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4" descr=""/>
          <p:cNvPicPr/>
          <p:nvPr/>
        </p:nvPicPr>
        <p:blipFill>
          <a:blip r:embed="rId1"/>
          <a:stretch/>
        </p:blipFill>
        <p:spPr>
          <a:xfrm>
            <a:off x="4232160" y="1844640"/>
            <a:ext cx="9936360" cy="26956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5" descr=""/>
          <p:cNvPicPr/>
          <p:nvPr/>
        </p:nvPicPr>
        <p:blipFill>
          <a:blip r:embed="rId2"/>
          <a:stretch/>
        </p:blipFill>
        <p:spPr>
          <a:xfrm>
            <a:off x="468360" y="2205000"/>
            <a:ext cx="11665080" cy="230364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6"/>
          <p:cNvSpPr/>
          <p:nvPr/>
        </p:nvSpPr>
        <p:spPr>
          <a:xfrm>
            <a:off x="2249640" y="1789200"/>
            <a:ext cx="2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7"/>
          <p:cNvSpPr/>
          <p:nvPr/>
        </p:nvSpPr>
        <p:spPr>
          <a:xfrm>
            <a:off x="253080" y="3141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7" dur="indefinite" restart="never" nodeType="tmRoot">
          <p:childTnLst>
            <p:seq>
              <p:cTn id="1998" dur="indefinite" nodeType="mainSeq">
                <p:childTnLst>
                  <p:par>
                    <p:cTn id="1999" fill="hold">
                      <p:stCondLst>
                        <p:cond delay="indefinite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7" fill="hold">
                      <p:stCondLst>
                        <p:cond delay="indefinite"/>
                      </p:stCondLst>
                      <p:childTnLst>
                        <p:par>
                          <p:cTn id="2008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1" fill="hold">
                      <p:stCondLst>
                        <p:cond delay="indefinite"/>
                      </p:stCondLst>
                      <p:childTnLst>
                        <p:par>
                          <p:cTn id="2012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5" fill="hold">
                      <p:stCondLst>
                        <p:cond delay="indefinite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3" fill="hold">
                      <p:stCondLst>
                        <p:cond delay="indefinite"/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E590-ED70-4D3B-9E1E-E4152D91C67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роить тройки дл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/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ение польской запис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4" descr=""/>
          <p:cNvPicPr/>
          <p:nvPr/>
        </p:nvPicPr>
        <p:blipFill>
          <a:blip r:embed="rId1"/>
          <a:stretch/>
        </p:blipFill>
        <p:spPr>
          <a:xfrm>
            <a:off x="-1116000" y="1700280"/>
            <a:ext cx="8748720" cy="4632120"/>
          </a:xfrm>
          <a:prstGeom prst="rect">
            <a:avLst/>
          </a:prstGeom>
          <a:ln w="0">
            <a:noFill/>
          </a:ln>
        </p:spPr>
      </p:pic>
      <p:sp>
        <p:nvSpPr>
          <p:cNvPr id="443" name="Text Box 5"/>
          <p:cNvSpPr/>
          <p:nvPr/>
        </p:nvSpPr>
        <p:spPr>
          <a:xfrm>
            <a:off x="1878480" y="6165720"/>
            <a:ext cx="498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ил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*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5" dur="indefinite" restart="never" nodeType="tmRoot">
          <p:childTnLst>
            <p:seq>
              <p:cTn id="2046" dur="indefinite" nodeType="mainSeq">
                <p:childTnLst>
                  <p:par>
                    <p:cTn id="2047" fill="hold">
                      <p:stCondLst>
                        <p:cond delay="indefinite"/>
                      </p:stCondLst>
                      <p:childTnLst>
                        <p:par>
                          <p:cTn id="2048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4744-5A6E-44CD-9CB4-EEEBEEFC166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ение операций польской запис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4" descr=""/>
          <p:cNvPicPr/>
          <p:nvPr/>
        </p:nvPicPr>
        <p:blipFill>
          <a:blip r:embed="rId1"/>
          <a:stretch/>
        </p:blipFill>
        <p:spPr>
          <a:xfrm>
            <a:off x="-181080" y="1700280"/>
            <a:ext cx="9649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9" dur="indefinite" restart="never" nodeType="tmRoot">
          <p:childTnLst>
            <p:seq>
              <p:cTn id="2060" dur="indefinite" nodeType="mainSeq">
                <p:childTnLst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5" fill="hold">
                      <p:stCondLst>
                        <p:cond delay="indefinite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BB47-7FF2-4B8B-9640-7B388AF0FFC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3 Распределение памяти под перемен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9647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1360" indent="-441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татическое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яется в процессе компиляции или загрузки в память (для сегмента неинициированных данных), используется для хранения глобальных переменны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томатическо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выполняется при вызове подпрограмм, используется для локальных переменных, размещаемых в стек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управляемо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выполняется по запросу программиста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, delet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используется для динамических переменных, размещаемых в динамической памя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базированно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также выполняется по запросу программиста, но большими фрагментами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mem, freeme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за размещение переменных отвечает программист.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9" dur="indefinite" restart="never" nodeType="tmRoot">
          <p:childTnLst>
            <p:seq>
              <p:cTn id="2070" dur="indefinite" nodeType="mainSeq">
                <p:childTnLst>
                  <p:par>
                    <p:cTn id="2071" fill="hold">
                      <p:stCondLst>
                        <p:cond delay="indefinite"/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5" fill="hold">
                      <p:stCondLst>
                        <p:cond delay="indefinite"/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fill="hold">
                      <p:stCondLst>
                        <p:cond delay="indefinite"/>
                      </p:stCondLst>
                      <p:childTnLst>
                        <p:par>
                          <p:cTn id="2084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DD23-BBBF-43A5-B4FB-73D221DBD04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4 Генерация код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нерация кодов – процесс замены распознанных конструкций на соответствующий заранее заготовленный фрагме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«заготовки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    AX, &lt;Op1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   AX, &lt;Op2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&l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gt;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ый подставляемый фрагмент автоматически настраивается по данным, находящимся в таблице разб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енная программа очень далека от оптимальной, поэтому осуществляется ее автоматическая оптимизация еще на уровне табл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7" dur="indefinite" restart="never" nodeType="tmRoot">
          <p:childTnLst>
            <p:seq>
              <p:cTn id="2088" dur="indefinite" nodeType="mainSeq">
                <p:childTnLst>
                  <p:par>
                    <p:cTn id="2089" fill="hold">
                      <p:stCondLst>
                        <p:cond delay="indefinite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3" fill="hold">
                      <p:stCondLst>
                        <p:cond delay="indefinite"/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fill="hold">
                      <p:stCondLst>
                        <p:cond delay="indefinite"/>
                      </p:stCondLst>
                      <p:childTnLst>
                        <p:par>
                          <p:cTn id="2102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3" fill="hold">
                      <p:stCondLst>
                        <p:cond delay="indefinite"/>
                      </p:stCondLst>
                      <p:childTnLst>
                        <p:par>
                          <p:cTn id="2114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619D-B206-48CF-90B0-809153EEF34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тимизация к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893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ются два критерия эффективности результирующей программы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2714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рем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ения программ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2714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ъем памя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еобходимый для выполнения програм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бщем случае задача построения оптимального кода программы алгоритмически неразрешима. Основная оптимизация программы должна производится программис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зличают две группы метод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2714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ашинно-независима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тимизация включ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исключение повторных вычислений одних и тех же операнд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выполнение операций над константами во время трансля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вынесение из циклов вычисления величин, не зависящих от параметров цикл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упрощение сложных логических выражений и т. п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27144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ашинно-зависима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тимизация включ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исключение лишних передач данных типа «память-регистр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выб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ее эффективных команд т. 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998A-BABC-4709-B796-764B27071C4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а процесса компиляц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692360" y="1052640"/>
            <a:ext cx="575928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ксический анал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1692360" y="2205000"/>
            <a:ext cx="575928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нтаксический анали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1692360" y="3357720"/>
            <a:ext cx="575928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мантический анали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1692360" y="4581360"/>
            <a:ext cx="575928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пределение памя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1692360" y="5805360"/>
            <a:ext cx="575928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нерация и оптимизация объектного ко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8"/>
          <p:cNvSpPr/>
          <p:nvPr/>
        </p:nvSpPr>
        <p:spPr>
          <a:xfrm>
            <a:off x="4572000" y="1628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9"/>
          <p:cNvSpPr/>
          <p:nvPr/>
        </p:nvSpPr>
        <p:spPr>
          <a:xfrm>
            <a:off x="4572000" y="278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0"/>
          <p:cNvSpPr/>
          <p:nvPr/>
        </p:nvSpPr>
        <p:spPr>
          <a:xfrm>
            <a:off x="4572000" y="393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1"/>
          <p:cNvSpPr/>
          <p:nvPr/>
        </p:nvSpPr>
        <p:spPr>
          <a:xfrm>
            <a:off x="4572000" y="5157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7213-B2B8-4639-95C9-D29E4E0FB55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шинно-независимая оптимиз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Удаление недостижимого к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а компилятора найти и исключить код, на который не передается управл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(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1;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1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2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7" dur="indefinite" restart="never" nodeType="tmRoot">
          <p:childTnLst>
            <p:seq>
              <p:cTn id="2118" dur="indefinite" nodeType="mainSeq">
                <p:childTnLst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fill="hold">
                      <p:stCondLst>
                        <p:cond delay="indefinite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1" fill="hold">
                      <p:stCondLst>
                        <p:cond delay="indefinite"/>
                      </p:stCondLst>
                      <p:childTnLst>
                        <p:par>
                          <p:cTn id="2132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fill="hold">
                      <p:stCondLst>
                        <p:cond delay="indefinite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B473-535E-4439-91FD-8EE6A80D78E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шинно-независимая оптимиз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Оптимизация линейных участков програм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овременных системах программирования профилировщик на основе результатов запуска программы выдаёт информацию о том, на какие её линейные участки приходится основное время выполнения. Для этих фрагментов выполня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даление бесполезных присваиван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= b * c; d = b + c; a = d * c; 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d = b + c;  a = d *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ако, в следующем примере эта операция уже не бесполез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 = &amp; a;  a = b * c;  d = * p + c;  a = d *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ключение избыточных вычислен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 = d + b * c;  a = d + b * c;  c = d + b * c;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 = b * c;  d = d + t;  a = d + t;  c = 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ертка объектного ко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выполнение во время компиляции тех операций исходной программы, для которых значения операндов уже известн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; j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 +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3; j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1" dur="indefinite" restart="never" nodeType="tmRoot">
          <p:childTnLst>
            <p:seq>
              <p:cTn id="2152" dur="indefinite" nodeType="mainSeq">
                <p:childTnLst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1" fill="hold">
                      <p:stCondLst>
                        <p:cond delay="indefinite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5" fill="hold">
                      <p:stCondLst>
                        <p:cond delay="indefinite"/>
                      </p:stCondLst>
                      <p:childTnLst>
                        <p:par>
                          <p:cTn id="2166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fill="hold">
                      <p:stCondLst>
                        <p:cond delay="indefinite"/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7" fill="hold">
                      <p:stCondLst>
                        <p:cond delay="indefinite"/>
                      </p:stCondLst>
                      <p:childTnLst>
                        <p:par>
                          <p:cTn id="2178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9" fill="hold">
                      <p:stCondLst>
                        <p:cond delay="indefinite"/>
                      </p:stCondLst>
                      <p:childTnLst>
                        <p:par>
                          <p:cTn id="2190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7956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шинно-независимая оптим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) Перестановка операци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для дальнейшей свертки или оптимизации вычислени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= 2 * b * 3 * c;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= (2 * 3) * (b * 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= (b +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) + (d + e);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= (b + (c + (d + e) )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) Арифметические преобразова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на основе алгебраических и логических тождест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= b * c + b * d;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= b * (c + 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* 1 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a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a * 0 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0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+ 0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a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 Оптимизация вычисления логических выра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||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||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||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ест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!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||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) ||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всегд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р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ru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ет быть побочный эффек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шинно-независимая оптим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Подстановка кода функции вместо ее вызова в объектный к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т метод, как правило, применим к простым функциям и процедурам, вызываемым непосредственно по адресу, без применения косвенной адресации через таблиц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ime Type Informatio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которые компиляторы допускают применять метод только к функциям, содержащим последовательные вычисления без цикл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зык С++ позволяет явно указать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lin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для каких функций желательно использоват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lin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одстанов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748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шинно-независимая оптим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Оптимизация цик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Вынесение инвариантных вычислений из цик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=1; i&lt;=10; i++)a[i]=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b*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*a[i]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 = b*c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=1; i&lt;=10; i++) a[i]=d*a[i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Замена операций с индуктивными (образующими арифметическую прогрессию) переменными (как правило, умножения на сложен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=1; i&lt;=N; i++) a[i]=i*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 = 10; i = 1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i&lt;=N) {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=t;  t=t+10;  i++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10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=1; i&lt;=N; i++)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r=r+f(s); s=s+10; }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=10; m=N*10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s &lt;= m) {r= r+f(s); s=s+10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избавились от одной индуктивной переменно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шинно-независимая оптимизац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ияние цикл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=1; i&lt;=N; i++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j= 1; j&lt;= M; j++) a[i][j] = 0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k = N * M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=1; i&lt;=k; i++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 = 0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ль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ктн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ертывание цикл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можно выполнить для циклов, кратность выполнения которых известна на этапе компиляци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=1; i&lt;=3; i++)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=i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1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1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2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2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3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67564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шинно-зависимая оптим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шинно-зависимые преобразования результирующей объектной программы зависят от архитектуры вычислительной системы, на которой будет выполняться результирующая программа. При этом может учитываться объем кэш-памяти, методы организации работы процессора …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и преобразования, как правило, являются "ноу-хау", и именно они позволяют существенно повысить эффективность результирующего к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714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пределение регистров процесс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ие регистров общего назначения и специальных регистров (аккумулятор, счетчик цикла, базовый указатель) для хранения значения операндов и результатов вычислений позволяет увеличить быстродействие програм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ступных регистров всегда ограниченное количество, поэтому перед компилятором встает вопрос их оптимального распределения и использования при выполнении вычисл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748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шинно-зависимая оптим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Оптимизация передачи параметров в процедуры и фун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чно параметры процедур и функций передаются через стек. При этом всякий раз при вызове процедуры или функции компилятор  создает объектный код для размещения ее фактических параметров в стеке, а при выходе из нее - код для освобождения соответствующей памя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но уменьшить код и время выполнения  результирующей программы за счет оптимизации передачи параметров в процедуру или функцию, передавая их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рез регист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цесс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изация данного оптимизирующего преобразования зависит от количества доступных регистров процессора в целевой вычислительной системе и от используемого компилятором алгоритма распределения регист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достатки мет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птимизированные таким образом процедуры и функции не могут бы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ы в качеств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иблиотечн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.к. методы передачи парамет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ез регистры не стандартизованы и зависят от реализации компилято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этот метод не может быть использован, если где-либо в функции требу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ть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ерации с адрес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арамет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зыки Си и С++ позволяют явно указать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какие параметры и локальные переменные желательно разместить в регист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82440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шинно-зависимая оптим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Оптимизация кода для процессоров, допускающих распараллеливание вычисл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озможности параллельного выполнения нескольких операций компилятор должен порождать объектный код таким образом, чтобы в нем было максимально возможное количество соседних операций, все операнды которых не зависят друг от друг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этого надо найти оптимальный порядок выполнения операций для каждого оператора (переставить и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одного потока обработки данных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((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двух потоков обработки данных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 + (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трех потоков обработки данных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 + (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DF5C-D34A-4E15-B72C-3E874D00071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7" dur="indefinite" restart="never" nodeType="tmRoot">
          <p:childTnLst>
            <p:seq>
              <p:cTn id="2198" dur="indefinite" nodeType="mainSeq">
                <p:childTnLst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BEF5-D82F-4424-A4F4-255FEA17C82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ксический анализ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9152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Sum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gt;5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p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3419640" y="981000"/>
            <a:ext cx="215892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кс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684360" y="1700280"/>
            <a:ext cx="360036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рминальные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4788000" y="1700280"/>
            <a:ext cx="388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зовые пон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7"/>
          <p:cNvSpPr/>
          <p:nvPr/>
        </p:nvSpPr>
        <p:spPr>
          <a:xfrm flipV="1">
            <a:off x="2340000" y="1413000"/>
            <a:ext cx="17287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 flipH="1" flipV="1">
            <a:off x="4859280" y="1413000"/>
            <a:ext cx="18734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2924280"/>
          <a:ext cx="8351640" cy="3744720"/>
        </p:xfrm>
        <a:graphic>
          <a:graphicData uri="http://schemas.openxmlformats.org/drawingml/2006/table">
            <a:tbl>
              <a:tblPr/>
              <a:tblGrid>
                <a:gridCol w="1366920"/>
                <a:gridCol w="2305080"/>
                <a:gridCol w="1368360"/>
                <a:gridCol w="331128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с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ыл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жебное сло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«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ентифика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 в таблице идентиф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жебный симв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«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ер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 в таблице литера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жебное сло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«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ентифика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 в таблице идентиф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жебный симв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«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=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ер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 в таблице литера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жебный симв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«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A1A1-D70D-4A89-8898-C39EB995817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нтаксический анали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1413000"/>
          <a:ext cx="4043520" cy="5040360"/>
        </p:xfrm>
        <a:graphic>
          <a:graphicData uri="http://schemas.openxmlformats.org/drawingml/2006/table">
            <a:tbl>
              <a:tblPr/>
              <a:tblGrid>
                <a:gridCol w="1019160"/>
                <a:gridCol w="574560"/>
                <a:gridCol w="1368720"/>
                <a:gridCol w="1081080"/>
              </a:tblGrid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с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ыл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: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AutoShape 60"/>
          <p:cNvSpPr/>
          <p:nvPr/>
        </p:nvSpPr>
        <p:spPr>
          <a:xfrm>
            <a:off x="4572000" y="2637000"/>
            <a:ext cx="216000" cy="129672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6720"/>
              <a:gd name="textAreaBottom" fmla="*/ 1263240 h 12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13"/>
                </a:lnTo>
                <a:cubicBezTo>
                  <a:pt x="10800" y="9913"/>
                  <a:pt x="16200" y="10813"/>
                  <a:pt x="21600" y="10813"/>
                </a:cubicBezTo>
                <a:cubicBezTo>
                  <a:pt x="16200" y="10813"/>
                  <a:pt x="10800" y="11713"/>
                  <a:pt x="10800" y="12613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61"/>
          <p:cNvSpPr/>
          <p:nvPr/>
        </p:nvSpPr>
        <p:spPr>
          <a:xfrm>
            <a:off x="4572000" y="4437000"/>
            <a:ext cx="216000" cy="129708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13"/>
                </a:lnTo>
                <a:cubicBezTo>
                  <a:pt x="10800" y="9913"/>
                  <a:pt x="16200" y="10813"/>
                  <a:pt x="21600" y="10813"/>
                </a:cubicBezTo>
                <a:cubicBezTo>
                  <a:pt x="16200" y="10813"/>
                  <a:pt x="10800" y="11713"/>
                  <a:pt x="10800" y="12613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62"/>
          <p:cNvSpPr/>
          <p:nvPr/>
        </p:nvSpPr>
        <p:spPr>
          <a:xfrm>
            <a:off x="6732720" y="2205000"/>
            <a:ext cx="433080" cy="4103640"/>
          </a:xfrm>
          <a:custGeom>
            <a:avLst/>
            <a:gdLst>
              <a:gd name="textAreaLeft" fmla="*/ 0 w 433080"/>
              <a:gd name="textAreaRight" fmla="*/ 156240 w 433080"/>
              <a:gd name="textAreaTop" fmla="*/ 106920 h 4103640"/>
              <a:gd name="textAreaBottom" fmla="*/ 3996720 h 410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13"/>
                </a:lnTo>
                <a:cubicBezTo>
                  <a:pt x="10800" y="9913"/>
                  <a:pt x="16200" y="10813"/>
                  <a:pt x="21600" y="10813"/>
                </a:cubicBezTo>
                <a:cubicBezTo>
                  <a:pt x="16200" y="10813"/>
                  <a:pt x="10800" y="11713"/>
                  <a:pt x="10800" y="12613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3"/>
          <p:cNvSpPr/>
          <p:nvPr/>
        </p:nvSpPr>
        <p:spPr>
          <a:xfrm>
            <a:off x="5079600" y="2924280"/>
            <a:ext cx="13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г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ра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4"/>
          <p:cNvSpPr/>
          <p:nvPr/>
        </p:nvSpPr>
        <p:spPr>
          <a:xfrm>
            <a:off x="5079600" y="48690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5"/>
          <p:cNvSpPr/>
          <p:nvPr/>
        </p:nvSpPr>
        <p:spPr>
          <a:xfrm>
            <a:off x="7308720" y="386064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ов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6"/>
          <p:cNvSpPr/>
          <p:nvPr/>
        </p:nvSpPr>
        <p:spPr>
          <a:xfrm>
            <a:off x="1330200" y="882720"/>
            <a:ext cx="233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блица токе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14FF-C9BA-4F3B-BA05-CB157D6D129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86788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2 Формальные грамматики и распознаватели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2.1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Формальный язык и формальная граммати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фави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епустое конечное множество символов, используе-мых для записи предложений язы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 {0,1,2,3,4,5,6,7,8,9,+,-}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о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любая последовательность символов алфави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жество строк, включая пустую, составленных из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жество строк за исключением пустой, составленных из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*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альным языко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алфавит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зывают произвольное подмножество множеств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зык можно задать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еречислени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авилами продук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6T12:16:54Z</dcterms:created>
  <dc:creator>Ivanova</dc:creator>
  <dc:description/>
  <dc:language>en-US</dc:language>
  <cp:lastModifiedBy>Иванова Галина Сергеевна</cp:lastModifiedBy>
  <dcterms:modified xsi:type="dcterms:W3CDTF">2018-01-23T15:43:58Z</dcterms:modified>
  <cp:revision>106</cp:revision>
  <dc:subject/>
  <dc:title>Глава 6  Основы конструирования компиляторов</dc:title>
</cp:coreProperties>
</file>